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FF6-4BD1-4A0B-ABE3-26FA5504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895-DA89-42A9-9435-4F4E336E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82B-FD48-412C-BE99-4AF1D3AA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3A2-C117-4334-A442-75CD9455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35BE-1E90-4849-9317-56A5A036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2C5F-69BB-4D8D-8EBD-0459A81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F38C-8621-4158-971C-755C3915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EA8-8914-4E31-B667-2A5FE03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27E8-A48A-4216-AAB8-29C67D8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7A6-0F0D-4821-A85E-1B9818F9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2FF-28DD-4258-9F62-BDF7FDF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1B3-72A0-494C-A13E-BCDE528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C417-AEED-4A03-9D10-0C0F121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142D-F6D9-4252-BA25-DF26E5D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F5C-7CBA-43BE-A095-24AF920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7496-AC9E-4D51-AC38-930F8F13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91B-824B-4B3D-A405-5E1BDE27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99E0-C19B-455A-A263-DEECAF54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C2CD-6B7B-48E3-92B7-4D2D3C9E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D87E-6D07-46CE-A942-8F8458D2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6EDF-61E6-45DA-A5BB-0F94536A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4B5D-6561-4FD0-9519-0B3F7F9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D2F-122A-4BCA-8CB9-750F4BBF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A150-62FA-4A65-AC54-C81B5D2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7619-6505-4D2C-8D0D-C96B9E2C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72B7-B260-4D31-9E82-9D0D198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1D11-ADEE-4104-9904-6B32F1C3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7EE9-573B-49E1-9E9C-BCB8BA3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5041-0E78-494D-8CC9-29B0A48F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4B1A-436B-4158-8A5C-4441FC31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6957-1091-47DB-95C4-641E367F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4E83E-F63D-40FC-956D-B7F8F7B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BBF5-B6CD-4CBB-A4FD-6CFF8D5E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B35-871C-463F-B7AC-AD9E975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6A0A-400E-4A11-9349-6BF3F3FA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07B3-82FB-4B9E-BA7F-155C503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4A1C-79BE-4D6D-89C8-58CA5890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0A69-9731-4033-A8DB-4EEEC6F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4FC5-C2F4-4034-8F88-C7B0BF0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DAF0-7D8E-4EB8-86E1-B006DAF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4133D-0983-4DDF-8E9B-DBB854C0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6A11-94F6-454B-A3AB-97E81625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DF03-3AFE-40AA-9C85-00AE588D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012-0047-4CFC-B7A6-5DB716A9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5D9-956B-4636-B098-0F178E85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C2A-E0D9-4FD6-90EF-E4A1FEE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CA8-022A-42D9-B5A8-110B09E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2E2-2C30-4E3A-BA4A-328F394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1D6A-B673-4ADA-976C-DD081B634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EA24-0378-4094-87E8-43AED6D64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6C5-BFDC-49A2-8A79-1A55C8C939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8380-23E2-45C2-800E-606E041F7B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900000" y="5589720"/>
            <a:ext cx="8066160" cy="991440"/>
            <a:chOff x="900000" y="5589720"/>
            <a:chExt cx="8066160" cy="991440"/>
          </a:xfrm>
        </p:grpSpPr>
        <p:sp>
          <p:nvSpPr>
            <p:cNvPr id="177" name=""/>
            <p:cNvSpPr txBox="1"/>
            <p:nvPr/>
          </p:nvSpPr>
          <p:spPr>
            <a:xfrm>
              <a:off x="900000" y="5589720"/>
              <a:ext cx="8066160" cy="83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3366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Савченко Е.М., учитель математики,  </a:t>
              </a:r>
              <a:endParaRPr b="0" lang="en-US" sz="1800" spc="1" strike="noStrike">
                <a:ln w="3240">
                  <a:solidFill>
                    <a:srgbClr val="003366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3366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МОУ гимназия №      , г. Полярные Зори, Мурманской обл. </a:t>
              </a:r>
              <a:endParaRPr b="0" lang="en-US" sz="1800" spc="1" strike="noStrike">
                <a:ln w="3240">
                  <a:solidFill>
                    <a:srgbClr val="003366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 rot="21475800">
              <a:off x="3223440" y="5896800"/>
              <a:ext cx="600840" cy="6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 txBox="1"/>
          <p:nvPr/>
        </p:nvSpPr>
        <p:spPr>
          <a:xfrm>
            <a:off x="1469880" y="2819520"/>
            <a:ext cx="691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1c1c1c"/>
                  </a:solidFill>
                  <a:miter/>
                </a:ln>
                <a:gradFill rotWithShape="0">
                  <a:gsLst>
                    <a:gs pos="0">
                      <a:srgbClr val="003d7a"/>
                    </a:gs>
                    <a:gs pos="100000">
                      <a:srgbClr val="0984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504" dir="3183908" blurRad="0" rotWithShape="0">
                    <a:srgbClr val="0051a2">
                      <a:alpha val="50000"/>
                    </a:srgbClr>
                  </a:outerShdw>
                </a:effectLst>
                <a:latin typeface="Times New Roman"/>
              </a:rPr>
              <a:t>Готовимся к ЕГЭ</a:t>
            </a:r>
            <a:endParaRPr b="1" lang="en-US" sz="6600" spc="1" strike="noStrike">
              <a:ln w="3240">
                <a:solidFill>
                  <a:srgbClr val="1c1c1c"/>
                </a:solidFill>
                <a:miter/>
              </a:ln>
              <a:gradFill rotWithShape="0">
                <a:gsLst>
                  <a:gs pos="0">
                    <a:srgbClr val="003d7a"/>
                  </a:gs>
                  <a:gs pos="100000">
                    <a:srgbClr val="0984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63504" dir="3183908" blurRad="0" rotWithShape="0">
                  <a:srgbClr val="0051a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1067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1081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104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3520" y="60948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й точке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4; 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наименьшее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1134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1138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1139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1143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1144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1155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1160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7086240" y="441972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–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1523880"/>
            <a:ext cx="297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4; 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бывает, значит, наименьшее значение на данном отрезке функция будет принимать в конце отрезка точке х=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4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1168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1182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205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33520" y="60948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й точке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;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наибольшее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1235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1239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1244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1245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1256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1261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7086600" y="4419720"/>
            <a:ext cx="12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9920" y="1523880"/>
            <a:ext cx="297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0;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растает, значит, наибольшее значение на данном отрезке функция будет принимать в конце отрезка точке х=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1269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1283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306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3520" y="60948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й точке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наибольшее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1336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1340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1341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1345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1346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8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1357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1362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7086600" y="4419720"/>
            <a:ext cx="12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019920" y="152388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значение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т принимать в точке максимума х=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918960" y="4694760"/>
            <a:ext cx="853920" cy="1173600"/>
            <a:chOff x="3918960" y="4694760"/>
            <a:chExt cx="853920" cy="1173600"/>
          </a:xfrm>
        </p:grpSpPr>
        <p:sp>
          <p:nvSpPr>
            <p:cNvPr id="1369" name=""/>
            <p:cNvSpPr/>
            <p:nvPr/>
          </p:nvSpPr>
          <p:spPr>
            <a:xfrm>
              <a:off x="3918960" y="504324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 txBox="1"/>
            <p:nvPr/>
          </p:nvSpPr>
          <p:spPr>
            <a:xfrm rot="19933200">
              <a:off x="4041720" y="480024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4143960" y="2781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227640" y="42688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2    3    4    5 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067280" y="1749600"/>
            <a:ext cx="3960720" cy="3676320"/>
            <a:chOff x="4067280" y="1749600"/>
            <a:chExt cx="3960720" cy="3676320"/>
          </a:xfrm>
        </p:grpSpPr>
        <p:grpSp>
          <p:nvGrpSpPr>
            <p:cNvPr id="1374" name=""/>
            <p:cNvGrpSpPr/>
            <p:nvPr/>
          </p:nvGrpSpPr>
          <p:grpSpPr>
            <a:xfrm>
              <a:off x="4067280" y="1749600"/>
              <a:ext cx="3960720" cy="3676320"/>
              <a:chOff x="4067280" y="1749600"/>
              <a:chExt cx="3960720" cy="3676320"/>
            </a:xfrm>
          </p:grpSpPr>
          <p:sp>
            <p:nvSpPr>
              <p:cNvPr id="1375" name=""/>
              <p:cNvSpPr/>
              <p:nvPr/>
            </p:nvSpPr>
            <p:spPr>
              <a:xfrm>
                <a:off x="4067280" y="4268520"/>
                <a:ext cx="396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67280" y="196056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067280" y="54259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5672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067280" y="23446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45788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4488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23548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62284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79140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17876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6936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067280" y="273024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067280" y="31147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067280" y="35002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067280" y="38862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67280" y="46558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067280" y="50418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6013440" y="1749600"/>
                <a:ext cx="0" cy="36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 flipV="1">
              <a:off x="4067280" y="1892160"/>
              <a:ext cx="0" cy="352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3924360" y="426888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   -3  -2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00800" y="3500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235480" y="2344680"/>
            <a:ext cx="387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68360" y="515772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68360" y="4076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68360" y="1989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6836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63640" y="2852640"/>
            <a:ext cx="2160720" cy="576360"/>
          </a:xfrm>
          <a:prstGeom prst="wedgeEllipseCallout">
            <a:avLst>
              <a:gd name="adj1" fmla="val -73439"/>
              <a:gd name="adj2" fmla="val 6707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692360" y="1916280"/>
            <a:ext cx="2016000" cy="647640"/>
          </a:xfrm>
          <a:prstGeom prst="wedgeEllipseCallout">
            <a:avLst>
              <a:gd name="adj1" fmla="val -73935"/>
              <a:gd name="adj2" fmla="val 3897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692360" y="3789360"/>
            <a:ext cx="2232000" cy="647640"/>
          </a:xfrm>
          <a:prstGeom prst="wedgeEllipseCallout">
            <a:avLst>
              <a:gd name="adj1" fmla="val -70837"/>
              <a:gd name="adj2" fmla="val 5882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973440" y="2035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828000" y="31417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828000" y="4076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979920" y="522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" action="ppaction://hlinkshowjump?jump=nextslide"/>
          </p:cNvPr>
          <p:cNvSpPr/>
          <p:nvPr/>
        </p:nvSpPr>
        <p:spPr>
          <a:xfrm>
            <a:off x="8101080" y="5805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492360" y="5661000"/>
            <a:ext cx="4610160" cy="891720"/>
            <a:chOff x="3492360" y="5661000"/>
            <a:chExt cx="4610160" cy="891720"/>
          </a:xfrm>
        </p:grpSpPr>
        <p:sp>
          <p:nvSpPr>
            <p:cNvPr id="1412" name=""/>
            <p:cNvSpPr/>
            <p:nvPr/>
          </p:nvSpPr>
          <p:spPr>
            <a:xfrm>
              <a:off x="3581280" y="6093000"/>
              <a:ext cx="95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92360" y="566100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52920" y="6093000"/>
              <a:ext cx="4449600" cy="2880"/>
            </a:xfrm>
            <a:custGeom>
              <a:avLst/>
              <a:gdLst/>
              <a:ahLst/>
              <a:rect l="l" t="t" r="r" b="b"/>
              <a:pathLst>
                <a:path w="2803" h="2">
                  <a:moveTo>
                    <a:pt x="0" y="0"/>
                  </a:moveTo>
                  <a:lnTo>
                    <a:pt x="2803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"/>
          <p:cNvSpPr/>
          <p:nvPr/>
        </p:nvSpPr>
        <p:spPr>
          <a:xfrm flipV="1">
            <a:off x="4788000" y="6237360"/>
            <a:ext cx="136836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457880" y="3220920"/>
            <a:ext cx="2743200" cy="1440000"/>
          </a:xfrm>
          <a:custGeom>
            <a:avLst/>
            <a:gdLst/>
            <a:ahLst/>
            <a:rect l="l" t="t" r="r" b="b"/>
            <a:pathLst>
              <a:path w="1728" h="907">
                <a:moveTo>
                  <a:pt x="0" y="179"/>
                </a:moveTo>
                <a:cubicBezTo>
                  <a:pt x="21" y="232"/>
                  <a:pt x="46" y="528"/>
                  <a:pt x="128" y="499"/>
                </a:cubicBezTo>
                <a:cubicBezTo>
                  <a:pt x="210" y="470"/>
                  <a:pt x="365" y="0"/>
                  <a:pt x="496" y="3"/>
                </a:cubicBezTo>
                <a:cubicBezTo>
                  <a:pt x="627" y="6"/>
                  <a:pt x="789" y="406"/>
                  <a:pt x="912" y="515"/>
                </a:cubicBezTo>
                <a:cubicBezTo>
                  <a:pt x="1035" y="624"/>
                  <a:pt x="1096" y="594"/>
                  <a:pt x="1232" y="659"/>
                </a:cubicBezTo>
                <a:cubicBezTo>
                  <a:pt x="1368" y="724"/>
                  <a:pt x="1625" y="855"/>
                  <a:pt x="1728" y="907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95280" y="11592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а  на промежутке (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На рисунке изображен график ее производной. Найдите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оторой функция 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нимает наибольшее знач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148360" y="56466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332000" y="639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619280" y="5013360"/>
            <a:ext cx="2016000" cy="504720"/>
          </a:xfrm>
          <a:prstGeom prst="wedgeEllipseCallout">
            <a:avLst>
              <a:gd name="adj1" fmla="val -64407"/>
              <a:gd name="adj2" fmla="val 9245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427640" y="3429000"/>
            <a:ext cx="712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148520" y="4605480"/>
            <a:ext cx="98280" cy="95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327640" y="1268280"/>
            <a:ext cx="3816360" cy="1873440"/>
          </a:xfrm>
          <a:prstGeom prst="wedgeEllipseCallout">
            <a:avLst>
              <a:gd name="adj1" fmla="val -16305"/>
              <a:gd name="adj2" fmla="val 100763"/>
            </a:avLst>
          </a:prstGeom>
          <a:gradFill rotWithShape="0">
            <a:gsLst>
              <a:gs pos="0">
                <a:srgbClr val="00ffcc">
                  <a:alpha val="64313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00ffcc">
                  <a:alpha val="64313"/>
                </a:srgbClr>
              </a:gs>
            </a:gsLst>
            <a:lin ang="8100000"/>
          </a:gra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точке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т наибольше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426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176520" y="5284440"/>
            <a:ext cx="853920" cy="1025280"/>
            <a:chOff x="6176520" y="5284440"/>
            <a:chExt cx="853920" cy="1025280"/>
          </a:xfrm>
        </p:grpSpPr>
        <p:sp>
          <p:nvSpPr>
            <p:cNvPr id="1435" name=""/>
            <p:cNvSpPr/>
            <p:nvPr/>
          </p:nvSpPr>
          <p:spPr>
            <a:xfrm>
              <a:off x="6176520" y="54846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 txBox="1"/>
            <p:nvPr/>
          </p:nvSpPr>
          <p:spPr>
            <a:xfrm rot="19933200">
              <a:off x="6337440" y="5381640"/>
              <a:ext cx="504720" cy="35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191120" y="6029280"/>
            <a:ext cx="503280" cy="497880"/>
            <a:chOff x="4191120" y="6029280"/>
            <a:chExt cx="503280" cy="497880"/>
          </a:xfrm>
        </p:grpSpPr>
        <p:sp>
          <p:nvSpPr>
            <p:cNvPr id="1438" name=""/>
            <p:cNvSpPr/>
            <p:nvPr/>
          </p:nvSpPr>
          <p:spPr>
            <a:xfrm>
              <a:off x="4435560" y="6029280"/>
              <a:ext cx="86040" cy="9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91120" y="6067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4457880" y="3606840"/>
            <a:ext cx="2720880" cy="2511000"/>
            <a:chOff x="4457880" y="3606840"/>
            <a:chExt cx="2720880" cy="2511000"/>
          </a:xfrm>
        </p:grpSpPr>
        <p:sp>
          <p:nvSpPr>
            <p:cNvPr id="1441" name=""/>
            <p:cNvSpPr/>
            <p:nvPr/>
          </p:nvSpPr>
          <p:spPr>
            <a:xfrm>
              <a:off x="6413400" y="4292280"/>
              <a:ext cx="1800" cy="1815840"/>
            </a:xfrm>
            <a:custGeom>
              <a:avLst/>
              <a:gdLst/>
              <a:ahLst/>
              <a:rect l="l" t="t" r="r" b="b"/>
              <a:pathLst>
                <a:path w="1" h="1144">
                  <a:moveTo>
                    <a:pt x="0" y="0"/>
                  </a:moveTo>
                  <a:lnTo>
                    <a:pt x="0" y="1144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76960" y="4302000"/>
              <a:ext cx="1800" cy="1815840"/>
            </a:xfrm>
            <a:custGeom>
              <a:avLst/>
              <a:gdLst/>
              <a:ahLst/>
              <a:rect l="l" t="t" r="r" b="b"/>
              <a:pathLst>
                <a:path w="1" h="1144">
                  <a:moveTo>
                    <a:pt x="0" y="0"/>
                  </a:moveTo>
                  <a:lnTo>
                    <a:pt x="0" y="1144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57880" y="3606840"/>
              <a:ext cx="17280" cy="2384280"/>
            </a:xfrm>
            <a:custGeom>
              <a:avLst/>
              <a:gdLst/>
              <a:ahLst/>
              <a:rect l="l" t="t" r="r" b="b"/>
              <a:pathLst>
                <a:path w="11" h="1502">
                  <a:moveTo>
                    <a:pt x="0" y="0"/>
                  </a:moveTo>
                  <a:lnTo>
                    <a:pt x="11" y="1502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6354720" y="4238640"/>
            <a:ext cx="10656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553080" y="6210360"/>
            <a:ext cx="584280" cy="380880"/>
          </a:xfrm>
          <a:custGeom>
            <a:avLst/>
            <a:gdLst/>
            <a:ahLst/>
            <a:rect l="l" t="t" r="r" b="b"/>
            <a:pathLst>
              <a:path w="368" h="240">
                <a:moveTo>
                  <a:pt x="0" y="0"/>
                </a:moveTo>
                <a:lnTo>
                  <a:pt x="368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254640" y="6064200"/>
            <a:ext cx="503280" cy="534960"/>
            <a:chOff x="6254640" y="6064200"/>
            <a:chExt cx="503280" cy="534960"/>
          </a:xfrm>
        </p:grpSpPr>
        <p:sp>
          <p:nvSpPr>
            <p:cNvPr id="1447" name=""/>
            <p:cNvSpPr/>
            <p:nvPr/>
          </p:nvSpPr>
          <p:spPr>
            <a:xfrm>
              <a:off x="6397560" y="606420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54640" y="607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6600960" y="56116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7034040" y="6041880"/>
            <a:ext cx="503280" cy="497880"/>
            <a:chOff x="7034040" y="6041880"/>
            <a:chExt cx="503280" cy="497880"/>
          </a:xfrm>
        </p:grpSpPr>
        <p:sp>
          <p:nvSpPr>
            <p:cNvPr id="1451" name=""/>
            <p:cNvSpPr/>
            <p:nvPr/>
          </p:nvSpPr>
          <p:spPr>
            <a:xfrm>
              <a:off x="7134120" y="6041880"/>
              <a:ext cx="85680" cy="9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4040" y="6080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399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402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402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40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40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400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400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7528680" y="225252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227640" y="42688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2    3    4    5 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67280" y="1749600"/>
            <a:ext cx="3960720" cy="3676320"/>
            <a:chOff x="4067280" y="1749600"/>
            <a:chExt cx="3960720" cy="3676320"/>
          </a:xfrm>
        </p:grpSpPr>
        <p:grpSp>
          <p:nvGrpSpPr>
            <p:cNvPr id="1456" name=""/>
            <p:cNvGrpSpPr/>
            <p:nvPr/>
          </p:nvGrpSpPr>
          <p:grpSpPr>
            <a:xfrm>
              <a:off x="4067280" y="1749600"/>
              <a:ext cx="3960720" cy="3676320"/>
              <a:chOff x="4067280" y="1749600"/>
              <a:chExt cx="3960720" cy="3676320"/>
            </a:xfrm>
          </p:grpSpPr>
          <p:sp>
            <p:nvSpPr>
              <p:cNvPr id="1457" name=""/>
              <p:cNvSpPr/>
              <p:nvPr/>
            </p:nvSpPr>
            <p:spPr>
              <a:xfrm>
                <a:off x="4067280" y="4268520"/>
                <a:ext cx="396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067280" y="196056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067280" y="54259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5672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067280" y="23446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45788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84488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3548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2284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40080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79140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17876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569360" y="1960560"/>
                <a:ext cx="0" cy="34650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067280" y="273024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067280" y="31147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067280" y="35002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067280" y="38862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067280" y="46558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067280" y="50418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6013440" y="1749600"/>
                <a:ext cx="0" cy="36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 flipV="1">
              <a:off x="4067280" y="1892160"/>
              <a:ext cx="0" cy="352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3924360" y="426888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   -3  -2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028000" y="5276880"/>
            <a:ext cx="387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00800" y="3500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35480" y="2344680"/>
            <a:ext cx="387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68360" y="2205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68360" y="4076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68360" y="5013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6836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908000" y="2708280"/>
            <a:ext cx="2160720" cy="576360"/>
          </a:xfrm>
          <a:prstGeom prst="wedgeEllipseCallout">
            <a:avLst>
              <a:gd name="adj1" fmla="val -79314"/>
              <a:gd name="adj2" fmla="val 100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547640" y="4869000"/>
            <a:ext cx="2016360" cy="647640"/>
          </a:xfrm>
          <a:prstGeom prst="wedgeEllipseCallout">
            <a:avLst>
              <a:gd name="adj1" fmla="val -77717"/>
              <a:gd name="adj2" fmla="val 605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692360" y="3716280"/>
            <a:ext cx="2232000" cy="647640"/>
          </a:xfrm>
          <a:prstGeom prst="wedgeEllipseCallout">
            <a:avLst>
              <a:gd name="adj1" fmla="val -77666"/>
              <a:gd name="adj2" fmla="val 7647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950760" y="2127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90216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97344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901800" y="407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01080" y="501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>
            <a:hlinkClick r:id="" action="ppaction://hlinkshowjump?jump=nextslide"/>
          </p:cNvPr>
          <p:cNvSpPr/>
          <p:nvPr/>
        </p:nvSpPr>
        <p:spPr>
          <a:xfrm>
            <a:off x="809928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4211640" y="5661000"/>
            <a:ext cx="3744720" cy="891720"/>
            <a:chOff x="4211640" y="5661000"/>
            <a:chExt cx="3744720" cy="891720"/>
          </a:xfrm>
        </p:grpSpPr>
        <p:sp>
          <p:nvSpPr>
            <p:cNvPr id="1496" name=""/>
            <p:cNvSpPr/>
            <p:nvPr/>
          </p:nvSpPr>
          <p:spPr>
            <a:xfrm>
              <a:off x="4290480" y="6093000"/>
              <a:ext cx="85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211640" y="5661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290480" y="6093000"/>
              <a:ext cx="36658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5724360" y="6149880"/>
            <a:ext cx="414360" cy="374760"/>
          </a:xfrm>
          <a:custGeom>
            <a:avLst/>
            <a:gdLst/>
            <a:ahLst/>
            <a:rect l="l" t="t" r="r" b="b"/>
            <a:pathLst>
              <a:path w="261" h="236">
                <a:moveTo>
                  <a:pt x="0" y="0"/>
                </a:moveTo>
                <a:lnTo>
                  <a:pt x="261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6732720" y="61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089240" y="2720880"/>
            <a:ext cx="3480120" cy="2664000"/>
          </a:xfrm>
          <a:custGeom>
            <a:avLst/>
            <a:gdLst/>
            <a:ahLst/>
            <a:rect l="l" t="t" r="r" b="b"/>
            <a:pathLst>
              <a:path w="2192" h="1678">
                <a:moveTo>
                  <a:pt x="0" y="1678"/>
                </a:moveTo>
                <a:cubicBezTo>
                  <a:pt x="77" y="1605"/>
                  <a:pt x="271" y="1270"/>
                  <a:pt x="472" y="1238"/>
                </a:cubicBezTo>
                <a:cubicBezTo>
                  <a:pt x="673" y="1206"/>
                  <a:pt x="1002" y="1530"/>
                  <a:pt x="1208" y="1486"/>
                </a:cubicBezTo>
                <a:cubicBezTo>
                  <a:pt x="1414" y="1442"/>
                  <a:pt x="1563" y="1198"/>
                  <a:pt x="1710" y="975"/>
                </a:cubicBezTo>
                <a:cubicBezTo>
                  <a:pt x="1857" y="752"/>
                  <a:pt x="2013" y="298"/>
                  <a:pt x="2093" y="149"/>
                </a:cubicBezTo>
                <a:cubicBezTo>
                  <a:pt x="2173" y="0"/>
                  <a:pt x="2172" y="93"/>
                  <a:pt x="2192" y="7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732720" y="41972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95280" y="115920"/>
            <a:ext cx="863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а  на интервале (- 5; 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ее производной. Найдите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оторой функция 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нимает наименьшее значени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505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6229440" y="6064200"/>
            <a:ext cx="503280" cy="534960"/>
            <a:chOff x="6229440" y="6064200"/>
            <a:chExt cx="503280" cy="534960"/>
          </a:xfrm>
        </p:grpSpPr>
        <p:sp>
          <p:nvSpPr>
            <p:cNvPr id="1514" name=""/>
            <p:cNvSpPr/>
            <p:nvPr/>
          </p:nvSpPr>
          <p:spPr>
            <a:xfrm>
              <a:off x="6372360" y="606420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229440" y="607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732720" y="558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653080" y="551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332000" y="639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348000" y="1268280"/>
            <a:ext cx="3816360" cy="2016360"/>
          </a:xfrm>
          <a:prstGeom prst="wedgeEllipseCallout">
            <a:avLst>
              <a:gd name="adj1" fmla="val 39435"/>
              <a:gd name="adj2" fmla="val 95356"/>
            </a:avLst>
          </a:prstGeom>
          <a:gradFill rotWithShape="0">
            <a:gsLst>
              <a:gs pos="0">
                <a:srgbClr val="00ffcc">
                  <a:alpha val="56078"/>
                </a:srgbClr>
              </a:gs>
              <a:gs pos="50000">
                <a:srgbClr val="ffffff">
                  <a:alpha val="64313"/>
                </a:srgbClr>
              </a:gs>
              <a:gs pos="100000">
                <a:srgbClr val="00ffcc">
                  <a:alpha val="56078"/>
                </a:srgbClr>
              </a:gs>
            </a:gsLst>
            <a:lin ang="8100000"/>
          </a:gra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точке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т наименьше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187280" y="1773360"/>
            <a:ext cx="2016360" cy="504720"/>
          </a:xfrm>
          <a:prstGeom prst="wedgeEllipseCallout">
            <a:avLst>
              <a:gd name="adj1" fmla="val -51652"/>
              <a:gd name="adj2" fmla="val 13113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067280" y="5373720"/>
            <a:ext cx="712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7524720" y="2781360"/>
            <a:ext cx="7164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013800" y="148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6176520" y="5123520"/>
            <a:ext cx="853920" cy="1173600"/>
            <a:chOff x="6176520" y="5123520"/>
            <a:chExt cx="853920" cy="1173600"/>
          </a:xfrm>
        </p:grpSpPr>
        <p:sp>
          <p:nvSpPr>
            <p:cNvPr id="1526" name=""/>
            <p:cNvSpPr/>
            <p:nvPr/>
          </p:nvSpPr>
          <p:spPr>
            <a:xfrm>
              <a:off x="6176520" y="54720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 txBox="1"/>
            <p:nvPr/>
          </p:nvSpPr>
          <p:spPr>
            <a:xfrm rot="19933200">
              <a:off x="6299280" y="522900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5005440" y="6029280"/>
            <a:ext cx="503280" cy="497880"/>
            <a:chOff x="5005440" y="6029280"/>
            <a:chExt cx="503280" cy="497880"/>
          </a:xfrm>
        </p:grpSpPr>
        <p:sp>
          <p:nvSpPr>
            <p:cNvPr id="1529" name=""/>
            <p:cNvSpPr/>
            <p:nvPr/>
          </p:nvSpPr>
          <p:spPr>
            <a:xfrm>
              <a:off x="5249880" y="6029280"/>
              <a:ext cx="86040" cy="9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005440" y="6067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7453440" y="6029280"/>
            <a:ext cx="503280" cy="497880"/>
            <a:chOff x="7453440" y="6029280"/>
            <a:chExt cx="503280" cy="497880"/>
          </a:xfrm>
        </p:grpSpPr>
        <p:sp>
          <p:nvSpPr>
            <p:cNvPr id="1532" name=""/>
            <p:cNvSpPr/>
            <p:nvPr/>
          </p:nvSpPr>
          <p:spPr>
            <a:xfrm>
              <a:off x="7553520" y="6029280"/>
              <a:ext cx="85680" cy="9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453440" y="6067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1485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1485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521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521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evt="onClick">
                          <p:tgtEl>
                            <p:spTgt spid="1521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2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539640" y="1872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 производ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данной на промежутке (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8). Исследуйте функцию 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стремум и укажите количество ее точек максим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68360" y="31431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68360" y="4078440"/>
            <a:ext cx="288720" cy="50292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605">
                <a:moveTo>
                  <a:pt x="0" y="0"/>
                </a:moveTo>
                <a:lnTo>
                  <a:pt x="21600" y="0"/>
                </a:lnTo>
                <a:lnTo>
                  <a:pt x="21600" y="37605"/>
                </a:lnTo>
                <a:lnTo>
                  <a:pt x="0" y="37605"/>
                </a:lnTo>
                <a:close/>
              </a:path>
              <a:path fill="lightenLess" w="21600" h="37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05">
                <a:moveTo>
                  <a:pt x="21600" y="0"/>
                </a:moveTo>
                <a:lnTo>
                  <a:pt x="21600" y="37605"/>
                </a:lnTo>
                <a:lnTo>
                  <a:pt x="20200" y="36205"/>
                </a:lnTo>
                <a:lnTo>
                  <a:pt x="20200" y="1400"/>
                </a:lnTo>
                <a:close/>
              </a:path>
              <a:path fill="darkenLess" w="21600" h="37605">
                <a:moveTo>
                  <a:pt x="21600" y="37605"/>
                </a:moveTo>
                <a:lnTo>
                  <a:pt x="0" y="37605"/>
                </a:lnTo>
                <a:lnTo>
                  <a:pt x="1400" y="36205"/>
                </a:lnTo>
                <a:lnTo>
                  <a:pt x="20200" y="36205"/>
                </a:lnTo>
                <a:close/>
              </a:path>
              <a:path fill="lighten" w="21600" h="37605">
                <a:moveTo>
                  <a:pt x="0" y="37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0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68360" y="50148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68360" y="227808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476360" y="1989000"/>
            <a:ext cx="2160720" cy="576360"/>
          </a:xfrm>
          <a:prstGeom prst="wedgeEllipseCallout">
            <a:avLst>
              <a:gd name="adj1" fmla="val -65648"/>
              <a:gd name="adj2" fmla="val 8636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547640" y="4508640"/>
            <a:ext cx="2016360" cy="647640"/>
          </a:xfrm>
          <a:prstGeom prst="wedgeEllipseCallout">
            <a:avLst>
              <a:gd name="adj1" fmla="val -71416"/>
              <a:gd name="adj2" fmla="val 10171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476360" y="2852640"/>
            <a:ext cx="2016000" cy="505080"/>
          </a:xfrm>
          <a:prstGeom prst="wedgeEllipseCallout">
            <a:avLst>
              <a:gd name="adj1" fmla="val -71731"/>
              <a:gd name="adj2" fmla="val 11194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547640" y="3716280"/>
            <a:ext cx="2232360" cy="647640"/>
          </a:xfrm>
          <a:prstGeom prst="wedgeEllipseCallout">
            <a:avLst>
              <a:gd name="adj1" fmla="val -70837"/>
              <a:gd name="adj2" fmla="val 8431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950760" y="212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973440" y="235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973440" y="314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90216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02160" y="50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1835280" y="4916520"/>
            <a:ext cx="7128720" cy="891360"/>
            <a:chOff x="1835280" y="4916520"/>
            <a:chExt cx="7128720" cy="891360"/>
          </a:xfrm>
        </p:grpSpPr>
        <p:sp>
          <p:nvSpPr>
            <p:cNvPr id="1551" name=""/>
            <p:cNvSpPr/>
            <p:nvPr/>
          </p:nvSpPr>
          <p:spPr>
            <a:xfrm>
              <a:off x="1985760" y="5348160"/>
              <a:ext cx="163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835280" y="4916520"/>
              <a:ext cx="17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85760" y="5348160"/>
              <a:ext cx="69782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7599960" y="1916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400800" y="3454560"/>
            <a:ext cx="390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924360" y="247500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854520" y="443376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3848040" y="4154400"/>
            <a:ext cx="4908600" cy="180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841920" y="38685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841920" y="3589200"/>
            <a:ext cx="4933800" cy="1296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828960" y="330984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924360" y="2757600"/>
            <a:ext cx="4844880" cy="612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54520" y="219852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835440" y="191916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470480" y="1865160"/>
            <a:ext cx="4305240" cy="1787760"/>
          </a:xfrm>
          <a:custGeom>
            <a:avLst/>
            <a:gdLst/>
            <a:ahLst/>
            <a:rect l="l" t="t" r="r" b="b"/>
            <a:pathLst>
              <a:path w="2712" h="1126">
                <a:moveTo>
                  <a:pt x="2712" y="428"/>
                </a:moveTo>
                <a:cubicBezTo>
                  <a:pt x="2699" y="436"/>
                  <a:pt x="2665" y="419"/>
                  <a:pt x="2632" y="473"/>
                </a:cubicBezTo>
                <a:cubicBezTo>
                  <a:pt x="2599" y="527"/>
                  <a:pt x="2565" y="662"/>
                  <a:pt x="2512" y="753"/>
                </a:cubicBezTo>
                <a:cubicBezTo>
                  <a:pt x="2459" y="844"/>
                  <a:pt x="2379" y="962"/>
                  <a:pt x="2312" y="1017"/>
                </a:cubicBezTo>
                <a:cubicBezTo>
                  <a:pt x="2245" y="1072"/>
                  <a:pt x="2176" y="1126"/>
                  <a:pt x="2112" y="1081"/>
                </a:cubicBezTo>
                <a:cubicBezTo>
                  <a:pt x="2048" y="1036"/>
                  <a:pt x="1975" y="828"/>
                  <a:pt x="1928" y="745"/>
                </a:cubicBezTo>
                <a:cubicBezTo>
                  <a:pt x="1881" y="662"/>
                  <a:pt x="1864" y="585"/>
                  <a:pt x="1832" y="585"/>
                </a:cubicBezTo>
                <a:cubicBezTo>
                  <a:pt x="1800" y="585"/>
                  <a:pt x="1784" y="656"/>
                  <a:pt x="1736" y="745"/>
                </a:cubicBezTo>
                <a:cubicBezTo>
                  <a:pt x="1688" y="834"/>
                  <a:pt x="1608" y="1121"/>
                  <a:pt x="1544" y="1121"/>
                </a:cubicBezTo>
                <a:cubicBezTo>
                  <a:pt x="1480" y="1121"/>
                  <a:pt x="1407" y="913"/>
                  <a:pt x="1352" y="745"/>
                </a:cubicBezTo>
                <a:cubicBezTo>
                  <a:pt x="1297" y="577"/>
                  <a:pt x="1263" y="153"/>
                  <a:pt x="1216" y="113"/>
                </a:cubicBezTo>
                <a:cubicBezTo>
                  <a:pt x="1169" y="73"/>
                  <a:pt x="1117" y="517"/>
                  <a:pt x="1072" y="505"/>
                </a:cubicBezTo>
                <a:cubicBezTo>
                  <a:pt x="1027" y="493"/>
                  <a:pt x="993" y="0"/>
                  <a:pt x="944" y="41"/>
                </a:cubicBezTo>
                <a:cubicBezTo>
                  <a:pt x="895" y="82"/>
                  <a:pt x="836" y="581"/>
                  <a:pt x="776" y="753"/>
                </a:cubicBezTo>
                <a:cubicBezTo>
                  <a:pt x="716" y="925"/>
                  <a:pt x="649" y="1074"/>
                  <a:pt x="584" y="1073"/>
                </a:cubicBezTo>
                <a:cubicBezTo>
                  <a:pt x="519" y="1072"/>
                  <a:pt x="433" y="876"/>
                  <a:pt x="384" y="745"/>
                </a:cubicBezTo>
                <a:cubicBezTo>
                  <a:pt x="335" y="614"/>
                  <a:pt x="321" y="288"/>
                  <a:pt x="288" y="289"/>
                </a:cubicBezTo>
                <a:cubicBezTo>
                  <a:pt x="255" y="290"/>
                  <a:pt x="232" y="626"/>
                  <a:pt x="184" y="753"/>
                </a:cubicBezTo>
                <a:cubicBezTo>
                  <a:pt x="136" y="880"/>
                  <a:pt x="38" y="987"/>
                  <a:pt x="0" y="1049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924360" y="30510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3848040" y="1511280"/>
            <a:ext cx="4929120" cy="3024360"/>
            <a:chOff x="3848040" y="1511280"/>
            <a:chExt cx="4929120" cy="3024360"/>
          </a:xfrm>
        </p:grpSpPr>
        <p:sp>
          <p:nvSpPr>
            <p:cNvPr id="1568" name=""/>
            <p:cNvSpPr/>
            <p:nvPr/>
          </p:nvSpPr>
          <p:spPr>
            <a:xfrm>
              <a:off x="3848040" y="1518480"/>
              <a:ext cx="3240" cy="299916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775720" y="1533960"/>
              <a:ext cx="1440" cy="296460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464680" y="1526040"/>
              <a:ext cx="6120" cy="29991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53280" y="1526040"/>
              <a:ext cx="6480" cy="2995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848720" y="1526040"/>
              <a:ext cx="1440" cy="29876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537320" y="1522440"/>
              <a:ext cx="648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13680" y="1518480"/>
              <a:ext cx="22320" cy="301680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21360" y="1533960"/>
              <a:ext cx="6480" cy="298728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16800" y="1533960"/>
              <a:ext cx="1440" cy="29800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994360" y="1511280"/>
              <a:ext cx="17640" cy="30243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689440" y="152604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384880" y="153000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067360" y="1526040"/>
              <a:ext cx="12600" cy="299160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68920" y="1526040"/>
              <a:ext cx="6120" cy="29916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64000" y="152604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152960" y="1526040"/>
              <a:ext cx="1440" cy="299160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300720" y="1528200"/>
              <a:ext cx="0" cy="30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"/>
          <p:cNvSpPr/>
          <p:nvPr/>
        </p:nvSpPr>
        <p:spPr>
          <a:xfrm>
            <a:off x="4427640" y="350028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516720" y="30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442920" y="30510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996720" y="30621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013800" y="1760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986800" y="312408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8748720" y="251928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02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606160" y="263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851280" y="165420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491240" y="3013200"/>
            <a:ext cx="66960" cy="8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581880" y="3013200"/>
            <a:ext cx="74520" cy="8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041800" y="3013200"/>
            <a:ext cx="66600" cy="8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735440" y="3013200"/>
            <a:ext cx="3757680" cy="87120"/>
            <a:chOff x="4735440" y="3013200"/>
            <a:chExt cx="3757680" cy="87120"/>
          </a:xfrm>
        </p:grpSpPr>
        <p:sp>
          <p:nvSpPr>
            <p:cNvPr id="1599" name=""/>
            <p:cNvSpPr/>
            <p:nvPr/>
          </p:nvSpPr>
          <p:spPr>
            <a:xfrm>
              <a:off x="8426520" y="3013200"/>
              <a:ext cx="66600" cy="87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02520" y="3013200"/>
              <a:ext cx="66600" cy="87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645160" y="3013200"/>
              <a:ext cx="74520" cy="87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735440" y="3013200"/>
              <a:ext cx="84240" cy="87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604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3059280" y="5300640"/>
            <a:ext cx="5329080" cy="482040"/>
            <a:chOff x="3059280" y="5300640"/>
            <a:chExt cx="5329080" cy="482040"/>
          </a:xfrm>
        </p:grpSpPr>
        <p:grpSp>
          <p:nvGrpSpPr>
            <p:cNvPr id="1613" name=""/>
            <p:cNvGrpSpPr/>
            <p:nvPr/>
          </p:nvGrpSpPr>
          <p:grpSpPr>
            <a:xfrm>
              <a:off x="6156360" y="5300640"/>
              <a:ext cx="503280" cy="474120"/>
              <a:chOff x="6156360" y="5300640"/>
              <a:chExt cx="503280" cy="474120"/>
            </a:xfrm>
          </p:grpSpPr>
          <p:sp>
            <p:nvSpPr>
              <p:cNvPr id="1614" name=""/>
              <p:cNvSpPr/>
              <p:nvPr/>
            </p:nvSpPr>
            <p:spPr>
              <a:xfrm>
                <a:off x="6299280" y="530064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156360" y="5315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364000" y="5300640"/>
              <a:ext cx="503280" cy="474120"/>
              <a:chOff x="5364000" y="5300640"/>
              <a:chExt cx="503280" cy="474120"/>
            </a:xfrm>
          </p:grpSpPr>
          <p:sp>
            <p:nvSpPr>
              <p:cNvPr id="1617" name=""/>
              <p:cNvSpPr/>
              <p:nvPr/>
            </p:nvSpPr>
            <p:spPr>
              <a:xfrm>
                <a:off x="5506920" y="530064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364000" y="5315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4643280" y="5300640"/>
              <a:ext cx="503280" cy="474120"/>
              <a:chOff x="4643280" y="5300640"/>
              <a:chExt cx="503280" cy="474120"/>
            </a:xfrm>
          </p:grpSpPr>
          <p:sp>
            <p:nvSpPr>
              <p:cNvPr id="1620" name=""/>
              <p:cNvSpPr/>
              <p:nvPr/>
            </p:nvSpPr>
            <p:spPr>
              <a:xfrm>
                <a:off x="4786200" y="530064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643280" y="5315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3059280" y="5308560"/>
              <a:ext cx="502920" cy="474120"/>
              <a:chOff x="3059280" y="5308560"/>
              <a:chExt cx="502920" cy="474120"/>
            </a:xfrm>
          </p:grpSpPr>
          <p:sp>
            <p:nvSpPr>
              <p:cNvPr id="1623" name=""/>
              <p:cNvSpPr/>
              <p:nvPr/>
            </p:nvSpPr>
            <p:spPr>
              <a:xfrm>
                <a:off x="3201840" y="5308560"/>
                <a:ext cx="7092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059280" y="53229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922560" y="5308560"/>
              <a:ext cx="503280" cy="474120"/>
              <a:chOff x="3922560" y="5308560"/>
              <a:chExt cx="503280" cy="474120"/>
            </a:xfrm>
          </p:grpSpPr>
          <p:sp>
            <p:nvSpPr>
              <p:cNvPr id="1626" name=""/>
              <p:cNvSpPr/>
              <p:nvPr/>
            </p:nvSpPr>
            <p:spPr>
              <a:xfrm>
                <a:off x="4065480" y="530856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22560" y="532296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7020000" y="5300640"/>
              <a:ext cx="503280" cy="474120"/>
              <a:chOff x="7020000" y="5300640"/>
              <a:chExt cx="503280" cy="474120"/>
            </a:xfrm>
          </p:grpSpPr>
          <p:sp>
            <p:nvSpPr>
              <p:cNvPr id="1629" name=""/>
              <p:cNvSpPr/>
              <p:nvPr/>
            </p:nvSpPr>
            <p:spPr>
              <a:xfrm>
                <a:off x="7162920" y="530064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020000" y="5315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7885080" y="5300640"/>
              <a:ext cx="503280" cy="474120"/>
              <a:chOff x="7885080" y="5300640"/>
              <a:chExt cx="503280" cy="474120"/>
            </a:xfrm>
          </p:grpSpPr>
          <p:sp>
            <p:nvSpPr>
              <p:cNvPr id="1632" name=""/>
              <p:cNvSpPr/>
              <p:nvPr/>
            </p:nvSpPr>
            <p:spPr>
              <a:xfrm>
                <a:off x="8028000" y="530064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885080" y="53150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4" name=""/>
          <p:cNvGrpSpPr/>
          <p:nvPr/>
        </p:nvGrpSpPr>
        <p:grpSpPr>
          <a:xfrm>
            <a:off x="2700360" y="4829040"/>
            <a:ext cx="6119640" cy="560520"/>
            <a:chOff x="2700360" y="4829040"/>
            <a:chExt cx="6119640" cy="560520"/>
          </a:xfrm>
        </p:grpSpPr>
        <p:sp>
          <p:nvSpPr>
            <p:cNvPr id="1635" name=""/>
            <p:cNvSpPr/>
            <p:nvPr/>
          </p:nvSpPr>
          <p:spPr>
            <a:xfrm>
              <a:off x="5005440" y="48448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284720" y="4829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19640" y="484344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700360" y="4854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97440" y="4854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380360" y="4869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588000" y="4869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17080" y="486900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2771640" y="5373360"/>
            <a:ext cx="5977080" cy="517680"/>
            <a:chOff x="2771640" y="5373360"/>
            <a:chExt cx="5977080" cy="517680"/>
          </a:xfrm>
        </p:grpSpPr>
        <p:sp>
          <p:nvSpPr>
            <p:cNvPr id="1644" name=""/>
            <p:cNvSpPr/>
            <p:nvPr/>
          </p:nvSpPr>
          <p:spPr>
            <a:xfrm>
              <a:off x="4356000" y="5516640"/>
              <a:ext cx="414360" cy="374400"/>
            </a:xfrm>
            <a:custGeom>
              <a:avLst/>
              <a:gdLst/>
              <a:ahLst/>
              <a:rect l="l" t="t" r="r" b="b"/>
              <a:pathLst>
                <a:path w="261" h="236">
                  <a:moveTo>
                    <a:pt x="0" y="0"/>
                  </a:moveTo>
                  <a:lnTo>
                    <a:pt x="261" y="2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588000" y="544464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564000" y="551628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71640" y="5516640"/>
              <a:ext cx="414360" cy="374400"/>
            </a:xfrm>
            <a:custGeom>
              <a:avLst/>
              <a:gdLst/>
              <a:ahLst/>
              <a:rect l="l" t="t" r="r" b="b"/>
              <a:pathLst>
                <a:path w="261" h="236">
                  <a:moveTo>
                    <a:pt x="0" y="0"/>
                  </a:moveTo>
                  <a:lnTo>
                    <a:pt x="261" y="2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5075280" y="544464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8388360" y="537336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96000" y="5445000"/>
              <a:ext cx="414360" cy="374760"/>
            </a:xfrm>
            <a:custGeom>
              <a:avLst/>
              <a:gdLst/>
              <a:ahLst/>
              <a:rect l="l" t="t" r="r" b="b"/>
              <a:pathLst>
                <a:path w="261" h="236">
                  <a:moveTo>
                    <a:pt x="0" y="0"/>
                  </a:moveTo>
                  <a:lnTo>
                    <a:pt x="261" y="2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451640" y="5445000"/>
              <a:ext cx="414360" cy="374760"/>
            </a:xfrm>
            <a:custGeom>
              <a:avLst/>
              <a:gdLst/>
              <a:ahLst/>
              <a:rect l="l" t="t" r="r" b="b"/>
              <a:pathLst>
                <a:path w="261" h="236">
                  <a:moveTo>
                    <a:pt x="0" y="0"/>
                  </a:moveTo>
                  <a:lnTo>
                    <a:pt x="261" y="2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72880" y="4492440"/>
            <a:ext cx="853920" cy="1025280"/>
            <a:chOff x="3872880" y="4492440"/>
            <a:chExt cx="853920" cy="1025280"/>
          </a:xfrm>
        </p:grpSpPr>
        <p:sp>
          <p:nvSpPr>
            <p:cNvPr id="1653" name=""/>
            <p:cNvSpPr/>
            <p:nvPr/>
          </p:nvSpPr>
          <p:spPr>
            <a:xfrm>
              <a:off x="3872880" y="46926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 txBox="1"/>
            <p:nvPr/>
          </p:nvSpPr>
          <p:spPr>
            <a:xfrm rot="19933200">
              <a:off x="4033800" y="4589640"/>
              <a:ext cx="504720" cy="35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5312880" y="4484160"/>
            <a:ext cx="853920" cy="1033560"/>
            <a:chOff x="5312880" y="4484160"/>
            <a:chExt cx="853920" cy="1033560"/>
          </a:xfrm>
        </p:grpSpPr>
        <p:sp>
          <p:nvSpPr>
            <p:cNvPr id="1656" name=""/>
            <p:cNvSpPr/>
            <p:nvPr/>
          </p:nvSpPr>
          <p:spPr>
            <a:xfrm>
              <a:off x="5312880" y="46926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 txBox="1"/>
            <p:nvPr/>
          </p:nvSpPr>
          <p:spPr>
            <a:xfrm rot="19933200">
              <a:off x="5435640" y="4581360"/>
              <a:ext cx="50472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6968520" y="4484160"/>
            <a:ext cx="853920" cy="1033560"/>
            <a:chOff x="6968520" y="4484160"/>
            <a:chExt cx="853920" cy="1033560"/>
          </a:xfrm>
        </p:grpSpPr>
        <p:sp>
          <p:nvSpPr>
            <p:cNvPr id="1659" name=""/>
            <p:cNvSpPr/>
            <p:nvPr/>
          </p:nvSpPr>
          <p:spPr>
            <a:xfrm>
              <a:off x="6968520" y="46926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 txBox="1"/>
            <p:nvPr/>
          </p:nvSpPr>
          <p:spPr>
            <a:xfrm rot="19933200">
              <a:off x="7093080" y="4581360"/>
              <a:ext cx="50472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746" dur="indefinite" restart="never" nodeType="tmRoot">
          <p:childTnLst>
            <p:seq>
              <p:cTn id="747" restart="whenNotActive" nodeType="interactiveSeq" fill="hold">
                <p:stCondLst>
                  <p:cond evt="onClick">
                    <p:tgtEl>
                      <p:spTgt spid="1535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535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53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53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537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537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1536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1536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549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1549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1549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2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3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2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6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2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8000"/>
                            </p:stCondLst>
                            <p:childTnLst>
                              <p:par>
                                <p:cTn id="89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5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539640" y="1872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 производ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данной на промежутке (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Исследуйте функцию 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монотонность и укажите число ее промежутков у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68360" y="4076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68360" y="321300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68360" y="50148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68360" y="227808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476360" y="1989000"/>
            <a:ext cx="2160720" cy="576360"/>
          </a:xfrm>
          <a:prstGeom prst="wedgeEllipseCallout">
            <a:avLst>
              <a:gd name="adj1" fmla="val -65648"/>
              <a:gd name="adj2" fmla="val 8636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547640" y="4508640"/>
            <a:ext cx="2016360" cy="647640"/>
          </a:xfrm>
          <a:prstGeom prst="wedgeEllipseCallout">
            <a:avLst>
              <a:gd name="adj1" fmla="val -71416"/>
              <a:gd name="adj2" fmla="val 10171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1692360" y="3789360"/>
            <a:ext cx="2016000" cy="504720"/>
          </a:xfrm>
          <a:prstGeom prst="wedgeEllipseCallout">
            <a:avLst>
              <a:gd name="adj1" fmla="val -71731"/>
              <a:gd name="adj2" fmla="val 11194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619280" y="2852640"/>
            <a:ext cx="2232000" cy="647640"/>
          </a:xfrm>
          <a:prstGeom prst="wedgeEllipseCallout">
            <a:avLst>
              <a:gd name="adj1" fmla="val -70837"/>
              <a:gd name="adj2" fmla="val 8431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950760" y="212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973440" y="235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973440" y="314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90216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902160" y="50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678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3635280" y="4869000"/>
            <a:ext cx="4608360" cy="891360"/>
            <a:chOff x="3635280" y="4869000"/>
            <a:chExt cx="4608360" cy="891360"/>
          </a:xfrm>
        </p:grpSpPr>
        <p:sp>
          <p:nvSpPr>
            <p:cNvPr id="1687" name=""/>
            <p:cNvSpPr/>
            <p:nvPr/>
          </p:nvSpPr>
          <p:spPr>
            <a:xfrm>
              <a:off x="3732480" y="530064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35280" y="48690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732480" y="5300640"/>
              <a:ext cx="45111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6732720" y="5516640"/>
            <a:ext cx="620640" cy="312840"/>
          </a:xfrm>
          <a:custGeom>
            <a:avLst/>
            <a:gdLst/>
            <a:ahLst/>
            <a:rect l="l" t="t" r="r" b="b"/>
            <a:pathLst>
              <a:path w="391" h="197">
                <a:moveTo>
                  <a:pt x="0" y="0"/>
                </a:moveTo>
                <a:lnTo>
                  <a:pt x="391" y="19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569360" y="5518080"/>
            <a:ext cx="315720" cy="209520"/>
          </a:xfrm>
          <a:custGeom>
            <a:avLst/>
            <a:gdLst/>
            <a:ahLst/>
            <a:rect l="l" t="t" r="r" b="b"/>
            <a:pathLst>
              <a:path w="199" h="132">
                <a:moveTo>
                  <a:pt x="0" y="132"/>
                </a:moveTo>
                <a:lnTo>
                  <a:pt x="19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7356600" y="5275440"/>
            <a:ext cx="503280" cy="473760"/>
            <a:chOff x="7356600" y="5275440"/>
            <a:chExt cx="503280" cy="473760"/>
          </a:xfrm>
        </p:grpSpPr>
        <p:sp>
          <p:nvSpPr>
            <p:cNvPr id="1693" name=""/>
            <p:cNvSpPr/>
            <p:nvPr/>
          </p:nvSpPr>
          <p:spPr>
            <a:xfrm>
              <a:off x="7499520" y="52754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56600" y="5289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7486560" y="48308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77080" y="4835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575960" y="1916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400800" y="3733920"/>
            <a:ext cx="390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924360" y="275436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854520" y="471312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848040" y="4433760"/>
            <a:ext cx="4908600" cy="180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841920" y="4148280"/>
            <a:ext cx="4921200" cy="612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841920" y="3868560"/>
            <a:ext cx="4933800" cy="1296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828960" y="358920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924360" y="3036960"/>
            <a:ext cx="4844880" cy="612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854520" y="2478240"/>
            <a:ext cx="4921200" cy="144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835440" y="219852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762440" y="2090880"/>
            <a:ext cx="3086280" cy="1771560"/>
          </a:xfrm>
          <a:custGeom>
            <a:avLst/>
            <a:gdLst/>
            <a:ahLst/>
            <a:rect l="l" t="t" r="r" b="b"/>
            <a:pathLst>
              <a:path w="1944" h="1116">
                <a:moveTo>
                  <a:pt x="1944" y="579"/>
                </a:moveTo>
                <a:cubicBezTo>
                  <a:pt x="1911" y="615"/>
                  <a:pt x="1827" y="706"/>
                  <a:pt x="1744" y="795"/>
                </a:cubicBezTo>
                <a:cubicBezTo>
                  <a:pt x="1661" y="884"/>
                  <a:pt x="1542" y="1116"/>
                  <a:pt x="1446" y="1115"/>
                </a:cubicBezTo>
                <a:cubicBezTo>
                  <a:pt x="1350" y="1114"/>
                  <a:pt x="1236" y="919"/>
                  <a:pt x="1168" y="787"/>
                </a:cubicBezTo>
                <a:cubicBezTo>
                  <a:pt x="1100" y="655"/>
                  <a:pt x="1086" y="454"/>
                  <a:pt x="1040" y="323"/>
                </a:cubicBezTo>
                <a:cubicBezTo>
                  <a:pt x="994" y="192"/>
                  <a:pt x="941" y="0"/>
                  <a:pt x="890" y="3"/>
                </a:cubicBezTo>
                <a:cubicBezTo>
                  <a:pt x="839" y="6"/>
                  <a:pt x="785" y="232"/>
                  <a:pt x="736" y="339"/>
                </a:cubicBezTo>
                <a:cubicBezTo>
                  <a:pt x="687" y="446"/>
                  <a:pt x="653" y="675"/>
                  <a:pt x="594" y="643"/>
                </a:cubicBezTo>
                <a:cubicBezTo>
                  <a:pt x="535" y="611"/>
                  <a:pt x="453" y="150"/>
                  <a:pt x="384" y="147"/>
                </a:cubicBezTo>
                <a:cubicBezTo>
                  <a:pt x="316" y="144"/>
                  <a:pt x="246" y="612"/>
                  <a:pt x="182" y="627"/>
                </a:cubicBezTo>
                <a:cubicBezTo>
                  <a:pt x="118" y="642"/>
                  <a:pt x="38" y="317"/>
                  <a:pt x="0" y="23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924360" y="33307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3848040" y="1790640"/>
            <a:ext cx="4929120" cy="3024360"/>
            <a:chOff x="3848040" y="1790640"/>
            <a:chExt cx="4929120" cy="3024360"/>
          </a:xfrm>
        </p:grpSpPr>
        <p:sp>
          <p:nvSpPr>
            <p:cNvPr id="1711" name=""/>
            <p:cNvSpPr/>
            <p:nvPr/>
          </p:nvSpPr>
          <p:spPr>
            <a:xfrm>
              <a:off x="3848040" y="1797840"/>
              <a:ext cx="3240" cy="299916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775720" y="1813320"/>
              <a:ext cx="1440" cy="296460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464680" y="1805400"/>
              <a:ext cx="6120" cy="29991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153280" y="1805400"/>
              <a:ext cx="6480" cy="2995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848720" y="1805400"/>
              <a:ext cx="1440" cy="29876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537320" y="1801800"/>
              <a:ext cx="648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213680" y="1797840"/>
              <a:ext cx="22320" cy="301680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921360" y="1813320"/>
              <a:ext cx="6480" cy="298728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616800" y="1813320"/>
              <a:ext cx="1440" cy="29800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94360" y="1790640"/>
              <a:ext cx="17640" cy="30243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689440" y="180540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84880" y="180936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067360" y="1805400"/>
              <a:ext cx="12600" cy="299160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768920" y="1805400"/>
              <a:ext cx="6120" cy="29916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464000" y="180540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52960" y="1805400"/>
              <a:ext cx="1440" cy="299160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6300720" y="1807560"/>
              <a:ext cx="0" cy="30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"/>
          <p:cNvSpPr/>
          <p:nvPr/>
        </p:nvSpPr>
        <p:spPr>
          <a:xfrm>
            <a:off x="4716360" y="2421000"/>
            <a:ext cx="7164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516720" y="3330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442920" y="333072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996720" y="3341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013800" y="20397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986800" y="340344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812000" y="2997360"/>
            <a:ext cx="7164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020280" y="162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606160" y="291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851280" y="193356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493040" y="328464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556320" y="327672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991040" y="5430960"/>
            <a:ext cx="1381320" cy="334800"/>
          </a:xfrm>
          <a:custGeom>
            <a:avLst/>
            <a:gdLst/>
            <a:ahLst/>
            <a:rect l="l" t="t" r="r" b="b"/>
            <a:pathLst>
              <a:path w="870" h="211">
                <a:moveTo>
                  <a:pt x="0" y="211"/>
                </a:moveTo>
                <a:lnTo>
                  <a:pt x="87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146560" y="48546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4754520" y="2489040"/>
            <a:ext cx="3106800" cy="2857680"/>
            <a:chOff x="4754520" y="2489040"/>
            <a:chExt cx="3106800" cy="2857680"/>
          </a:xfrm>
        </p:grpSpPr>
        <p:sp>
          <p:nvSpPr>
            <p:cNvPr id="1743" name=""/>
            <p:cNvSpPr/>
            <p:nvPr/>
          </p:nvSpPr>
          <p:spPr>
            <a:xfrm>
              <a:off x="7531200" y="3354480"/>
              <a:ext cx="6120" cy="1928880"/>
            </a:xfrm>
            <a:custGeom>
              <a:avLst/>
              <a:gdLst/>
              <a:ahLst/>
              <a:rect l="l" t="t" r="r" b="b"/>
              <a:pathLst>
                <a:path w="4" h="1215">
                  <a:moveTo>
                    <a:pt x="4" y="0"/>
                  </a:moveTo>
                  <a:lnTo>
                    <a:pt x="0" y="1215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754520" y="2489040"/>
              <a:ext cx="7920" cy="2794320"/>
            </a:xfrm>
            <a:custGeom>
              <a:avLst/>
              <a:gdLst/>
              <a:ahLst/>
              <a:rect l="l" t="t" r="r" b="b"/>
              <a:pathLst>
                <a:path w="5" h="1760">
                  <a:moveTo>
                    <a:pt x="0" y="0"/>
                  </a:moveTo>
                  <a:lnTo>
                    <a:pt x="5" y="1760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859880" y="3056040"/>
              <a:ext cx="1440" cy="2265120"/>
            </a:xfrm>
            <a:custGeom>
              <a:avLst/>
              <a:gdLst/>
              <a:ahLst/>
              <a:rect l="l" t="t" r="r" b="b"/>
              <a:pathLst>
                <a:path w="1" h="1427">
                  <a:moveTo>
                    <a:pt x="0" y="0"/>
                  </a:moveTo>
                  <a:lnTo>
                    <a:pt x="1" y="1427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616800" y="3344760"/>
              <a:ext cx="4680" cy="2001960"/>
            </a:xfrm>
            <a:custGeom>
              <a:avLst/>
              <a:gdLst/>
              <a:ahLst/>
              <a:rect l="l" t="t" r="r" b="b"/>
              <a:pathLst>
                <a:path w="3" h="1261">
                  <a:moveTo>
                    <a:pt x="3" y="0"/>
                  </a:moveTo>
                  <a:lnTo>
                    <a:pt x="0" y="1261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6431040" y="5267160"/>
            <a:ext cx="503280" cy="474120"/>
            <a:chOff x="6431040" y="5267160"/>
            <a:chExt cx="503280" cy="474120"/>
          </a:xfrm>
        </p:grpSpPr>
        <p:sp>
          <p:nvSpPr>
            <p:cNvPr id="1748" name=""/>
            <p:cNvSpPr/>
            <p:nvPr/>
          </p:nvSpPr>
          <p:spPr>
            <a:xfrm>
              <a:off x="6573960" y="526716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31040" y="5281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6" dur="indefinite" restart="never" nodeType="tmRoot">
          <p:childTnLst>
            <p:seq>
              <p:cTn id="897" restart="whenNotActive" nodeType="interactiveSeq" fill="hold">
                <p:stCondLst>
                  <p:cond evt="onClick">
                    <p:tgtEl>
                      <p:spTgt spid="1662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1662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665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665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1663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1663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539640" y="1872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 производ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данной на промежутке (- 6; 8). Исследуйте функцию 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стремум и укажите количество ее точек экстрем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68360" y="31431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68360" y="4078440"/>
            <a:ext cx="288720" cy="50292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605">
                <a:moveTo>
                  <a:pt x="0" y="0"/>
                </a:moveTo>
                <a:lnTo>
                  <a:pt x="21600" y="0"/>
                </a:lnTo>
                <a:lnTo>
                  <a:pt x="21600" y="37605"/>
                </a:lnTo>
                <a:lnTo>
                  <a:pt x="0" y="37605"/>
                </a:lnTo>
                <a:close/>
              </a:path>
              <a:path fill="lightenLess" w="21600" h="37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05">
                <a:moveTo>
                  <a:pt x="21600" y="0"/>
                </a:moveTo>
                <a:lnTo>
                  <a:pt x="21600" y="37605"/>
                </a:lnTo>
                <a:lnTo>
                  <a:pt x="20200" y="36205"/>
                </a:lnTo>
                <a:lnTo>
                  <a:pt x="20200" y="1400"/>
                </a:lnTo>
                <a:close/>
              </a:path>
              <a:path fill="darkenLess" w="21600" h="37605">
                <a:moveTo>
                  <a:pt x="21600" y="37605"/>
                </a:moveTo>
                <a:lnTo>
                  <a:pt x="0" y="37605"/>
                </a:lnTo>
                <a:lnTo>
                  <a:pt x="1400" y="36205"/>
                </a:lnTo>
                <a:lnTo>
                  <a:pt x="20200" y="36205"/>
                </a:lnTo>
                <a:close/>
              </a:path>
              <a:path fill="lighten" w="21600" h="37605">
                <a:moveTo>
                  <a:pt x="0" y="37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0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68360" y="50148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68360" y="227808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476360" y="1989000"/>
            <a:ext cx="2160720" cy="576360"/>
          </a:xfrm>
          <a:prstGeom prst="wedgeEllipseCallout">
            <a:avLst>
              <a:gd name="adj1" fmla="val -65648"/>
              <a:gd name="adj2" fmla="val 8636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547640" y="4508640"/>
            <a:ext cx="2016360" cy="647640"/>
          </a:xfrm>
          <a:prstGeom prst="wedgeEllipseCallout">
            <a:avLst>
              <a:gd name="adj1" fmla="val -71416"/>
              <a:gd name="adj2" fmla="val 10171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476360" y="2852640"/>
            <a:ext cx="2016000" cy="505080"/>
          </a:xfrm>
          <a:prstGeom prst="wedgeEllipseCallout">
            <a:avLst>
              <a:gd name="adj1" fmla="val -71731"/>
              <a:gd name="adj2" fmla="val 11194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547640" y="3716280"/>
            <a:ext cx="2232360" cy="647640"/>
          </a:xfrm>
          <a:prstGeom prst="wedgeEllipseCallout">
            <a:avLst>
              <a:gd name="adj1" fmla="val -70837"/>
              <a:gd name="adj2" fmla="val 8431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950760" y="212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973440" y="235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973440" y="314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90216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902160" y="50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767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635280" y="5302080"/>
            <a:ext cx="4319280" cy="891720"/>
            <a:chOff x="3635280" y="5302080"/>
            <a:chExt cx="4319280" cy="891720"/>
          </a:xfrm>
        </p:grpSpPr>
        <p:sp>
          <p:nvSpPr>
            <p:cNvPr id="1776" name=""/>
            <p:cNvSpPr/>
            <p:nvPr/>
          </p:nvSpPr>
          <p:spPr>
            <a:xfrm>
              <a:off x="3726360" y="5734080"/>
              <a:ext cx="9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635280" y="530208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726360" y="5734080"/>
              <a:ext cx="42282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6013440" y="5791320"/>
            <a:ext cx="414360" cy="374400"/>
          </a:xfrm>
          <a:custGeom>
            <a:avLst/>
            <a:gdLst/>
            <a:ahLst/>
            <a:rect l="l" t="t" r="r" b="b"/>
            <a:pathLst>
              <a:path w="261" h="236">
                <a:moveTo>
                  <a:pt x="0" y="0"/>
                </a:moveTo>
                <a:lnTo>
                  <a:pt x="261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7021440" y="58050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6518160" y="5705640"/>
            <a:ext cx="503280" cy="473760"/>
            <a:chOff x="6518160" y="5705640"/>
            <a:chExt cx="503280" cy="473760"/>
          </a:xfrm>
        </p:grpSpPr>
        <p:sp>
          <p:nvSpPr>
            <p:cNvPr id="1782" name=""/>
            <p:cNvSpPr/>
            <p:nvPr/>
          </p:nvSpPr>
          <p:spPr>
            <a:xfrm>
              <a:off x="6661080" y="57056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518160" y="57196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7093080" y="5230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084720" y="5214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7599960" y="162864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400800" y="3454560"/>
            <a:ext cx="390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924360" y="247500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854520" y="443376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848040" y="4154400"/>
            <a:ext cx="4908600" cy="180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841920" y="38685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841920" y="3589200"/>
            <a:ext cx="4933800" cy="1296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828960" y="330984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924360" y="2757600"/>
            <a:ext cx="4844880" cy="612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54520" y="219852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35440" y="191916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470480" y="1552680"/>
            <a:ext cx="4305240" cy="2022480"/>
          </a:xfrm>
          <a:custGeom>
            <a:avLst/>
            <a:gdLst/>
            <a:ahLst/>
            <a:rect l="l" t="t" r="r" b="b"/>
            <a:pathLst>
              <a:path w="2712" h="1274">
                <a:moveTo>
                  <a:pt x="2712" y="625"/>
                </a:moveTo>
                <a:cubicBezTo>
                  <a:pt x="2657" y="620"/>
                  <a:pt x="2489" y="630"/>
                  <a:pt x="2384" y="585"/>
                </a:cubicBezTo>
                <a:cubicBezTo>
                  <a:pt x="2279" y="540"/>
                  <a:pt x="2173" y="441"/>
                  <a:pt x="2080" y="353"/>
                </a:cubicBezTo>
                <a:cubicBezTo>
                  <a:pt x="1987" y="265"/>
                  <a:pt x="1944" y="0"/>
                  <a:pt x="1824" y="57"/>
                </a:cubicBezTo>
                <a:cubicBezTo>
                  <a:pt x="1704" y="114"/>
                  <a:pt x="1505" y="685"/>
                  <a:pt x="1360" y="697"/>
                </a:cubicBezTo>
                <a:cubicBezTo>
                  <a:pt x="1215" y="709"/>
                  <a:pt x="1048" y="90"/>
                  <a:pt x="952" y="129"/>
                </a:cubicBezTo>
                <a:cubicBezTo>
                  <a:pt x="856" y="168"/>
                  <a:pt x="864" y="743"/>
                  <a:pt x="784" y="934"/>
                </a:cubicBezTo>
                <a:cubicBezTo>
                  <a:pt x="704" y="1125"/>
                  <a:pt x="572" y="1272"/>
                  <a:pt x="472" y="1273"/>
                </a:cubicBezTo>
                <a:cubicBezTo>
                  <a:pt x="372" y="1274"/>
                  <a:pt x="263" y="1058"/>
                  <a:pt x="184" y="942"/>
                </a:cubicBezTo>
                <a:cubicBezTo>
                  <a:pt x="105" y="826"/>
                  <a:pt x="38" y="653"/>
                  <a:pt x="0" y="577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924360" y="30510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848040" y="1511280"/>
            <a:ext cx="4929120" cy="3024360"/>
            <a:chOff x="3848040" y="1511280"/>
            <a:chExt cx="4929120" cy="3024360"/>
          </a:xfrm>
        </p:grpSpPr>
        <p:sp>
          <p:nvSpPr>
            <p:cNvPr id="1800" name=""/>
            <p:cNvSpPr/>
            <p:nvPr/>
          </p:nvSpPr>
          <p:spPr>
            <a:xfrm>
              <a:off x="3848040" y="1518480"/>
              <a:ext cx="3240" cy="299916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775720" y="1533960"/>
              <a:ext cx="1440" cy="296460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464680" y="1526040"/>
              <a:ext cx="6120" cy="29991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53280" y="1526040"/>
              <a:ext cx="6480" cy="2995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848720" y="1526040"/>
              <a:ext cx="1440" cy="29876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537320" y="1522440"/>
              <a:ext cx="648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13680" y="1518480"/>
              <a:ext cx="22320" cy="301680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921360" y="1533960"/>
              <a:ext cx="6480" cy="298728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616800" y="1533960"/>
              <a:ext cx="1440" cy="29800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4360" y="1511280"/>
              <a:ext cx="17640" cy="30243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689440" y="152604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384880" y="153000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67360" y="1526040"/>
              <a:ext cx="12600" cy="299160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768920" y="1526040"/>
              <a:ext cx="6120" cy="29916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64000" y="152604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152960" y="1526040"/>
              <a:ext cx="1440" cy="299160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6300720" y="1528200"/>
              <a:ext cx="0" cy="30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4427640" y="244620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516720" y="30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442920" y="30510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996720" y="30621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013800" y="1760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986800" y="312408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8748720" y="251928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02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8606160" y="263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851280" y="165420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716360" y="299736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651640" y="2997360"/>
            <a:ext cx="10296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5146560" y="58035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581800" y="5703840"/>
            <a:ext cx="502920" cy="474120"/>
            <a:chOff x="5581800" y="5703840"/>
            <a:chExt cx="502920" cy="474120"/>
          </a:xfrm>
        </p:grpSpPr>
        <p:sp>
          <p:nvSpPr>
            <p:cNvPr id="1831" name=""/>
            <p:cNvSpPr/>
            <p:nvPr/>
          </p:nvSpPr>
          <p:spPr>
            <a:xfrm>
              <a:off x="5724360" y="570384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581800" y="57182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5146560" y="522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6433560" y="4777200"/>
            <a:ext cx="853920" cy="1173600"/>
            <a:chOff x="6433560" y="4777200"/>
            <a:chExt cx="853920" cy="1173600"/>
          </a:xfrm>
        </p:grpSpPr>
        <p:sp>
          <p:nvSpPr>
            <p:cNvPr id="1835" name=""/>
            <p:cNvSpPr/>
            <p:nvPr/>
          </p:nvSpPr>
          <p:spPr>
            <a:xfrm>
              <a:off x="6433560" y="512568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 txBox="1"/>
            <p:nvPr/>
          </p:nvSpPr>
          <p:spPr>
            <a:xfrm rot="19933200">
              <a:off x="6556320" y="488268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5528880" y="4844520"/>
            <a:ext cx="853920" cy="1033560"/>
            <a:chOff x="5528880" y="4844520"/>
            <a:chExt cx="853920" cy="1033560"/>
          </a:xfrm>
        </p:grpSpPr>
        <p:sp>
          <p:nvSpPr>
            <p:cNvPr id="1838" name=""/>
            <p:cNvSpPr/>
            <p:nvPr/>
          </p:nvSpPr>
          <p:spPr>
            <a:xfrm>
              <a:off x="5528880" y="505296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 rot="19933200">
              <a:off x="5651640" y="4941720"/>
              <a:ext cx="50472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1037" dur="indefinite" restart="never" nodeType="tmRoot">
          <p:childTnLst>
            <p:seq>
              <p:cTn id="1038" restart="whenNotActive" nodeType="interactiveSeq" fill="hold">
                <p:stCondLst>
                  <p:cond evt="onClick">
                    <p:tgtEl>
                      <p:spTgt spid="1751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1751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1754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1754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1753"/>
                    </p:tgtEl>
                  </p:cond>
                </p:stCondLst>
                <p:childTnLst>
                  <p:par>
                    <p:cTn id="1058" fill="hold">
                      <p:stCondLst>
                        <p:cond evt="onClick">
                          <p:tgtEl>
                            <p:spTgt spid="1753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1752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1752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1765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1765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1765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2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2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4067280" y="3860640"/>
            <a:ext cx="3889440" cy="1297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4067280" y="1341000"/>
            <a:ext cx="3960720" cy="3677040"/>
            <a:chOff x="4067280" y="1341000"/>
            <a:chExt cx="3960720" cy="3677040"/>
          </a:xfrm>
        </p:grpSpPr>
        <p:grpSp>
          <p:nvGrpSpPr>
            <p:cNvPr id="1842" name=""/>
            <p:cNvGrpSpPr/>
            <p:nvPr/>
          </p:nvGrpSpPr>
          <p:grpSpPr>
            <a:xfrm>
              <a:off x="4067280" y="1341000"/>
              <a:ext cx="3960720" cy="3677040"/>
              <a:chOff x="4067280" y="1341000"/>
              <a:chExt cx="3960720" cy="3677040"/>
            </a:xfrm>
          </p:grpSpPr>
          <p:sp>
            <p:nvSpPr>
              <p:cNvPr id="1843" name=""/>
              <p:cNvSpPr/>
              <p:nvPr/>
            </p:nvSpPr>
            <p:spPr>
              <a:xfrm>
                <a:off x="4067280" y="3860640"/>
                <a:ext cx="396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067280" y="155268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067280" y="501804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5672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067280" y="19368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5788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84488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23548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2284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40080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79140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17876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569360" y="1552680"/>
                <a:ext cx="0" cy="346536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067280" y="232236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067280" y="270684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067280" y="30924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067280" y="34783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067280" y="424800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067280" y="4633920"/>
                <a:ext cx="388944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013440" y="1341000"/>
                <a:ext cx="0" cy="367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3" name=""/>
            <p:cNvSpPr/>
            <p:nvPr/>
          </p:nvSpPr>
          <p:spPr>
            <a:xfrm flipV="1">
              <a:off x="4067280" y="1483920"/>
              <a:ext cx="0" cy="3529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3924360" y="386064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   -3  -2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227640" y="357336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2    3    4    5 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905760" y="260280"/>
            <a:ext cx="75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На рисунке изображен график  производной функции у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ной на промежут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-5;5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сследуйте функцию у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тонность и укажи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ибольшую точку максиму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468360" y="393372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68360" y="486900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68360" y="5805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6836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371600" y="2438280"/>
            <a:ext cx="2160720" cy="576360"/>
          </a:xfrm>
          <a:prstGeom prst="wedgeEllipseCallout">
            <a:avLst>
              <a:gd name="adj1" fmla="val -50439"/>
              <a:gd name="adj2" fmla="val 11473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600200" y="5334120"/>
            <a:ext cx="2016000" cy="647640"/>
          </a:xfrm>
          <a:prstGeom prst="wedgeEllipseCallout">
            <a:avLst>
              <a:gd name="adj1" fmla="val -70865"/>
              <a:gd name="adj2" fmla="val 11102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752480" y="3429000"/>
            <a:ext cx="2016360" cy="504720"/>
          </a:xfrm>
          <a:prstGeom prst="wedgeEllipseCallout">
            <a:avLst>
              <a:gd name="adj1" fmla="val -62518"/>
              <a:gd name="adj2" fmla="val 11603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752480" y="4419720"/>
            <a:ext cx="2232000" cy="647640"/>
          </a:xfrm>
          <a:prstGeom prst="wedgeEllipseCallout">
            <a:avLst>
              <a:gd name="adj1" fmla="val -69347"/>
              <a:gd name="adj2" fmla="val 9166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950760" y="2919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97344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97344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90216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902160" y="58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>
            <a:hlinkClick r:id="" action="ppaction://hlinkshowjump?jump=nextslide"/>
          </p:cNvPr>
          <p:cNvSpPr/>
          <p:nvPr/>
        </p:nvSpPr>
        <p:spPr>
          <a:xfrm>
            <a:off x="8305920" y="58672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007960" y="292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924360" y="2997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                    +         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               -                 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2971800" y="5562720"/>
            <a:ext cx="5257800" cy="863640"/>
            <a:chOff x="2971800" y="5562720"/>
            <a:chExt cx="5257800" cy="863640"/>
          </a:xfrm>
        </p:grpSpPr>
        <p:sp>
          <p:nvSpPr>
            <p:cNvPr id="1884" name=""/>
            <p:cNvSpPr/>
            <p:nvPr/>
          </p:nvSpPr>
          <p:spPr>
            <a:xfrm>
              <a:off x="2971800" y="556272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)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            +           -          +       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5" name=""/>
            <p:cNvGrpSpPr/>
            <p:nvPr/>
          </p:nvGrpSpPr>
          <p:grpSpPr>
            <a:xfrm>
              <a:off x="3044880" y="5850000"/>
              <a:ext cx="5184720" cy="576360"/>
              <a:chOff x="3044880" y="5850000"/>
              <a:chExt cx="5184720" cy="576360"/>
            </a:xfrm>
          </p:grpSpPr>
          <p:sp>
            <p:nvSpPr>
              <p:cNvPr id="1886" name=""/>
              <p:cNvSpPr/>
              <p:nvPr/>
            </p:nvSpPr>
            <p:spPr>
              <a:xfrm>
                <a:off x="3332160" y="5921640"/>
                <a:ext cx="48974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11800" y="5850000"/>
                <a:ext cx="73080" cy="11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348160" y="5850000"/>
                <a:ext cx="73080" cy="112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211800" y="5850000"/>
                <a:ext cx="73080" cy="11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221600" y="5850000"/>
                <a:ext cx="73080" cy="11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044880" y="5921640"/>
                <a:ext cx="497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(x)            </a:t>
                </a:r>
                <a:r>
                  <a:rPr b="0" lang="ru-RU" sz="18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-2        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0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3    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908520" y="5994360"/>
                <a:ext cx="360360" cy="4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4700520" y="6065640"/>
                <a:ext cx="3603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637240" y="5994360"/>
                <a:ext cx="431640" cy="4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6284880" y="6065640"/>
                <a:ext cx="3603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932520" y="6066000"/>
                <a:ext cx="3603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7364520" y="6065640"/>
                <a:ext cx="3603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716880" y="5850000"/>
                <a:ext cx="72720" cy="112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9" name=""/>
          <p:cNvSpPr/>
          <p:nvPr/>
        </p:nvSpPr>
        <p:spPr>
          <a:xfrm>
            <a:off x="3132000" y="1125360"/>
            <a:ext cx="3506760" cy="1368720"/>
          </a:xfrm>
          <a:prstGeom prst="wedgeEllipseCallout">
            <a:avLst>
              <a:gd name="adj1" fmla="val 62722"/>
              <a:gd name="adj2" fmla="val 140601"/>
            </a:avLst>
          </a:prstGeom>
          <a:gradFill rotWithShape="0">
            <a:gsLst>
              <a:gs pos="0">
                <a:srgbClr val="00ffcc">
                  <a:alpha val="65098"/>
                </a:srgbClr>
              </a:gs>
              <a:gs pos="50000">
                <a:srgbClr val="ffffff">
                  <a:alpha val="77254"/>
                </a:srgbClr>
              </a:gs>
              <a:gs pos="100000">
                <a:srgbClr val="00ffcc">
                  <a:alpha val="65098"/>
                </a:srgbClr>
              </a:gs>
            </a:gsLst>
            <a:lin ang="8100000"/>
          </a:gra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двух точек максимума наибольшая 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059360" y="2590920"/>
            <a:ext cx="3879720" cy="2241360"/>
          </a:xfrm>
          <a:custGeom>
            <a:avLst/>
            <a:gdLst/>
            <a:ahLst/>
            <a:rect l="l" t="t" r="r" b="b"/>
            <a:pathLst>
              <a:path w="2444" h="1412">
                <a:moveTo>
                  <a:pt x="0" y="1405"/>
                </a:moveTo>
                <a:cubicBezTo>
                  <a:pt x="13" y="1380"/>
                  <a:pt x="40" y="1350"/>
                  <a:pt x="79" y="1248"/>
                </a:cubicBezTo>
                <a:cubicBezTo>
                  <a:pt x="118" y="1146"/>
                  <a:pt x="165" y="952"/>
                  <a:pt x="236" y="794"/>
                </a:cubicBezTo>
                <a:cubicBezTo>
                  <a:pt x="307" y="636"/>
                  <a:pt x="421" y="295"/>
                  <a:pt x="504" y="301"/>
                </a:cubicBezTo>
                <a:cubicBezTo>
                  <a:pt x="587" y="307"/>
                  <a:pt x="655" y="645"/>
                  <a:pt x="733" y="829"/>
                </a:cubicBezTo>
                <a:cubicBezTo>
                  <a:pt x="811" y="1013"/>
                  <a:pt x="886" y="1412"/>
                  <a:pt x="969" y="1405"/>
                </a:cubicBezTo>
                <a:cubicBezTo>
                  <a:pt x="1052" y="1398"/>
                  <a:pt x="1174" y="925"/>
                  <a:pt x="1231" y="785"/>
                </a:cubicBezTo>
                <a:cubicBezTo>
                  <a:pt x="1288" y="645"/>
                  <a:pt x="1274" y="619"/>
                  <a:pt x="1309" y="567"/>
                </a:cubicBezTo>
                <a:cubicBezTo>
                  <a:pt x="1344" y="515"/>
                  <a:pt x="1399" y="501"/>
                  <a:pt x="1440" y="471"/>
                </a:cubicBezTo>
                <a:cubicBezTo>
                  <a:pt x="1481" y="441"/>
                  <a:pt x="1502" y="451"/>
                  <a:pt x="1554" y="384"/>
                </a:cubicBezTo>
                <a:cubicBezTo>
                  <a:pt x="1606" y="317"/>
                  <a:pt x="1686" y="0"/>
                  <a:pt x="1754" y="70"/>
                </a:cubicBezTo>
                <a:cubicBezTo>
                  <a:pt x="1822" y="140"/>
                  <a:pt x="1906" y="651"/>
                  <a:pt x="1963" y="808"/>
                </a:cubicBezTo>
                <a:cubicBezTo>
                  <a:pt x="2020" y="965"/>
                  <a:pt x="2051" y="1013"/>
                  <a:pt x="2095" y="1012"/>
                </a:cubicBezTo>
                <a:cubicBezTo>
                  <a:pt x="2139" y="1011"/>
                  <a:pt x="2168" y="918"/>
                  <a:pt x="2226" y="803"/>
                </a:cubicBezTo>
                <a:cubicBezTo>
                  <a:pt x="2284" y="688"/>
                  <a:pt x="2399" y="423"/>
                  <a:pt x="2444" y="323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5148360" y="3789360"/>
            <a:ext cx="2089080" cy="144360"/>
            <a:chOff x="5148360" y="3789360"/>
            <a:chExt cx="2089080" cy="144360"/>
          </a:xfrm>
        </p:grpSpPr>
        <p:sp>
          <p:nvSpPr>
            <p:cNvPr id="1902" name=""/>
            <p:cNvSpPr/>
            <p:nvPr/>
          </p:nvSpPr>
          <p:spPr>
            <a:xfrm>
              <a:off x="5148360" y="3789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093080" y="3789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905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5125320" y="5063760"/>
            <a:ext cx="853920" cy="1033200"/>
            <a:chOff x="5125320" y="5063760"/>
            <a:chExt cx="853920" cy="1033200"/>
          </a:xfrm>
        </p:grpSpPr>
        <p:sp>
          <p:nvSpPr>
            <p:cNvPr id="1914" name=""/>
            <p:cNvSpPr/>
            <p:nvPr/>
          </p:nvSpPr>
          <p:spPr>
            <a:xfrm>
              <a:off x="5125320" y="527184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 txBox="1"/>
            <p:nvPr/>
          </p:nvSpPr>
          <p:spPr>
            <a:xfrm rot="19933200">
              <a:off x="5248080" y="5160960"/>
              <a:ext cx="504720" cy="35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492240" y="5084280"/>
            <a:ext cx="853920" cy="1033560"/>
            <a:chOff x="6492240" y="5084280"/>
            <a:chExt cx="853920" cy="1033560"/>
          </a:xfrm>
        </p:grpSpPr>
        <p:sp>
          <p:nvSpPr>
            <p:cNvPr id="1917" name=""/>
            <p:cNvSpPr/>
            <p:nvPr/>
          </p:nvSpPr>
          <p:spPr>
            <a:xfrm>
              <a:off x="6492240" y="529272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 txBox="1"/>
            <p:nvPr/>
          </p:nvSpPr>
          <p:spPr>
            <a:xfrm rot="19933200">
              <a:off x="6615000" y="5181480"/>
              <a:ext cx="50472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1181" dur="indefinite" restart="never" nodeType="tmRoot">
          <p:childTnLst>
            <p:seq>
              <p:cTn id="1182" restart="whenNotActive" nodeType="interactiveSeq" fill="hold">
                <p:stCondLst>
                  <p:cond evt="onClick">
                    <p:tgtEl>
                      <p:spTgt spid="1867"/>
                    </p:tgtEl>
                  </p:cond>
                </p:stCondLst>
                <p:childTnLst>
                  <p:par>
                    <p:cTn id="1183" fill="hold">
                      <p:stCondLst>
                        <p:cond evt="onClick">
                          <p:tgtEl>
                            <p:spTgt spid="1867"/>
                          </p:tgtEl>
                        </p:cond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2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2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1870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1870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1869"/>
                    </p:tgtEl>
                  </p:cond>
                </p:stCondLst>
                <p:childTnLst>
                  <p:par>
                    <p:cTn id="1238" fill="hold">
                      <p:stCondLst>
                        <p:cond evt="onClick">
                          <p:tgtEl>
                            <p:spTgt spid="1869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539640" y="1872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 производно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данной на промежутке (- 6; 7). Исследуйте функцию у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стремум и укажите количество ее точек экстрем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68360" y="31431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68360" y="4078440"/>
            <a:ext cx="288720" cy="50292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2920"/>
              <a:gd name="textAreaBottom" fmla="*/ 484200 h 502920"/>
            </a:gdLst>
            <a:ahLst/>
            <a:rect l="textAreaLeft" t="textAreaTop" r="textAreaRight" b="textAreaBottom"/>
            <a:pathLst>
              <a:path w="21600" h="37605">
                <a:moveTo>
                  <a:pt x="0" y="0"/>
                </a:moveTo>
                <a:lnTo>
                  <a:pt x="21600" y="0"/>
                </a:lnTo>
                <a:lnTo>
                  <a:pt x="21600" y="37605"/>
                </a:lnTo>
                <a:lnTo>
                  <a:pt x="0" y="37605"/>
                </a:lnTo>
                <a:close/>
              </a:path>
              <a:path fill="lightenLess" w="21600" h="37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05">
                <a:moveTo>
                  <a:pt x="21600" y="0"/>
                </a:moveTo>
                <a:lnTo>
                  <a:pt x="21600" y="37605"/>
                </a:lnTo>
                <a:lnTo>
                  <a:pt x="20200" y="36205"/>
                </a:lnTo>
                <a:lnTo>
                  <a:pt x="20200" y="1400"/>
                </a:lnTo>
                <a:close/>
              </a:path>
              <a:path fill="darkenLess" w="21600" h="37605">
                <a:moveTo>
                  <a:pt x="21600" y="37605"/>
                </a:moveTo>
                <a:lnTo>
                  <a:pt x="0" y="37605"/>
                </a:lnTo>
                <a:lnTo>
                  <a:pt x="1400" y="36205"/>
                </a:lnTo>
                <a:lnTo>
                  <a:pt x="20200" y="36205"/>
                </a:lnTo>
                <a:close/>
              </a:path>
              <a:path fill="lighten" w="21600" h="37605">
                <a:moveTo>
                  <a:pt x="0" y="37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0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468360" y="50148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68360" y="227808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476360" y="1989000"/>
            <a:ext cx="2160720" cy="576360"/>
          </a:xfrm>
          <a:prstGeom prst="wedgeEllipseCallout">
            <a:avLst>
              <a:gd name="adj1" fmla="val -65648"/>
              <a:gd name="adj2" fmla="val 8636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547640" y="4508640"/>
            <a:ext cx="2016360" cy="647640"/>
          </a:xfrm>
          <a:prstGeom prst="wedgeEllipseCallout">
            <a:avLst>
              <a:gd name="adj1" fmla="val -71416"/>
              <a:gd name="adj2" fmla="val 10171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476360" y="2852640"/>
            <a:ext cx="2016000" cy="505080"/>
          </a:xfrm>
          <a:prstGeom prst="wedgeEllipseCallout">
            <a:avLst>
              <a:gd name="adj1" fmla="val -71731"/>
              <a:gd name="adj2" fmla="val 111949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547640" y="3716280"/>
            <a:ext cx="2232360" cy="647640"/>
          </a:xfrm>
          <a:prstGeom prst="wedgeEllipseCallout">
            <a:avLst>
              <a:gd name="adj1" fmla="val -70837"/>
              <a:gd name="adj2" fmla="val 8431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950760" y="212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973440" y="235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973440" y="314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902160" y="407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902160" y="50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936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"/>
          <p:cNvGrpSpPr/>
          <p:nvPr/>
        </p:nvGrpSpPr>
        <p:grpSpPr>
          <a:xfrm>
            <a:off x="2050920" y="5029200"/>
            <a:ext cx="6265440" cy="891360"/>
            <a:chOff x="2050920" y="5029200"/>
            <a:chExt cx="6265440" cy="891360"/>
          </a:xfrm>
        </p:grpSpPr>
        <p:sp>
          <p:nvSpPr>
            <p:cNvPr id="1945" name=""/>
            <p:cNvSpPr/>
            <p:nvPr/>
          </p:nvSpPr>
          <p:spPr>
            <a:xfrm>
              <a:off x="2183040" y="5460840"/>
              <a:ext cx="14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50920" y="502920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183040" y="5460840"/>
              <a:ext cx="61333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4429080" y="5518080"/>
            <a:ext cx="414360" cy="374760"/>
          </a:xfrm>
          <a:custGeom>
            <a:avLst/>
            <a:gdLst/>
            <a:ahLst/>
            <a:rect l="l" t="t" r="r" b="b"/>
            <a:pathLst>
              <a:path w="261" h="236">
                <a:moveTo>
                  <a:pt x="0" y="0"/>
                </a:moveTo>
                <a:lnTo>
                  <a:pt x="261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5437080" y="55321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4933800" y="5432400"/>
            <a:ext cx="503280" cy="474120"/>
            <a:chOff x="4933800" y="5432400"/>
            <a:chExt cx="503280" cy="474120"/>
          </a:xfrm>
        </p:grpSpPr>
        <p:sp>
          <p:nvSpPr>
            <p:cNvPr id="1951" name=""/>
            <p:cNvSpPr/>
            <p:nvPr/>
          </p:nvSpPr>
          <p:spPr>
            <a:xfrm>
              <a:off x="5076720" y="543240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33800" y="5446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5508720" y="495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4500720" y="494172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7599960" y="162864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6400800" y="3454560"/>
            <a:ext cx="390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924360" y="247500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854520" y="443376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848040" y="4154400"/>
            <a:ext cx="4908600" cy="180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841920" y="38685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841920" y="3589200"/>
            <a:ext cx="4933800" cy="1296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28960" y="330984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924360" y="2757600"/>
            <a:ext cx="4844880" cy="612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854520" y="219852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835440" y="191916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470480" y="173196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2520" y="645"/>
                </a:moveTo>
                <a:cubicBezTo>
                  <a:pt x="2503" y="652"/>
                  <a:pt x="2448" y="652"/>
                  <a:pt x="2416" y="685"/>
                </a:cubicBezTo>
                <a:cubicBezTo>
                  <a:pt x="2384" y="718"/>
                  <a:pt x="2356" y="748"/>
                  <a:pt x="2328" y="845"/>
                </a:cubicBezTo>
                <a:cubicBezTo>
                  <a:pt x="2300" y="942"/>
                  <a:pt x="2281" y="1272"/>
                  <a:pt x="2248" y="1269"/>
                </a:cubicBezTo>
                <a:cubicBezTo>
                  <a:pt x="2215" y="1266"/>
                  <a:pt x="2179" y="960"/>
                  <a:pt x="2128" y="829"/>
                </a:cubicBezTo>
                <a:cubicBezTo>
                  <a:pt x="2077" y="698"/>
                  <a:pt x="2009" y="485"/>
                  <a:pt x="1944" y="485"/>
                </a:cubicBezTo>
                <a:cubicBezTo>
                  <a:pt x="1879" y="485"/>
                  <a:pt x="1804" y="728"/>
                  <a:pt x="1736" y="829"/>
                </a:cubicBezTo>
                <a:cubicBezTo>
                  <a:pt x="1668" y="930"/>
                  <a:pt x="1599" y="1092"/>
                  <a:pt x="1536" y="1093"/>
                </a:cubicBezTo>
                <a:cubicBezTo>
                  <a:pt x="1473" y="1094"/>
                  <a:pt x="1440" y="1016"/>
                  <a:pt x="1360" y="837"/>
                </a:cubicBezTo>
                <a:cubicBezTo>
                  <a:pt x="1280" y="658"/>
                  <a:pt x="1164" y="42"/>
                  <a:pt x="1056" y="21"/>
                </a:cubicBezTo>
                <a:cubicBezTo>
                  <a:pt x="948" y="0"/>
                  <a:pt x="807" y="705"/>
                  <a:pt x="712" y="709"/>
                </a:cubicBezTo>
                <a:cubicBezTo>
                  <a:pt x="617" y="713"/>
                  <a:pt x="563" y="76"/>
                  <a:pt x="488" y="45"/>
                </a:cubicBezTo>
                <a:cubicBezTo>
                  <a:pt x="413" y="14"/>
                  <a:pt x="325" y="518"/>
                  <a:pt x="264" y="525"/>
                </a:cubicBezTo>
                <a:cubicBezTo>
                  <a:pt x="203" y="532"/>
                  <a:pt x="164" y="95"/>
                  <a:pt x="120" y="85"/>
                </a:cubicBezTo>
                <a:cubicBezTo>
                  <a:pt x="76" y="75"/>
                  <a:pt x="25" y="385"/>
                  <a:pt x="0" y="46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924360" y="30510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3848040" y="1511280"/>
            <a:ext cx="4929120" cy="3024360"/>
            <a:chOff x="3848040" y="1511280"/>
            <a:chExt cx="4929120" cy="3024360"/>
          </a:xfrm>
        </p:grpSpPr>
        <p:sp>
          <p:nvSpPr>
            <p:cNvPr id="1969" name=""/>
            <p:cNvSpPr/>
            <p:nvPr/>
          </p:nvSpPr>
          <p:spPr>
            <a:xfrm>
              <a:off x="3848040" y="1518480"/>
              <a:ext cx="3240" cy="299916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775720" y="1533960"/>
              <a:ext cx="1440" cy="296460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464680" y="1526040"/>
              <a:ext cx="6120" cy="29991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153280" y="1526040"/>
              <a:ext cx="6480" cy="2995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48720" y="1526040"/>
              <a:ext cx="1440" cy="29876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537320" y="1522440"/>
              <a:ext cx="648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213680" y="1518480"/>
              <a:ext cx="22320" cy="301680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921360" y="1533960"/>
              <a:ext cx="6480" cy="298728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616800" y="1533960"/>
              <a:ext cx="1440" cy="29800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94360" y="1511280"/>
              <a:ext cx="17640" cy="30243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689440" y="152604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84880" y="153000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067360" y="1526040"/>
              <a:ext cx="12600" cy="299160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768920" y="1526040"/>
              <a:ext cx="6120" cy="29916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464000" y="1526040"/>
              <a:ext cx="1800" cy="29991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152960" y="1526040"/>
              <a:ext cx="1440" cy="299160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6300720" y="1528200"/>
              <a:ext cx="0" cy="30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4427640" y="244620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516720" y="30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442920" y="30510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996720" y="30621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13800" y="1760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986800" y="312408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8461440" y="2708280"/>
            <a:ext cx="712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02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8606160" y="263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851280" y="165420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556320" y="299736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164360" y="299736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3562200" y="55303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3997440" y="5430960"/>
            <a:ext cx="503280" cy="473760"/>
            <a:chOff x="3997440" y="5430960"/>
            <a:chExt cx="503280" cy="473760"/>
          </a:xfrm>
        </p:grpSpPr>
        <p:sp>
          <p:nvSpPr>
            <p:cNvPr id="2000" name=""/>
            <p:cNvSpPr/>
            <p:nvPr/>
          </p:nvSpPr>
          <p:spPr>
            <a:xfrm>
              <a:off x="4140360" y="54309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997440" y="544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2" name=""/>
          <p:cNvSpPr/>
          <p:nvPr/>
        </p:nvSpPr>
        <p:spPr>
          <a:xfrm>
            <a:off x="3492360" y="49561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5940360" y="5445000"/>
            <a:ext cx="503280" cy="474120"/>
            <a:chOff x="5940360" y="5445000"/>
            <a:chExt cx="503280" cy="474120"/>
          </a:xfrm>
        </p:grpSpPr>
        <p:sp>
          <p:nvSpPr>
            <p:cNvPr id="2004" name=""/>
            <p:cNvSpPr/>
            <p:nvPr/>
          </p:nvSpPr>
          <p:spPr>
            <a:xfrm>
              <a:off x="6083280" y="544500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940360" y="5459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7812000" y="299736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6948360" y="5445000"/>
            <a:ext cx="503280" cy="474120"/>
            <a:chOff x="6948360" y="5445000"/>
            <a:chExt cx="503280" cy="474120"/>
          </a:xfrm>
        </p:grpSpPr>
        <p:sp>
          <p:nvSpPr>
            <p:cNvPr id="2008" name=""/>
            <p:cNvSpPr/>
            <p:nvPr/>
          </p:nvSpPr>
          <p:spPr>
            <a:xfrm>
              <a:off x="7091280" y="544500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948360" y="5459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8101080" y="2997360"/>
            <a:ext cx="10296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372360" y="4941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45164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6372360" y="5516640"/>
            <a:ext cx="414360" cy="374400"/>
          </a:xfrm>
          <a:custGeom>
            <a:avLst/>
            <a:gdLst/>
            <a:ahLst/>
            <a:rect l="l" t="t" r="r" b="b"/>
            <a:pathLst>
              <a:path w="261" h="236">
                <a:moveTo>
                  <a:pt x="0" y="0"/>
                </a:moveTo>
                <a:lnTo>
                  <a:pt x="261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7524720" y="551628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5" name=""/>
          <p:cNvGrpSpPr/>
          <p:nvPr/>
        </p:nvGrpSpPr>
        <p:grpSpPr>
          <a:xfrm>
            <a:off x="4849200" y="4475520"/>
            <a:ext cx="853920" cy="1173600"/>
            <a:chOff x="4849200" y="4475520"/>
            <a:chExt cx="853920" cy="1173600"/>
          </a:xfrm>
        </p:grpSpPr>
        <p:sp>
          <p:nvSpPr>
            <p:cNvPr id="2016" name=""/>
            <p:cNvSpPr/>
            <p:nvPr/>
          </p:nvSpPr>
          <p:spPr>
            <a:xfrm>
              <a:off x="4849200" y="48240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 txBox="1"/>
            <p:nvPr/>
          </p:nvSpPr>
          <p:spPr>
            <a:xfrm rot="19933200">
              <a:off x="4971960" y="458100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3944520" y="4557240"/>
            <a:ext cx="853920" cy="1033560"/>
            <a:chOff x="3944520" y="4557240"/>
            <a:chExt cx="853920" cy="1033560"/>
          </a:xfrm>
        </p:grpSpPr>
        <p:sp>
          <p:nvSpPr>
            <p:cNvPr id="2019" name=""/>
            <p:cNvSpPr/>
            <p:nvPr/>
          </p:nvSpPr>
          <p:spPr>
            <a:xfrm>
              <a:off x="3944520" y="476568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 txBox="1"/>
            <p:nvPr/>
          </p:nvSpPr>
          <p:spPr>
            <a:xfrm rot="19933200">
              <a:off x="4067280" y="4654440"/>
              <a:ext cx="50472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5889240" y="4628880"/>
            <a:ext cx="853920" cy="1033200"/>
            <a:chOff x="5889240" y="4628880"/>
            <a:chExt cx="853920" cy="1033200"/>
          </a:xfrm>
        </p:grpSpPr>
        <p:sp>
          <p:nvSpPr>
            <p:cNvPr id="2022" name=""/>
            <p:cNvSpPr/>
            <p:nvPr/>
          </p:nvSpPr>
          <p:spPr>
            <a:xfrm>
              <a:off x="5889240" y="483696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 txBox="1"/>
            <p:nvPr/>
          </p:nvSpPr>
          <p:spPr>
            <a:xfrm rot="19933200">
              <a:off x="6012000" y="4726080"/>
              <a:ext cx="504720" cy="35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6897240" y="4488480"/>
            <a:ext cx="853920" cy="1173600"/>
            <a:chOff x="6897240" y="4488480"/>
            <a:chExt cx="853920" cy="1173600"/>
          </a:xfrm>
        </p:grpSpPr>
        <p:sp>
          <p:nvSpPr>
            <p:cNvPr id="2025" name=""/>
            <p:cNvSpPr/>
            <p:nvPr/>
          </p:nvSpPr>
          <p:spPr>
            <a:xfrm>
              <a:off x="6897240" y="483696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 txBox="1"/>
            <p:nvPr/>
          </p:nvSpPr>
          <p:spPr>
            <a:xfrm rot="19933200">
              <a:off x="7020000" y="459396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1257" dur="indefinite" restart="never" nodeType="tmRoot">
          <p:childTnLst>
            <p:seq>
              <p:cTn id="1258" restart="whenNotActive" nodeType="interactiveSeq" fill="hold">
                <p:stCondLst>
                  <p:cond evt="onClick">
                    <p:tgtEl>
                      <p:spTgt spid="1920"/>
                    </p:tgtEl>
                  </p:cond>
                </p:stCondLst>
                <p:childTnLst>
                  <p:par>
                    <p:cTn id="1259" fill="hold">
                      <p:stCondLst>
                        <p:cond evt="onClick">
                          <p:tgtEl>
                            <p:spTgt spid="1920"/>
                          </p:tgtEl>
                        </p:cond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1923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1923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1922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1922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921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921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1934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1934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evt="onClick">
                          <p:tgtEl>
                            <p:spTgt spid="1934"/>
                          </p:tgtEl>
                        </p:cond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2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2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2776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248440"/>
            <a:ext cx="6600240" cy="891360"/>
            <a:chOff x="0" y="5248440"/>
            <a:chExt cx="6600240" cy="891360"/>
          </a:xfrm>
        </p:grpSpPr>
        <p:sp>
          <p:nvSpPr>
            <p:cNvPr id="182" name=""/>
            <p:cNvSpPr/>
            <p:nvPr/>
          </p:nvSpPr>
          <p:spPr>
            <a:xfrm>
              <a:off x="1080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30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503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9640" y="1872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 производной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данной на промежутке (- 8; 8). Исследуем свойства графика и  мы можем ответить на множество вопросов о свойствах функции, хотя графика самой функции не представле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4564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8284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656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080" y="42814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96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96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136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656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748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640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0080" y="1638360"/>
            <a:ext cx="4929120" cy="3024000"/>
            <a:chOff x="730080" y="1638360"/>
            <a:chExt cx="4929120" cy="3024000"/>
          </a:xfrm>
        </p:grpSpPr>
        <p:sp>
          <p:nvSpPr>
            <p:cNvPr id="198" name=""/>
            <p:cNvSpPr/>
            <p:nvPr/>
          </p:nvSpPr>
          <p:spPr>
            <a:xfrm>
              <a:off x="73008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5776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4672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3532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3076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936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9572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0340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9884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7640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148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692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4940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5096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4604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3500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18276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39876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2496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616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84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6884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0232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4084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32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224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38080" y="5767560"/>
            <a:ext cx="4800600" cy="404640"/>
            <a:chOff x="838080" y="5767560"/>
            <a:chExt cx="4800600" cy="404640"/>
          </a:xfrm>
        </p:grpSpPr>
        <p:sp>
          <p:nvSpPr>
            <p:cNvPr id="233" name=""/>
            <p:cNvSpPr/>
            <p:nvPr/>
          </p:nvSpPr>
          <p:spPr>
            <a:xfrm>
              <a:off x="3354480" y="580392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59" y="0"/>
                  </a:moveTo>
                  <a:lnTo>
                    <a:pt x="0" y="2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0240" y="5767560"/>
              <a:ext cx="1141560" cy="3920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9" y="24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78360"/>
              <a:ext cx="60984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0"/>
                  </a:move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2640" y="5778360"/>
              <a:ext cx="609480" cy="393840"/>
            </a:xfrm>
            <a:custGeom>
              <a:avLst/>
              <a:gdLst/>
              <a:ahLst/>
              <a:rect l="l" t="t" r="r" b="b"/>
              <a:pathLst>
                <a:path w="384" h="248">
                  <a:moveTo>
                    <a:pt x="384" y="24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68880" y="5791320"/>
              <a:ext cx="469800" cy="368280"/>
            </a:xfrm>
            <a:custGeom>
              <a:avLst/>
              <a:gdLst/>
              <a:ahLst/>
              <a:rect l="l" t="t" r="r" b="b"/>
              <a:pathLst>
                <a:path w="296" h="232">
                  <a:moveTo>
                    <a:pt x="296" y="0"/>
                  </a:moveTo>
                  <a:lnTo>
                    <a:pt x="0" y="2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49160" y="2019240"/>
            <a:ext cx="488952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1348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346040" y="3174840"/>
            <a:ext cx="4013280" cy="2952360"/>
            <a:chOff x="1346040" y="3174840"/>
            <a:chExt cx="4013280" cy="2952360"/>
          </a:xfrm>
        </p:grpSpPr>
        <p:grpSp>
          <p:nvGrpSpPr>
            <p:cNvPr id="241" name=""/>
            <p:cNvGrpSpPr/>
            <p:nvPr/>
          </p:nvGrpSpPr>
          <p:grpSpPr>
            <a:xfrm>
              <a:off x="4856040" y="3174840"/>
              <a:ext cx="503280" cy="2931480"/>
              <a:chOff x="4856040" y="3174840"/>
              <a:chExt cx="503280" cy="2931480"/>
            </a:xfrm>
          </p:grpSpPr>
          <p:sp>
            <p:nvSpPr>
              <p:cNvPr id="242" name=""/>
              <p:cNvSpPr/>
              <p:nvPr/>
            </p:nvSpPr>
            <p:spPr>
              <a:xfrm>
                <a:off x="4998960" y="5632560"/>
                <a:ext cx="7164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56040" y="56466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41800" y="3174840"/>
                <a:ext cx="180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924360" y="3174840"/>
              <a:ext cx="503280" cy="2937960"/>
              <a:chOff x="3924360" y="3174840"/>
              <a:chExt cx="503280" cy="293796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924360" y="5638680"/>
                <a:ext cx="503280" cy="474120"/>
                <a:chOff x="3924360" y="5638680"/>
                <a:chExt cx="503280" cy="4741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067280" y="5638680"/>
                  <a:ext cx="71280" cy="69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924360" y="565308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102200" y="3174840"/>
                <a:ext cx="144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02040" y="3174840"/>
              <a:ext cx="503280" cy="2939400"/>
              <a:chOff x="3002040" y="3174840"/>
              <a:chExt cx="503280" cy="29394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02040" y="5640480"/>
                <a:ext cx="503280" cy="473760"/>
                <a:chOff x="3002040" y="5640480"/>
                <a:chExt cx="503280" cy="473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144960" y="5640480"/>
                  <a:ext cx="71280" cy="69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002040" y="56545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3174840" y="3174840"/>
                <a:ext cx="180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346040" y="3174840"/>
              <a:ext cx="520920" cy="2952360"/>
              <a:chOff x="1346040" y="3174840"/>
              <a:chExt cx="520920" cy="2952360"/>
            </a:xfrm>
          </p:grpSpPr>
          <p:sp>
            <p:nvSpPr>
              <p:cNvPr id="256" name=""/>
              <p:cNvSpPr/>
              <p:nvPr/>
            </p:nvSpPr>
            <p:spPr>
              <a:xfrm>
                <a:off x="1590840" y="56530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46040" y="5667480"/>
                <a:ext cx="52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38360" y="3174840"/>
                <a:ext cx="144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562608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1508040"/>
            <a:ext cx="29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м точки, в котор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(это нули функ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9392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22520" y="3159000"/>
            <a:ext cx="157932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632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640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640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43680" y="25146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320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12800" y="3124080"/>
            <a:ext cx="3454560" cy="101880"/>
            <a:chOff x="1612800" y="3124080"/>
            <a:chExt cx="3454560" cy="101880"/>
          </a:xfrm>
        </p:grpSpPr>
        <p:sp>
          <p:nvSpPr>
            <p:cNvPr id="269" name=""/>
            <p:cNvSpPr/>
            <p:nvPr/>
          </p:nvSpPr>
          <p:spPr>
            <a:xfrm>
              <a:off x="1612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3704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404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9104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09896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7840" y="320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590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840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25146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8400" y="2552760"/>
            <a:ext cx="7488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1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-8.33333E-007 0.48889 L -0.00121 0.53333 E">
                                      <p:cBhvr>
                                        <p:cTn id="4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-1.94444E-006 0.4 L -0.0026 0.45185 E">
                                      <p:cBhvr>
                                        <p:cTn id="42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6667 L 0 0.38889 E">
                                      <p:cBhvr>
                                        <p:cTn id="71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2.77778E-006 0.26666 L 0.00174 0.28634 E">
                                      <p:cBhvr>
                                        <p:cTn id="95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2.77778E-006 0.28889 L 0.00312 0.38079 E">
                                      <p:cBhvr>
                                        <p:cTn id="119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0.00834 0.21111 L 0.00868 0.28634 E">
                                      <p:cBhvr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33 0.28889 L 0.00833 0.38889 E">
                                      <p:cBhvr>
                                        <p:cTn id="167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6952320" y="1916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400800" y="3500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68360" y="2205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468360" y="4076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68360" y="5013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6836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908000" y="2708280"/>
            <a:ext cx="2160720" cy="576360"/>
          </a:xfrm>
          <a:prstGeom prst="wedgeEllipseCallout">
            <a:avLst>
              <a:gd name="adj1" fmla="val -79314"/>
              <a:gd name="adj2" fmla="val 100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547640" y="4869000"/>
            <a:ext cx="2016360" cy="647640"/>
          </a:xfrm>
          <a:prstGeom prst="wedgeEllipseCallout">
            <a:avLst>
              <a:gd name="adj1" fmla="val -77717"/>
              <a:gd name="adj2" fmla="val 605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692360" y="3716280"/>
            <a:ext cx="2232000" cy="647640"/>
          </a:xfrm>
          <a:prstGeom prst="wedgeEllipseCallout">
            <a:avLst>
              <a:gd name="adj1" fmla="val -77666"/>
              <a:gd name="adj2" fmla="val 7647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ер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950760" y="2127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97992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973440" y="314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979920" y="40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900720" y="5013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>
            <a:hlinkClick r:id="" action="ppaction://hlinkshowjump?jump=endshow"/>
          </p:cNvPr>
          <p:cNvSpPr/>
          <p:nvPr/>
        </p:nvSpPr>
        <p:spPr>
          <a:xfrm>
            <a:off x="8028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3564000" y="5181480"/>
            <a:ext cx="4319280" cy="891720"/>
            <a:chOff x="3564000" y="5181480"/>
            <a:chExt cx="4319280" cy="891720"/>
          </a:xfrm>
        </p:grpSpPr>
        <p:sp>
          <p:nvSpPr>
            <p:cNvPr id="2043" name=""/>
            <p:cNvSpPr/>
            <p:nvPr/>
          </p:nvSpPr>
          <p:spPr>
            <a:xfrm>
              <a:off x="3655080" y="5613480"/>
              <a:ext cx="9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564000" y="518148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55080" y="5613480"/>
              <a:ext cx="42282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6" name=""/>
          <p:cNvSpPr/>
          <p:nvPr/>
        </p:nvSpPr>
        <p:spPr>
          <a:xfrm>
            <a:off x="4716360" y="5734080"/>
            <a:ext cx="1943280" cy="287280"/>
          </a:xfrm>
          <a:custGeom>
            <a:avLst/>
            <a:gdLst/>
            <a:ahLst/>
            <a:rect l="l" t="t" r="r" b="b"/>
            <a:pathLst>
              <a:path w="261" h="236">
                <a:moveTo>
                  <a:pt x="0" y="0"/>
                </a:moveTo>
                <a:lnTo>
                  <a:pt x="261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97680" y="5735520"/>
            <a:ext cx="239760" cy="297000"/>
          </a:xfrm>
          <a:custGeom>
            <a:avLst/>
            <a:gdLst/>
            <a:ahLst/>
            <a:rect l="l" t="t" r="r" b="b"/>
            <a:pathLst>
              <a:path w="151" h="187">
                <a:moveTo>
                  <a:pt x="0" y="187"/>
                </a:moveTo>
                <a:lnTo>
                  <a:pt x="1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395280" y="115920"/>
            <a:ext cx="863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 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а  на промежутке  на промежутке (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На рисунке изображен график ее производной. Найдите длину промежутка убывания эт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2050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8" name=""/>
          <p:cNvSpPr/>
          <p:nvPr/>
        </p:nvSpPr>
        <p:spPr>
          <a:xfrm>
            <a:off x="6859440" y="5110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653080" y="50371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187280" y="1773360"/>
            <a:ext cx="2016360" cy="504720"/>
          </a:xfrm>
          <a:prstGeom prst="wedgeEllipseCallout">
            <a:avLst>
              <a:gd name="adj1" fmla="val -51652"/>
              <a:gd name="adj2" fmla="val 13113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826920" y="5950080"/>
            <a:ext cx="2160720" cy="576000"/>
          </a:xfrm>
          <a:custGeom>
            <a:avLst/>
            <a:gdLst>
              <a:gd name="textAreaLeft" fmla="*/ 37080 w 2160720"/>
              <a:gd name="textAreaRight" fmla="*/ 2123640 w 216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0990" h="21600">
                <a:moveTo>
                  <a:pt x="0" y="0"/>
                </a:moveTo>
                <a:lnTo>
                  <a:pt x="80990" y="0"/>
                </a:lnTo>
                <a:lnTo>
                  <a:pt x="80990" y="21600"/>
                </a:lnTo>
                <a:lnTo>
                  <a:pt x="0" y="21600"/>
                </a:lnTo>
                <a:close/>
              </a:path>
              <a:path fill="lightenLess" w="80990" h="21600">
                <a:moveTo>
                  <a:pt x="0" y="0"/>
                </a:moveTo>
                <a:lnTo>
                  <a:pt x="80990" y="0"/>
                </a:lnTo>
                <a:lnTo>
                  <a:pt x="79590" y="1400"/>
                </a:lnTo>
                <a:lnTo>
                  <a:pt x="1400" y="1400"/>
                </a:lnTo>
                <a:close/>
              </a:path>
              <a:path fill="darken" w="80990" h="21600">
                <a:moveTo>
                  <a:pt x="80990" y="0"/>
                </a:moveTo>
                <a:lnTo>
                  <a:pt x="80990" y="21600"/>
                </a:lnTo>
                <a:lnTo>
                  <a:pt x="79590" y="20200"/>
                </a:lnTo>
                <a:lnTo>
                  <a:pt x="79590" y="1400"/>
                </a:lnTo>
                <a:close/>
              </a:path>
              <a:path fill="darkenLess" w="80990" h="21600">
                <a:moveTo>
                  <a:pt x="80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0" y="20200"/>
                </a:lnTo>
                <a:close/>
              </a:path>
              <a:path fill="lighten" w="80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924360" y="2521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54520" y="447984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848040" y="4200480"/>
            <a:ext cx="4908600" cy="180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841920" y="3914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841920" y="3635280"/>
            <a:ext cx="4933800" cy="1296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3828960" y="335592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924360" y="2803680"/>
            <a:ext cx="4844880" cy="612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854520" y="2244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835440" y="1965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457880" y="2368440"/>
            <a:ext cx="2768400" cy="1801800"/>
          </a:xfrm>
          <a:custGeom>
            <a:avLst/>
            <a:gdLst/>
            <a:ahLst/>
            <a:rect l="l" t="t" r="r" b="b"/>
            <a:pathLst>
              <a:path w="1744" h="1135">
                <a:moveTo>
                  <a:pt x="1744" y="4"/>
                </a:moveTo>
                <a:cubicBezTo>
                  <a:pt x="1731" y="13"/>
                  <a:pt x="1695" y="0"/>
                  <a:pt x="1664" y="76"/>
                </a:cubicBezTo>
                <a:cubicBezTo>
                  <a:pt x="1633" y="152"/>
                  <a:pt x="1609" y="323"/>
                  <a:pt x="1560" y="460"/>
                </a:cubicBezTo>
                <a:cubicBezTo>
                  <a:pt x="1511" y="597"/>
                  <a:pt x="1453" y="865"/>
                  <a:pt x="1368" y="900"/>
                </a:cubicBezTo>
                <a:cubicBezTo>
                  <a:pt x="1283" y="935"/>
                  <a:pt x="1184" y="631"/>
                  <a:pt x="1048" y="668"/>
                </a:cubicBezTo>
                <a:cubicBezTo>
                  <a:pt x="912" y="705"/>
                  <a:pt x="684" y="1135"/>
                  <a:pt x="552" y="1124"/>
                </a:cubicBezTo>
                <a:cubicBezTo>
                  <a:pt x="420" y="1113"/>
                  <a:pt x="348" y="628"/>
                  <a:pt x="256" y="604"/>
                </a:cubicBezTo>
                <a:cubicBezTo>
                  <a:pt x="164" y="580"/>
                  <a:pt x="53" y="902"/>
                  <a:pt x="0" y="9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924360" y="3097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3" name=""/>
          <p:cNvGrpSpPr/>
          <p:nvPr/>
        </p:nvGrpSpPr>
        <p:grpSpPr>
          <a:xfrm>
            <a:off x="3848040" y="1844640"/>
            <a:ext cx="4929120" cy="2736720"/>
            <a:chOff x="3848040" y="1844640"/>
            <a:chExt cx="4929120" cy="2736720"/>
          </a:xfrm>
        </p:grpSpPr>
        <p:sp>
          <p:nvSpPr>
            <p:cNvPr id="2074" name=""/>
            <p:cNvSpPr/>
            <p:nvPr/>
          </p:nvSpPr>
          <p:spPr>
            <a:xfrm>
              <a:off x="3848040" y="1851120"/>
              <a:ext cx="3240" cy="2713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775720" y="1865160"/>
              <a:ext cx="1440" cy="268272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8464680" y="1857960"/>
              <a:ext cx="6120" cy="2713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153280" y="1857960"/>
              <a:ext cx="6480" cy="27104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848720" y="1857960"/>
              <a:ext cx="1440" cy="270360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537320" y="1854720"/>
              <a:ext cx="6480" cy="2713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3680" y="1851120"/>
              <a:ext cx="22320" cy="272988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921360" y="1865160"/>
              <a:ext cx="6480" cy="270324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616800" y="1865160"/>
              <a:ext cx="1440" cy="269640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994360" y="1844640"/>
              <a:ext cx="17640" cy="27367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89440" y="1857960"/>
              <a:ext cx="1800" cy="271368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384880" y="1861560"/>
              <a:ext cx="6120" cy="27068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067360" y="1857960"/>
              <a:ext cx="12600" cy="270720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768920" y="1857960"/>
              <a:ext cx="6120" cy="27072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000" y="1857960"/>
              <a:ext cx="1800" cy="271368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52960" y="1857960"/>
              <a:ext cx="1440" cy="270720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6300720" y="1859400"/>
              <a:ext cx="0" cy="271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1" name=""/>
          <p:cNvSpPr/>
          <p:nvPr/>
        </p:nvSpPr>
        <p:spPr>
          <a:xfrm>
            <a:off x="6516720" y="309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442920" y="3097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996720" y="302580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013800" y="1806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013800" y="3170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7164360" y="234936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7" name=""/>
          <p:cNvGrpSpPr/>
          <p:nvPr/>
        </p:nvGrpSpPr>
        <p:grpSpPr>
          <a:xfrm>
            <a:off x="7176960" y="5241960"/>
            <a:ext cx="503280" cy="459720"/>
            <a:chOff x="7176960" y="5241960"/>
            <a:chExt cx="503280" cy="459720"/>
          </a:xfrm>
        </p:grpSpPr>
        <p:sp>
          <p:nvSpPr>
            <p:cNvPr id="2098" name=""/>
            <p:cNvSpPr/>
            <p:nvPr/>
          </p:nvSpPr>
          <p:spPr>
            <a:xfrm>
              <a:off x="7192800" y="5589720"/>
              <a:ext cx="86040" cy="9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176960" y="52419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"/>
          <p:cNvSpPr/>
          <p:nvPr/>
        </p:nvSpPr>
        <p:spPr>
          <a:xfrm>
            <a:off x="4420080" y="531324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IIIIIIIIIIIIIIIIIIIIIIIIIIIIIIIII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02028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8606160" y="26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4470480" y="2421000"/>
            <a:ext cx="2768400" cy="3225600"/>
            <a:chOff x="4470480" y="2421000"/>
            <a:chExt cx="2768400" cy="3225600"/>
          </a:xfrm>
        </p:grpSpPr>
        <p:sp>
          <p:nvSpPr>
            <p:cNvPr id="2104" name=""/>
            <p:cNvSpPr/>
            <p:nvPr/>
          </p:nvSpPr>
          <p:spPr>
            <a:xfrm>
              <a:off x="7216920" y="2421000"/>
              <a:ext cx="21960" cy="3179880"/>
            </a:xfrm>
            <a:custGeom>
              <a:avLst/>
              <a:gdLst/>
              <a:ahLst/>
              <a:rect l="l" t="t" r="r" b="b"/>
              <a:pathLst>
                <a:path w="14" h="2003">
                  <a:moveTo>
                    <a:pt x="0" y="0"/>
                  </a:moveTo>
                  <a:lnTo>
                    <a:pt x="14" y="2003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470480" y="3060720"/>
              <a:ext cx="1440" cy="2585880"/>
            </a:xfrm>
            <a:custGeom>
              <a:avLst/>
              <a:gdLst/>
              <a:ahLst/>
              <a:rect l="l" t="t" r="r" b="b"/>
              <a:pathLst>
                <a:path w="1" h="1629">
                  <a:moveTo>
                    <a:pt x="0" y="0"/>
                  </a:moveTo>
                  <a:lnTo>
                    <a:pt x="0" y="1629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921360" y="3095640"/>
              <a:ext cx="14400" cy="2543040"/>
            </a:xfrm>
            <a:custGeom>
              <a:avLst/>
              <a:gdLst/>
              <a:ahLst/>
              <a:rect l="l" t="t" r="r" b="b"/>
              <a:pathLst>
                <a:path w="9" h="1602">
                  <a:moveTo>
                    <a:pt x="9" y="0"/>
                  </a:moveTo>
                  <a:lnTo>
                    <a:pt x="0" y="1602"/>
                  </a:lnTo>
                </a:path>
              </a:pathLst>
            </a:custGeom>
            <a:noFill/>
            <a:ln w="19080">
              <a:solidFill>
                <a:srgbClr val="66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4427640" y="386064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4187880" y="5575320"/>
            <a:ext cx="503280" cy="497880"/>
            <a:chOff x="4187880" y="5575320"/>
            <a:chExt cx="503280" cy="497880"/>
          </a:xfrm>
        </p:grpSpPr>
        <p:sp>
          <p:nvSpPr>
            <p:cNvPr id="2109" name=""/>
            <p:cNvSpPr/>
            <p:nvPr/>
          </p:nvSpPr>
          <p:spPr>
            <a:xfrm>
              <a:off x="4432320" y="5575320"/>
              <a:ext cx="86040" cy="9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187880" y="5613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6745320" y="5584680"/>
            <a:ext cx="503280" cy="474120"/>
            <a:chOff x="6745320" y="5584680"/>
            <a:chExt cx="503280" cy="474120"/>
          </a:xfrm>
        </p:grpSpPr>
        <p:sp>
          <p:nvSpPr>
            <p:cNvPr id="2112" name=""/>
            <p:cNvSpPr/>
            <p:nvPr/>
          </p:nvSpPr>
          <p:spPr>
            <a:xfrm>
              <a:off x="6888240" y="558468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745320" y="55990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6870600" y="3040200"/>
            <a:ext cx="103320" cy="11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restart="whenNotActive" nodeType="interactiveSeq" fill="hold">
                <p:stCondLst>
                  <p:cond evt="onClick">
                    <p:tgtEl>
                      <p:spTgt spid="2029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2029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2032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2032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500"/>
                            </p:stCondLst>
                            <p:childTnLst>
                              <p:par>
                                <p:cTn id="150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7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7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9" restart="whenNotActive" nodeType="interactiveSeq" fill="hold">
                <p:stCondLst>
                  <p:cond evt="onClick">
                    <p:tgtEl>
                      <p:spTgt spid="2030"/>
                    </p:tgtEl>
                  </p:cond>
                </p:stCondLst>
                <p:childTnLst>
                  <p:par>
                    <p:cTn id="1520" fill="hold">
                      <p:stCondLst>
                        <p:cond evt="onClick">
                          <p:tgtEl>
                            <p:spTgt spid="2030"/>
                          </p:tgtEl>
                        </p:cond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2061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2061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evt="onClick">
                          <p:tgtEl>
                            <p:spTgt spid="2061"/>
                          </p:tgtEl>
                        </p:cond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10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118120" y="2003400"/>
            <a:ext cx="63828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7000" y="5248440"/>
            <a:ext cx="6600240" cy="891360"/>
            <a:chOff x="27000" y="5248440"/>
            <a:chExt cx="6600240" cy="891360"/>
          </a:xfrm>
        </p:grpSpPr>
        <p:sp>
          <p:nvSpPr>
            <p:cNvPr id="281" name=""/>
            <p:cNvSpPr/>
            <p:nvPr/>
          </p:nvSpPr>
          <p:spPr>
            <a:xfrm>
              <a:off x="1350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0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00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73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39640" y="1872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о этой схеме мы можем дать ответы на многие вопросы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60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73560" y="3581280"/>
            <a:ext cx="390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" y="42814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43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14320" y="3716280"/>
            <a:ext cx="493416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1720" y="343692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325600"/>
            <a:ext cx="492156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820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967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20800" y="1638360"/>
            <a:ext cx="4929120" cy="3024000"/>
            <a:chOff x="820800" y="1638360"/>
            <a:chExt cx="4929120" cy="3024000"/>
          </a:xfrm>
        </p:grpSpPr>
        <p:sp>
          <p:nvSpPr>
            <p:cNvPr id="297" name=""/>
            <p:cNvSpPr/>
            <p:nvPr/>
          </p:nvSpPr>
          <p:spPr>
            <a:xfrm>
              <a:off x="8208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84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74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260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214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100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864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41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95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671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622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576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01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16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67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57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2734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489480" y="317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568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568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656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592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926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312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404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23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928800" y="5767560"/>
            <a:ext cx="4800600" cy="404640"/>
            <a:chOff x="928800" y="5767560"/>
            <a:chExt cx="4800600" cy="404640"/>
          </a:xfrm>
        </p:grpSpPr>
        <p:sp>
          <p:nvSpPr>
            <p:cNvPr id="332" name=""/>
            <p:cNvSpPr/>
            <p:nvPr/>
          </p:nvSpPr>
          <p:spPr>
            <a:xfrm>
              <a:off x="3445200" y="580392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59" y="0"/>
                  </a:moveTo>
                  <a:lnTo>
                    <a:pt x="0" y="2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0960" y="5767560"/>
              <a:ext cx="1141560" cy="3920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9" y="24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28800" y="5778360"/>
              <a:ext cx="60984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0"/>
                  </a:move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83360" y="5778360"/>
              <a:ext cx="609480" cy="393840"/>
            </a:xfrm>
            <a:custGeom>
              <a:avLst/>
              <a:gdLst/>
              <a:ahLst/>
              <a:rect l="l" t="t" r="r" b="b"/>
              <a:pathLst>
                <a:path w="384" h="248">
                  <a:moveTo>
                    <a:pt x="384" y="24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59600" y="5791320"/>
              <a:ext cx="469800" cy="368280"/>
            </a:xfrm>
            <a:custGeom>
              <a:avLst/>
              <a:gdLst/>
              <a:ahLst/>
              <a:rect l="l" t="t" r="r" b="b"/>
              <a:pathLst>
                <a:path w="296" h="232">
                  <a:moveTo>
                    <a:pt x="296" y="0"/>
                  </a:moveTo>
                  <a:lnTo>
                    <a:pt x="0" y="2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39880" y="2019240"/>
            <a:ext cx="488952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038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436760" y="3174840"/>
            <a:ext cx="4013280" cy="2952360"/>
            <a:chOff x="1436760" y="3174840"/>
            <a:chExt cx="4013280" cy="2952360"/>
          </a:xfrm>
        </p:grpSpPr>
        <p:grpSp>
          <p:nvGrpSpPr>
            <p:cNvPr id="340" name=""/>
            <p:cNvGrpSpPr/>
            <p:nvPr/>
          </p:nvGrpSpPr>
          <p:grpSpPr>
            <a:xfrm>
              <a:off x="4946760" y="3174840"/>
              <a:ext cx="503280" cy="2931480"/>
              <a:chOff x="4946760" y="3174840"/>
              <a:chExt cx="503280" cy="2931480"/>
            </a:xfrm>
          </p:grpSpPr>
          <p:sp>
            <p:nvSpPr>
              <p:cNvPr id="341" name=""/>
              <p:cNvSpPr/>
              <p:nvPr/>
            </p:nvSpPr>
            <p:spPr>
              <a:xfrm>
                <a:off x="5089680" y="5632560"/>
                <a:ext cx="7164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46760" y="56466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32520" y="3174840"/>
                <a:ext cx="180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015080" y="3174840"/>
              <a:ext cx="503280" cy="2937960"/>
              <a:chOff x="4015080" y="3174840"/>
              <a:chExt cx="503280" cy="293796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4015080" y="5638680"/>
                <a:ext cx="503280" cy="474120"/>
                <a:chOff x="4015080" y="5638680"/>
                <a:chExt cx="503280" cy="474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158000" y="5638680"/>
                  <a:ext cx="71280" cy="69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015080" y="565308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192920" y="3174840"/>
                <a:ext cx="144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092760" y="3174840"/>
              <a:ext cx="503280" cy="2939400"/>
              <a:chOff x="3092760" y="3174840"/>
              <a:chExt cx="503280" cy="293940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092760" y="5640480"/>
                <a:ext cx="503280" cy="473760"/>
                <a:chOff x="3092760" y="5640480"/>
                <a:chExt cx="503280" cy="4737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235680" y="5640480"/>
                  <a:ext cx="71280" cy="69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092760" y="56545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3265560" y="3174840"/>
                <a:ext cx="180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436760" y="3174840"/>
              <a:ext cx="520920" cy="2952360"/>
              <a:chOff x="1436760" y="3174840"/>
              <a:chExt cx="520920" cy="2952360"/>
            </a:xfrm>
          </p:grpSpPr>
          <p:sp>
            <p:nvSpPr>
              <p:cNvPr id="355" name=""/>
              <p:cNvSpPr/>
              <p:nvPr/>
            </p:nvSpPr>
            <p:spPr>
              <a:xfrm>
                <a:off x="1681560" y="56530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36760" y="5667480"/>
                <a:ext cx="52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29080" y="3174840"/>
                <a:ext cx="1440" cy="251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572940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4640" y="2181240"/>
            <a:ext cx="94608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128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7040" y="2130480"/>
            <a:ext cx="100152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967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967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958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703520" y="3124080"/>
            <a:ext cx="3453840" cy="101880"/>
            <a:chOff x="1703520" y="3124080"/>
            <a:chExt cx="3453840" cy="101880"/>
          </a:xfrm>
        </p:grpSpPr>
        <p:sp>
          <p:nvSpPr>
            <p:cNvPr id="367" name=""/>
            <p:cNvSpPr/>
            <p:nvPr/>
          </p:nvSpPr>
          <p:spPr>
            <a:xfrm>
              <a:off x="1703520" y="31370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7400" y="314964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4400" y="31240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81400" y="31370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1893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337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4340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89120" y="25653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810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524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6120" y="86364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уйте функцию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экстремум и укажите количество ее точек миним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59400" y="380988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точки экстрему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11320" y="464832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точки миним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860360" y="4694760"/>
            <a:ext cx="853920" cy="1173600"/>
            <a:chOff x="4860360" y="4694760"/>
            <a:chExt cx="853920" cy="1173600"/>
          </a:xfrm>
        </p:grpSpPr>
        <p:sp>
          <p:nvSpPr>
            <p:cNvPr id="381" name=""/>
            <p:cNvSpPr/>
            <p:nvPr/>
          </p:nvSpPr>
          <p:spPr>
            <a:xfrm>
              <a:off x="4860360" y="504324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 rot="19933200">
              <a:off x="4983120" y="480024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88720" y="4771080"/>
            <a:ext cx="853920" cy="1173600"/>
            <a:chOff x="2988720" y="4771080"/>
            <a:chExt cx="853920" cy="1173600"/>
          </a:xfrm>
        </p:grpSpPr>
        <p:sp>
          <p:nvSpPr>
            <p:cNvPr id="384" name=""/>
            <p:cNvSpPr/>
            <p:nvPr/>
          </p:nvSpPr>
          <p:spPr>
            <a:xfrm>
              <a:off x="2988720" y="511956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 rot="19933200">
              <a:off x="3111480" y="487656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614600" y="5372280"/>
            <a:ext cx="3643920" cy="342720"/>
            <a:chOff x="1614600" y="5372280"/>
            <a:chExt cx="3643920" cy="342720"/>
          </a:xfrm>
        </p:grpSpPr>
        <p:grpSp>
          <p:nvGrpSpPr>
            <p:cNvPr id="387" name=""/>
            <p:cNvGrpSpPr/>
            <p:nvPr/>
          </p:nvGrpSpPr>
          <p:grpSpPr>
            <a:xfrm>
              <a:off x="1614600" y="5410080"/>
              <a:ext cx="227880" cy="304920"/>
              <a:chOff x="1614600" y="5410080"/>
              <a:chExt cx="227880" cy="30492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614600" y="5613480"/>
                <a:ext cx="192240" cy="101520"/>
                <a:chOff x="1614600" y="5613480"/>
                <a:chExt cx="192240" cy="1015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614600" y="563364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640880" y="562356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58160" y="561348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1710360" y="5410080"/>
                <a:ext cx="13212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63680" y="5372280"/>
              <a:ext cx="227880" cy="304560"/>
              <a:chOff x="3163680" y="5372280"/>
              <a:chExt cx="227880" cy="3045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163680" y="5575320"/>
                <a:ext cx="192240" cy="101520"/>
                <a:chOff x="3163680" y="5575320"/>
                <a:chExt cx="192240" cy="1015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163680" y="559548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189960" y="55854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207240" y="557532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3259440" y="5372280"/>
                <a:ext cx="13212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091040" y="5384880"/>
              <a:ext cx="227880" cy="304560"/>
              <a:chOff x="4091040" y="5384880"/>
              <a:chExt cx="227880" cy="3045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4091040" y="5587920"/>
                <a:ext cx="192240" cy="101520"/>
                <a:chOff x="4091040" y="5587920"/>
                <a:chExt cx="192240" cy="1015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91040" y="560808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117320" y="55980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134600" y="558792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4186800" y="5384880"/>
                <a:ext cx="13212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030640" y="5384880"/>
              <a:ext cx="227880" cy="304560"/>
              <a:chOff x="5030640" y="5384880"/>
              <a:chExt cx="227880" cy="30456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5030640" y="5587920"/>
                <a:ext cx="192240" cy="101520"/>
                <a:chOff x="5030640" y="5587920"/>
                <a:chExt cx="192240" cy="1015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5030640" y="560808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056920" y="55980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074200" y="558792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5126400" y="5384880"/>
                <a:ext cx="13212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700200" y="52578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767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205240" y="2003400"/>
            <a:ext cx="63828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6320" y="5248440"/>
            <a:ext cx="6600240" cy="891360"/>
            <a:chOff x="76320" y="5248440"/>
            <a:chExt cx="6600240" cy="891360"/>
          </a:xfrm>
        </p:grpSpPr>
        <p:sp>
          <p:nvSpPr>
            <p:cNvPr id="415" name=""/>
            <p:cNvSpPr/>
            <p:nvPr/>
          </p:nvSpPr>
          <p:spPr>
            <a:xfrm>
              <a:off x="18432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32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936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2664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2348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6068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07920" y="42814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0180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0180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9532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07920" y="1638360"/>
            <a:ext cx="4929120" cy="3024000"/>
            <a:chOff x="907920" y="1638360"/>
            <a:chExt cx="4929120" cy="3024000"/>
          </a:xfrm>
        </p:grpSpPr>
        <p:sp>
          <p:nvSpPr>
            <p:cNvPr id="429" name=""/>
            <p:cNvSpPr/>
            <p:nvPr/>
          </p:nvSpPr>
          <p:spPr>
            <a:xfrm>
              <a:off x="90792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3560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2456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1316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0860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9720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7356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124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7668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5424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4932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4476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2724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80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2388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284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36060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07368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668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8016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81868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1116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452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015920" y="5767560"/>
            <a:ext cx="4800600" cy="404640"/>
            <a:chOff x="1015920" y="5767560"/>
            <a:chExt cx="4800600" cy="404640"/>
          </a:xfrm>
        </p:grpSpPr>
        <p:sp>
          <p:nvSpPr>
            <p:cNvPr id="461" name=""/>
            <p:cNvSpPr/>
            <p:nvPr/>
          </p:nvSpPr>
          <p:spPr>
            <a:xfrm>
              <a:off x="3532320" y="580392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59" y="0"/>
                  </a:moveTo>
                  <a:lnTo>
                    <a:pt x="0" y="2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8080" y="5767560"/>
              <a:ext cx="1141560" cy="3920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9" y="24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5778360"/>
              <a:ext cx="60984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0"/>
                  </a:move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70480" y="5778360"/>
              <a:ext cx="609480" cy="393840"/>
            </a:xfrm>
            <a:custGeom>
              <a:avLst/>
              <a:gdLst/>
              <a:ahLst/>
              <a:rect l="l" t="t" r="r" b="b"/>
              <a:pathLst>
                <a:path w="384" h="248">
                  <a:moveTo>
                    <a:pt x="384" y="24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46720" y="5791320"/>
              <a:ext cx="469800" cy="368280"/>
            </a:xfrm>
            <a:custGeom>
              <a:avLst/>
              <a:gdLst/>
              <a:ahLst/>
              <a:rect l="l" t="t" r="r" b="b"/>
              <a:pathLst>
                <a:path w="296" h="232">
                  <a:moveTo>
                    <a:pt x="296" y="0"/>
                  </a:moveTo>
                  <a:lnTo>
                    <a:pt x="0" y="2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927000" y="2019240"/>
            <a:ext cx="488952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9132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1652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71760" y="2181240"/>
            <a:ext cx="94608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00360" y="3159000"/>
            <a:ext cx="157932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8416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8424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83360" y="51814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11560" y="52578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7680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212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3052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68560" y="52578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3996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76212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очку экстремума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6; 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669000" y="4419720"/>
            <a:ext cx="208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564560" y="4529520"/>
            <a:ext cx="853920" cy="1173600"/>
            <a:chOff x="1564560" y="4529520"/>
            <a:chExt cx="853920" cy="1173600"/>
          </a:xfrm>
        </p:grpSpPr>
        <p:sp>
          <p:nvSpPr>
            <p:cNvPr id="484" name=""/>
            <p:cNvSpPr/>
            <p:nvPr/>
          </p:nvSpPr>
          <p:spPr>
            <a:xfrm>
              <a:off x="1564560" y="4878000"/>
              <a:ext cx="85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 rot="19933200">
              <a:off x="1687320" y="463500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ax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33880" y="3174840"/>
            <a:ext cx="503280" cy="2931480"/>
            <a:chOff x="5033880" y="3174840"/>
            <a:chExt cx="503280" cy="2931480"/>
          </a:xfrm>
        </p:grpSpPr>
        <p:sp>
          <p:nvSpPr>
            <p:cNvPr id="487" name=""/>
            <p:cNvSpPr/>
            <p:nvPr/>
          </p:nvSpPr>
          <p:spPr>
            <a:xfrm>
              <a:off x="517680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3388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1964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102200" y="3174840"/>
            <a:ext cx="503280" cy="2937960"/>
            <a:chOff x="4102200" y="3174840"/>
            <a:chExt cx="503280" cy="2937960"/>
          </a:xfrm>
        </p:grpSpPr>
        <p:grpSp>
          <p:nvGrpSpPr>
            <p:cNvPr id="491" name=""/>
            <p:cNvGrpSpPr/>
            <p:nvPr/>
          </p:nvGrpSpPr>
          <p:grpSpPr>
            <a:xfrm>
              <a:off x="4102200" y="5638680"/>
              <a:ext cx="503280" cy="474120"/>
              <a:chOff x="4102200" y="5638680"/>
              <a:chExt cx="503280" cy="474120"/>
            </a:xfrm>
          </p:grpSpPr>
          <p:sp>
            <p:nvSpPr>
              <p:cNvPr id="492" name=""/>
              <p:cNvSpPr/>
              <p:nvPr/>
            </p:nvSpPr>
            <p:spPr>
              <a:xfrm>
                <a:off x="424512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10220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428004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179880" y="3174840"/>
            <a:ext cx="503280" cy="2939400"/>
            <a:chOff x="3179880" y="3174840"/>
            <a:chExt cx="503280" cy="2939400"/>
          </a:xfrm>
        </p:grpSpPr>
        <p:grpSp>
          <p:nvGrpSpPr>
            <p:cNvPr id="496" name=""/>
            <p:cNvGrpSpPr/>
            <p:nvPr/>
          </p:nvGrpSpPr>
          <p:grpSpPr>
            <a:xfrm>
              <a:off x="3179880" y="5640480"/>
              <a:ext cx="503280" cy="473760"/>
              <a:chOff x="3179880" y="5640480"/>
              <a:chExt cx="503280" cy="473760"/>
            </a:xfrm>
          </p:grpSpPr>
          <p:sp>
            <p:nvSpPr>
              <p:cNvPr id="497" name=""/>
              <p:cNvSpPr/>
              <p:nvPr/>
            </p:nvSpPr>
            <p:spPr>
              <a:xfrm>
                <a:off x="332280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7988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35268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81620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88840" y="343692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8424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7660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280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4400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8424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47920" y="2870280"/>
            <a:ext cx="1752480" cy="342720"/>
            <a:chOff x="1447920" y="2870280"/>
            <a:chExt cx="1752480" cy="342720"/>
          </a:xfrm>
        </p:grpSpPr>
        <p:grpSp>
          <p:nvGrpSpPr>
            <p:cNvPr id="508" name=""/>
            <p:cNvGrpSpPr/>
            <p:nvPr/>
          </p:nvGrpSpPr>
          <p:grpSpPr>
            <a:xfrm>
              <a:off x="1498680" y="3124080"/>
              <a:ext cx="1611360" cy="88920"/>
              <a:chOff x="1498680" y="3124080"/>
              <a:chExt cx="1611360" cy="88920"/>
            </a:xfrm>
          </p:grpSpPr>
          <p:sp>
            <p:nvSpPr>
              <p:cNvPr id="509" name=""/>
              <p:cNvSpPr/>
              <p:nvPr/>
            </p:nvSpPr>
            <p:spPr>
              <a:xfrm>
                <a:off x="1498680" y="3137040"/>
                <a:ext cx="74520" cy="7596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35520" y="3124080"/>
                <a:ext cx="74520" cy="763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1549440" y="3176280"/>
                <a:ext cx="1523880" cy="1116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2971800" y="2895480"/>
              <a:ext cx="228600" cy="304920"/>
              <a:chOff x="2971800" y="2895480"/>
              <a:chExt cx="228600" cy="30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2971800" y="3098880"/>
                <a:ext cx="192600" cy="101520"/>
                <a:chOff x="2971800" y="3098880"/>
                <a:chExt cx="192600" cy="1015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2971800" y="3119040"/>
                  <a:ext cx="19260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998080" y="310896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015360" y="3098880"/>
                  <a:ext cx="10512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3067920" y="2895480"/>
                <a:ext cx="13248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447920" y="2870280"/>
              <a:ext cx="228600" cy="304560"/>
              <a:chOff x="1447920" y="2870280"/>
              <a:chExt cx="228600" cy="30456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1447920" y="3073320"/>
                <a:ext cx="192600" cy="101520"/>
                <a:chOff x="1447920" y="3073320"/>
                <a:chExt cx="192600" cy="1015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447920" y="3093480"/>
                  <a:ext cx="19260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474200" y="30834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491480" y="3073320"/>
                  <a:ext cx="10512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1544040" y="2870280"/>
                <a:ext cx="13248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1523880" y="5653080"/>
            <a:ext cx="520920" cy="474120"/>
            <a:chOff x="1523880" y="5653080"/>
            <a:chExt cx="520920" cy="474120"/>
          </a:xfrm>
        </p:grpSpPr>
        <p:sp>
          <p:nvSpPr>
            <p:cNvPr id="525" name=""/>
            <p:cNvSpPr/>
            <p:nvPr/>
          </p:nvSpPr>
          <p:spPr>
            <a:xfrm>
              <a:off x="1768680" y="565308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3880" y="566748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8732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64240" y="52578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790640" y="3124080"/>
            <a:ext cx="3454560" cy="101880"/>
            <a:chOff x="1790640" y="3124080"/>
            <a:chExt cx="3454560" cy="101880"/>
          </a:xfrm>
        </p:grpSpPr>
        <p:sp>
          <p:nvSpPr>
            <p:cNvPr id="530" name=""/>
            <p:cNvSpPr/>
            <p:nvPr/>
          </p:nvSpPr>
          <p:spPr>
            <a:xfrm>
              <a:off x="179064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1488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4188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6888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1.11111E-006 0.28889 L -1.11111E-006 0.36666 E">
                                      <p:cBhvr>
                                        <p:cTn id="233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205240" y="2003400"/>
            <a:ext cx="63828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76320" y="5248440"/>
            <a:ext cx="6600240" cy="891360"/>
            <a:chOff x="76320" y="5248440"/>
            <a:chExt cx="6600240" cy="891360"/>
          </a:xfrm>
        </p:grpSpPr>
        <p:sp>
          <p:nvSpPr>
            <p:cNvPr id="536" name=""/>
            <p:cNvSpPr/>
            <p:nvPr/>
          </p:nvSpPr>
          <p:spPr>
            <a:xfrm>
              <a:off x="18432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32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936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664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2348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6068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07920" y="42814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0180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180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532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07920" y="1638360"/>
            <a:ext cx="4929120" cy="3024000"/>
            <a:chOff x="907920" y="1638360"/>
            <a:chExt cx="4929120" cy="3024000"/>
          </a:xfrm>
        </p:grpSpPr>
        <p:sp>
          <p:nvSpPr>
            <p:cNvPr id="550" name=""/>
            <p:cNvSpPr/>
            <p:nvPr/>
          </p:nvSpPr>
          <p:spPr>
            <a:xfrm>
              <a:off x="90792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560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2456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1316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0860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9720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7356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124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7668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5424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932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4476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2724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2880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388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284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36060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7368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4668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8016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1868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1116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573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015920" y="5767560"/>
            <a:ext cx="4800600" cy="404640"/>
            <a:chOff x="1015920" y="5767560"/>
            <a:chExt cx="4800600" cy="404640"/>
          </a:xfrm>
        </p:grpSpPr>
        <p:sp>
          <p:nvSpPr>
            <p:cNvPr id="582" name=""/>
            <p:cNvSpPr/>
            <p:nvPr/>
          </p:nvSpPr>
          <p:spPr>
            <a:xfrm>
              <a:off x="3532320" y="580392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59" y="0"/>
                  </a:moveTo>
                  <a:lnTo>
                    <a:pt x="0" y="2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08080" y="5767560"/>
              <a:ext cx="1141560" cy="392040"/>
            </a:xfrm>
            <a:custGeom>
              <a:avLst/>
              <a:gdLst/>
              <a:ahLst/>
              <a:rect l="l" t="t" r="r" b="b"/>
              <a:pathLst>
                <a:path w="719" h="247">
                  <a:moveTo>
                    <a:pt x="719" y="24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15920" y="5778360"/>
              <a:ext cx="60984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0"/>
                  </a:move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70480" y="5778360"/>
              <a:ext cx="609480" cy="393840"/>
            </a:xfrm>
            <a:custGeom>
              <a:avLst/>
              <a:gdLst/>
              <a:ahLst/>
              <a:rect l="l" t="t" r="r" b="b"/>
              <a:pathLst>
                <a:path w="384" h="248">
                  <a:moveTo>
                    <a:pt x="384" y="24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46720" y="5791320"/>
              <a:ext cx="469800" cy="368280"/>
            </a:xfrm>
            <a:custGeom>
              <a:avLst/>
              <a:gdLst/>
              <a:ahLst/>
              <a:rect l="l" t="t" r="r" b="b"/>
              <a:pathLst>
                <a:path w="296" h="232">
                  <a:moveTo>
                    <a:pt x="296" y="0"/>
                  </a:moveTo>
                  <a:lnTo>
                    <a:pt x="0" y="23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927000" y="2019240"/>
            <a:ext cx="488952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9132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1652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71760" y="2181240"/>
            <a:ext cx="94608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00360" y="3159000"/>
            <a:ext cx="157932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8416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8424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83360" y="51814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11560" y="52578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7680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212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3052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7624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68560" y="52578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3996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28800" y="6094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личество точек экстремума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3;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54960" y="44197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1620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88840" y="343692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8424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7660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280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4400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8424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362320" y="2895480"/>
            <a:ext cx="3276360" cy="304920"/>
            <a:chOff x="2362320" y="2895480"/>
            <a:chExt cx="3276360" cy="304920"/>
          </a:xfrm>
        </p:grpSpPr>
        <p:sp>
          <p:nvSpPr>
            <p:cNvPr id="612" name=""/>
            <p:cNvSpPr/>
            <p:nvPr/>
          </p:nvSpPr>
          <p:spPr>
            <a:xfrm>
              <a:off x="2425680" y="3174840"/>
              <a:ext cx="3073320" cy="1800"/>
            </a:xfrm>
            <a:custGeom>
              <a:avLst/>
              <a:gdLst/>
              <a:ahLst/>
              <a:rect l="l" t="t" r="r" b="b"/>
              <a:pathLst>
                <a:path w="1936" h="1">
                  <a:moveTo>
                    <a:pt x="0" y="0"/>
                  </a:moveTo>
                  <a:lnTo>
                    <a:pt x="1936" y="0"/>
                  </a:ln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5410080" y="2895480"/>
              <a:ext cx="228600" cy="304920"/>
              <a:chOff x="5410080" y="2895480"/>
              <a:chExt cx="228600" cy="30492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410080" y="3098880"/>
                <a:ext cx="192600" cy="101520"/>
                <a:chOff x="5410080" y="3098880"/>
                <a:chExt cx="192600" cy="1015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410080" y="3119040"/>
                  <a:ext cx="19260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436360" y="310896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453640" y="3098880"/>
                  <a:ext cx="10512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506200" y="2895480"/>
                <a:ext cx="13248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362320" y="2895480"/>
              <a:ext cx="228600" cy="304920"/>
              <a:chOff x="2362320" y="2895480"/>
              <a:chExt cx="228600" cy="30492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362320" y="3098880"/>
                <a:ext cx="192600" cy="101520"/>
                <a:chOff x="2362320" y="3098880"/>
                <a:chExt cx="192600" cy="1015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362320" y="3119040"/>
                  <a:ext cx="19260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388600" y="310896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405880" y="3098880"/>
                  <a:ext cx="10512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2458440" y="2895480"/>
                <a:ext cx="132480" cy="224280"/>
              </a:xfrm>
              <a:custGeom>
                <a:avLst/>
                <a:gdLst/>
                <a:ahLst/>
                <a:rect l="l" t="t" r="r" b="b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1523880" y="5653080"/>
            <a:ext cx="520920" cy="474120"/>
            <a:chOff x="1523880" y="5653080"/>
            <a:chExt cx="520920" cy="474120"/>
          </a:xfrm>
        </p:grpSpPr>
        <p:sp>
          <p:nvSpPr>
            <p:cNvPr id="626" name=""/>
            <p:cNvSpPr/>
            <p:nvPr/>
          </p:nvSpPr>
          <p:spPr>
            <a:xfrm>
              <a:off x="1768680" y="5653080"/>
              <a:ext cx="7128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23880" y="5667480"/>
              <a:ext cx="5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8732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64240" y="52578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033880" y="3174840"/>
            <a:ext cx="503280" cy="2931480"/>
            <a:chOff x="5033880" y="3174840"/>
            <a:chExt cx="503280" cy="2931480"/>
          </a:xfrm>
        </p:grpSpPr>
        <p:sp>
          <p:nvSpPr>
            <p:cNvPr id="631" name=""/>
            <p:cNvSpPr/>
            <p:nvPr/>
          </p:nvSpPr>
          <p:spPr>
            <a:xfrm>
              <a:off x="517680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388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1964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102200" y="3174840"/>
            <a:ext cx="503280" cy="2937960"/>
            <a:chOff x="4102200" y="3174840"/>
            <a:chExt cx="503280" cy="2937960"/>
          </a:xfrm>
        </p:grpSpPr>
        <p:grpSp>
          <p:nvGrpSpPr>
            <p:cNvPr id="635" name=""/>
            <p:cNvGrpSpPr/>
            <p:nvPr/>
          </p:nvGrpSpPr>
          <p:grpSpPr>
            <a:xfrm>
              <a:off x="4102200" y="5638680"/>
              <a:ext cx="503280" cy="474120"/>
              <a:chOff x="4102200" y="5638680"/>
              <a:chExt cx="503280" cy="474120"/>
            </a:xfrm>
          </p:grpSpPr>
          <p:sp>
            <p:nvSpPr>
              <p:cNvPr id="636" name=""/>
              <p:cNvSpPr/>
              <p:nvPr/>
            </p:nvSpPr>
            <p:spPr>
              <a:xfrm>
                <a:off x="424512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0220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428004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179880" y="3174840"/>
            <a:ext cx="503280" cy="2939400"/>
            <a:chOff x="3179880" y="3174840"/>
            <a:chExt cx="503280" cy="2939400"/>
          </a:xfrm>
        </p:grpSpPr>
        <p:grpSp>
          <p:nvGrpSpPr>
            <p:cNvPr id="640" name=""/>
            <p:cNvGrpSpPr/>
            <p:nvPr/>
          </p:nvGrpSpPr>
          <p:grpSpPr>
            <a:xfrm>
              <a:off x="3179880" y="5640480"/>
              <a:ext cx="503280" cy="473760"/>
              <a:chOff x="3179880" y="5640480"/>
              <a:chExt cx="503280" cy="473760"/>
            </a:xfrm>
          </p:grpSpPr>
          <p:sp>
            <p:nvSpPr>
              <p:cNvPr id="641" name=""/>
              <p:cNvSpPr/>
              <p:nvPr/>
            </p:nvSpPr>
            <p:spPr>
              <a:xfrm>
                <a:off x="332280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7988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335268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1790640" y="3124080"/>
            <a:ext cx="3454560" cy="101880"/>
            <a:chOff x="1790640" y="3124080"/>
            <a:chExt cx="3454560" cy="101880"/>
          </a:xfrm>
        </p:grpSpPr>
        <p:sp>
          <p:nvSpPr>
            <p:cNvPr id="645" name=""/>
            <p:cNvSpPr/>
            <p:nvPr/>
          </p:nvSpPr>
          <p:spPr>
            <a:xfrm>
              <a:off x="179064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1488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4188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888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77778E-006 L -3.33333E-006 0.31112 L -3.33333E-006 0.36667 E">
                                      <p:cBhvr>
                                        <p:cTn id="265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651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665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688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3520" y="76212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ромежутки возрастания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918040" y="1523880"/>
            <a:ext cx="304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чках –5, 0, 3 и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я непрерывна, поэтому при записи промежутков возрастания эти точки включ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719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723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724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728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729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740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745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6143760" y="4267080"/>
            <a:ext cx="267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–8; –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27720" y="3327480"/>
                <a:ext cx="1904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753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767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790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" y="60948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ромежутки возрастания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сумму целых точек, входящих в эти промежу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918040" y="1523880"/>
            <a:ext cx="304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очках –5, 0, 3 и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я непрерывна, поэтому при записи промежутков возрастания эти точки включ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821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825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826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830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831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842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847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6093360" y="4038480"/>
            <a:ext cx="287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м целые чис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7, -6, -5, 0, 1, 2, 3, 6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4527720" y="3327480"/>
                <a:ext cx="1904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093000" y="3429000"/>
            <a:ext cx="267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–8; –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553080" y="4952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6172200" y="4343400"/>
            <a:ext cx="2743200" cy="380880"/>
            <a:chOff x="6172200" y="4343400"/>
            <a:chExt cx="2743200" cy="380880"/>
          </a:xfrm>
        </p:grpSpPr>
        <p:sp>
          <p:nvSpPr>
            <p:cNvPr id="856" name=""/>
            <p:cNvSpPr/>
            <p:nvPr/>
          </p:nvSpPr>
          <p:spPr>
            <a:xfrm>
              <a:off x="6172200" y="43434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610480" y="43434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553080" y="4343400"/>
            <a:ext cx="2057400" cy="380880"/>
            <a:chOff x="6553080" y="4343400"/>
            <a:chExt cx="2057400" cy="380880"/>
          </a:xfrm>
        </p:grpSpPr>
        <p:sp>
          <p:nvSpPr>
            <p:cNvPr id="859" name=""/>
            <p:cNvSpPr/>
            <p:nvPr/>
          </p:nvSpPr>
          <p:spPr>
            <a:xfrm>
              <a:off x="8305920" y="4343400"/>
              <a:ext cx="304560" cy="3808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53080" y="4343400"/>
              <a:ext cx="304920" cy="3808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934320" y="4343400"/>
            <a:ext cx="1485720" cy="380880"/>
            <a:chOff x="6934320" y="4343400"/>
            <a:chExt cx="1485720" cy="380880"/>
          </a:xfrm>
        </p:grpSpPr>
        <p:sp>
          <p:nvSpPr>
            <p:cNvPr id="862" name=""/>
            <p:cNvSpPr/>
            <p:nvPr/>
          </p:nvSpPr>
          <p:spPr>
            <a:xfrm>
              <a:off x="7772400" y="4419720"/>
              <a:ext cx="647640" cy="241200"/>
            </a:xfrm>
            <a:custGeom>
              <a:avLst/>
              <a:gdLst/>
              <a:ahLst/>
              <a:rect l="l" t="t" r="r" b="b"/>
              <a:pathLst>
                <a:path w="408" h="152">
                  <a:moveTo>
                    <a:pt x="0" y="0"/>
                  </a:moveTo>
                  <a:lnTo>
                    <a:pt x="408" y="152"/>
                  </a:lnTo>
                </a:path>
              </a:pathLst>
            </a:custGeom>
            <a:noFill/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34320" y="4343400"/>
              <a:ext cx="228600" cy="380880"/>
            </a:xfrm>
            <a:prstGeom prst="line">
              <a:avLst/>
            </a:prstGeom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866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880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903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33520" y="76212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промежутки убывания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длину наибольшего из 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933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937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938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942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943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954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959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7086600" y="4419720"/>
            <a:ext cx="12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/>
            <a:ahLst/>
            <a:rect l="l" t="t" r="r" b="b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966" name="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/>
              <a:ahLst/>
              <a:rect l="l" t="t" r="r" b="b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539640" y="187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7320" y="456084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1200" y="4281480"/>
            <a:ext cx="490824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4720" y="39956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4720" y="3716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87320" y="232560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68240" y="20462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980" name="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84080" y="1781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1003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405240" y="5803920"/>
            <a:ext cx="569880" cy="336600"/>
          </a:xfrm>
          <a:custGeom>
            <a:avLst/>
            <a:gdLst/>
            <a:ahLst/>
            <a:rect l="l" t="t" r="r" b="b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/>
            <a:ahLst/>
            <a:rect l="l" t="t" r="r" b="b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88840" y="5778360"/>
            <a:ext cx="609840" cy="3049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343400" y="5778360"/>
            <a:ext cx="609480" cy="39384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9640" y="5791320"/>
            <a:ext cx="469800" cy="368280"/>
          </a:xfrm>
          <a:custGeom>
            <a:avLst/>
            <a:gdLst/>
            <a:ahLst/>
            <a:rect l="l" t="t" r="r" b="b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/>
            <a:ahLst/>
            <a:rect l="l" t="t" r="r" b="b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/>
            <a:ahLst/>
            <a:rect l="l" t="t" r="r" b="b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/>
            <a:ahLst/>
            <a:rect l="l" t="t" r="r" b="b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57160" y="26020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149720" y="3171960"/>
            <a:ext cx="930240" cy="568080"/>
          </a:xfrm>
          <a:custGeom>
            <a:avLst/>
            <a:gdLst/>
            <a:ahLst/>
            <a:rect l="l" t="t" r="r" b="b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60948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й точке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4; 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и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наибольшее знач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906800" y="3174840"/>
            <a:ext cx="503280" cy="2931480"/>
            <a:chOff x="4906800" y="3174840"/>
            <a:chExt cx="503280" cy="2931480"/>
          </a:xfrm>
        </p:grpSpPr>
        <p:sp>
          <p:nvSpPr>
            <p:cNvPr id="1033" name=""/>
            <p:cNvSpPr/>
            <p:nvPr/>
          </p:nvSpPr>
          <p:spPr>
            <a:xfrm>
              <a:off x="5049720" y="563256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06800" y="56466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9256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1037" name="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1038" name="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1042" name="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1043" name="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62120" y="3436920"/>
            <a:ext cx="494640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857160" y="28843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1054" name="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1059" name="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7086240" y="441972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–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019920" y="152388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4; 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я 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бывает, значит, наибольшее значение на данном отрезке функция будет принимать в точке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Customer</cp:lastModifiedBy>
  <dcterms:modified xsi:type="dcterms:W3CDTF">2010-05-20T17:28:3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