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DE4-2AAD-4DBF-B3BE-9A8C547B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B70-0EE8-4356-BD40-28B1DC0E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A85-4252-4D6B-BCD7-9FD05ECE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169-747C-4DB3-A1AC-1B0D9338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B546-0FE7-4AC1-A8C8-ACA1BDBA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4CD-CF1C-413D-A10A-F96B670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3D5-CBE8-4999-834A-CCEC0B49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C4A-0525-4388-BF8D-FBAA8A7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959-2F1C-44AE-AD01-B8E852C2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4D7E-0370-44F5-A7DA-2D0AEDA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D64F-0B9F-480F-996E-714E9613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666-7228-45F9-91D7-1D0C1F6B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577-E9B9-4133-BAB4-4F38158D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5C1-6D40-4CCF-A661-7C26FED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72B-8531-4136-A7BF-218A962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182-15AD-490E-AD53-95904C06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CFA6-4148-4DD9-9DE5-4B22F194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FEE-97A7-4831-9D88-FB0B3236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7E7-DA80-4297-9DD6-1EEB398F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1C1-33B9-4154-80C9-B4CF8D25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9F9-CBBB-478F-9557-C0C54E2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38E-D932-4EDA-BC76-0F39768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449-4037-45C9-B83E-621AF70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E5E-FE64-4931-85E6-B6FBD3B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F6A-B3EB-4920-A018-5B75AEC4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C34-9FAF-442F-A6D8-44B90D95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42040" y="4567320"/>
            <a:ext cx="3128760" cy="107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0" y="3429000"/>
            <a:ext cx="89377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534520" y="25909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57720" y="353376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57720" y="3354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57720" y="33544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86280" y="33544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33544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02360" y="33544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86640" y="33544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955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200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7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41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6640" y="3338640"/>
            <a:ext cx="26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66240" y="335268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30360" y="3247920"/>
            <a:ext cx="1584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430880" y="6275160"/>
            <a:ext cx="12528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398480" y="110340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30880" y="55260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4028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9960" y="1071720"/>
            <a:ext cx="6984720" cy="4351320"/>
          </a:xfrm>
          <a:custGeom>
            <a:avLst/>
            <a:gdLst/>
            <a:ahLst/>
            <a:rect l="l" t="t" r="r" b="b"/>
            <a:pathLst>
              <a:path w="4400" h="2741">
                <a:moveTo>
                  <a:pt x="0" y="2741"/>
                </a:moveTo>
                <a:cubicBezTo>
                  <a:pt x="69" y="2552"/>
                  <a:pt x="235" y="1932"/>
                  <a:pt x="408" y="1605"/>
                </a:cubicBezTo>
                <a:cubicBezTo>
                  <a:pt x="581" y="1278"/>
                  <a:pt x="756" y="1010"/>
                  <a:pt x="1036" y="781"/>
                </a:cubicBezTo>
                <a:cubicBezTo>
                  <a:pt x="1316" y="552"/>
                  <a:pt x="1701" y="353"/>
                  <a:pt x="2088" y="229"/>
                </a:cubicBezTo>
                <a:cubicBezTo>
                  <a:pt x="2475" y="105"/>
                  <a:pt x="2975" y="74"/>
                  <a:pt x="3360" y="37"/>
                </a:cubicBezTo>
                <a:cubicBezTo>
                  <a:pt x="3745" y="0"/>
                  <a:pt x="4183" y="12"/>
                  <a:pt x="4400" y="5"/>
                </a:cubicBezTo>
              </a:path>
            </a:pathLst>
          </a:custGeom>
          <a:noFill/>
          <a:ln w="7632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0" y="0"/>
            <a:ext cx="5167440" cy="4510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8160" y="3002040"/>
            <a:ext cx="903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98840" y="2278080"/>
            <a:ext cx="15840" cy="1138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4720" y="0"/>
            <a:ext cx="233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123800">
            <a:off x="-706680" y="1537920"/>
            <a:ext cx="578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 а с а т е л ь н а 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45280" y="2225520"/>
            <a:ext cx="3249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rot="8956800">
            <a:off x="707400" y="2869920"/>
            <a:ext cx="1612440" cy="12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45" y="4748"/>
                </a:moveTo>
                <a:arcTo wR="10800" hR="10800" stAng="-2045067" swAng="4412585"/>
                <a:lnTo>
                  <a:pt x="10800" y="10800"/>
                </a:lnTo>
                <a:close/>
              </a:path>
              <a:path fill="none" w="21600" h="21600">
                <a:moveTo>
                  <a:pt x="19745" y="4748"/>
                </a:moveTo>
                <a:arcTo wR="10800" hR="10800" stAng="-2045067" swAng="4412585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80" y="0"/>
            <a:ext cx="29959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)=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10360" y="5175360"/>
            <a:ext cx="3128760" cy="107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4005360"/>
            <a:ext cx="89377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34520" y="31240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57720" y="446256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57720" y="428292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73560" y="396396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18320" y="39322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89880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86520" y="39164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86640" y="39164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95560" y="39402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60800" y="39546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2000" y="392256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7360" y="390672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392256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92480" y="39164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397040" y="3344760"/>
            <a:ext cx="17604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0360" y="3921120"/>
            <a:ext cx="1584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430880" y="6275160"/>
            <a:ext cx="12528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398480" y="110340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430880" y="55260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4028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00480" y="33480"/>
            <a:ext cx="6298920" cy="6735600"/>
          </a:xfrm>
          <a:custGeom>
            <a:avLst/>
            <a:gdLst/>
            <a:ahLst/>
            <a:rect l="l" t="t" r="r" b="b"/>
            <a:pathLst>
              <a:path w="3968" h="4243">
                <a:moveTo>
                  <a:pt x="0" y="4243"/>
                </a:moveTo>
                <a:cubicBezTo>
                  <a:pt x="32" y="4066"/>
                  <a:pt x="128" y="3515"/>
                  <a:pt x="200" y="3179"/>
                </a:cubicBezTo>
                <a:cubicBezTo>
                  <a:pt x="272" y="2843"/>
                  <a:pt x="304" y="2575"/>
                  <a:pt x="432" y="2227"/>
                </a:cubicBezTo>
                <a:cubicBezTo>
                  <a:pt x="560" y="1879"/>
                  <a:pt x="743" y="1395"/>
                  <a:pt x="968" y="1091"/>
                </a:cubicBezTo>
                <a:cubicBezTo>
                  <a:pt x="1193" y="787"/>
                  <a:pt x="1420" y="574"/>
                  <a:pt x="1784" y="403"/>
                </a:cubicBezTo>
                <a:cubicBezTo>
                  <a:pt x="2148" y="232"/>
                  <a:pt x="2788" y="134"/>
                  <a:pt x="3152" y="67"/>
                </a:cubicBezTo>
                <a:cubicBezTo>
                  <a:pt x="3516" y="0"/>
                  <a:pt x="3798" y="16"/>
                  <a:pt x="3968" y="3"/>
                </a:cubicBezTo>
              </a:path>
            </a:pathLst>
          </a:custGeom>
          <a:noFill/>
          <a:ln w="7632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68600" y="0"/>
            <a:ext cx="3209760" cy="5487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44120" y="3548160"/>
            <a:ext cx="903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69920" y="1925640"/>
            <a:ext cx="79560" cy="2116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943400">
            <a:off x="1066320" y="4881960"/>
            <a:ext cx="233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8092400">
            <a:off x="-241560" y="2432520"/>
            <a:ext cx="578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 а с а т е л ь н а 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21600" y="1727280"/>
            <a:ext cx="3249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6704400">
            <a:off x="2046600" y="3305880"/>
            <a:ext cx="1612440" cy="12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7" y="151"/>
                </a:moveTo>
                <a:arcTo wR="10800" hR="10800" stAng="-4825418" swAng="5614432"/>
                <a:lnTo>
                  <a:pt x="10800" y="10800"/>
                </a:lnTo>
                <a:close/>
              </a:path>
              <a:path fill="none" w="21600" h="21600">
                <a:moveTo>
                  <a:pt x="12597" y="151"/>
                </a:moveTo>
                <a:arcTo wR="10800" hR="10800" stAng="-4825418" swAng="5614432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87840" y="561960"/>
            <a:ext cx="0" cy="348156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535120" y="3994200"/>
            <a:ext cx="2036880" cy="158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800" y="225360"/>
            <a:ext cx="33066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8000" spc="-1" strike="noStrike" baseline="30000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)=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6200" y="1490760"/>
            <a:ext cx="273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k=tg</a:t>
            </a:r>
            <a:r>
              <a:rPr b="1" lang="el-GR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61960" y="4546440"/>
            <a:ext cx="3129120" cy="107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0" y="3429000"/>
            <a:ext cx="89377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64600" y="3086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86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0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8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200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7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76640" y="3338640"/>
            <a:ext cx="26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66240" y="324792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0360" y="3247920"/>
            <a:ext cx="1584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430880" y="6275160"/>
            <a:ext cx="12528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398480" y="110340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30880" y="55260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4028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47840" y="1141560"/>
            <a:ext cx="6095880" cy="3493800"/>
          </a:xfrm>
          <a:custGeom>
            <a:avLst/>
            <a:gdLst/>
            <a:ahLst/>
            <a:rect l="l" t="t" r="r" b="b"/>
            <a:pathLst>
              <a:path w="3840" h="2201">
                <a:moveTo>
                  <a:pt x="3840" y="2201"/>
                </a:moveTo>
                <a:cubicBezTo>
                  <a:pt x="3788" y="2055"/>
                  <a:pt x="3673" y="1587"/>
                  <a:pt x="3537" y="1322"/>
                </a:cubicBezTo>
                <a:cubicBezTo>
                  <a:pt x="3401" y="1057"/>
                  <a:pt x="3258" y="802"/>
                  <a:pt x="3023" y="609"/>
                </a:cubicBezTo>
                <a:cubicBezTo>
                  <a:pt x="2788" y="416"/>
                  <a:pt x="2495" y="258"/>
                  <a:pt x="2127" y="161"/>
                </a:cubicBezTo>
                <a:cubicBezTo>
                  <a:pt x="1759" y="64"/>
                  <a:pt x="1169" y="50"/>
                  <a:pt x="815" y="25"/>
                </a:cubicBezTo>
                <a:cubicBezTo>
                  <a:pt x="461" y="0"/>
                  <a:pt x="170" y="12"/>
                  <a:pt x="0" y="9"/>
                </a:cubicBezTo>
              </a:path>
            </a:pathLst>
          </a:custGeom>
          <a:noFill/>
          <a:ln w="7632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962520" y="0"/>
            <a:ext cx="4943520" cy="463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93640" y="3017880"/>
            <a:ext cx="9032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7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4760" y="2087640"/>
            <a:ext cx="15840" cy="139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9560" y="257040"/>
            <a:ext cx="233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541600">
            <a:off x="4009320" y="1537920"/>
            <a:ext cx="578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 а с а т е л ь н а 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640" y="2225520"/>
            <a:ext cx="3249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7200" spc="-1" strike="noStrike" baseline="30000">
                <a:solidFill>
                  <a:srgbClr val="33cc33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(x</a:t>
            </a:r>
            <a:r>
              <a:rPr b="1" lang="en-US" sz="7200" spc="-1" strike="noStrike" baseline="-25000">
                <a:solidFill>
                  <a:srgbClr val="33cc33"/>
                </a:solidFill>
                <a:latin typeface="Times New Roman"/>
              </a:rPr>
              <a:t>o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)=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rot="7402200">
            <a:off x="7058880" y="2723400"/>
            <a:ext cx="1085400" cy="125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36" y="1143"/>
                </a:moveTo>
                <a:arcTo wR="10800" hR="10800" stAng="-3803879" swAng="8542452"/>
                <a:lnTo>
                  <a:pt x="10800" y="10800"/>
                </a:lnTo>
                <a:close/>
              </a:path>
              <a:path fill="none" w="21600" h="21600">
                <a:moveTo>
                  <a:pt x="15636" y="1143"/>
                </a:moveTo>
                <a:arcTo wR="10800" hR="10800" stAng="-3803879" swAng="8542452"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56160" y="595440"/>
            <a:ext cx="0" cy="2854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40320" y="3416400"/>
            <a:ext cx="29671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866640" y="2795040"/>
            <a:ext cx="1025640" cy="85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43" y="5744"/>
                </a:moveTo>
                <a:arcTo wR="10800" hR="10800" stAng="-1674971" swAng="4719124"/>
                <a:lnTo>
                  <a:pt x="10800" y="10800"/>
                </a:lnTo>
                <a:close/>
              </a:path>
              <a:path fill="none" w="21600" h="21600">
                <a:moveTo>
                  <a:pt x="20343" y="5744"/>
                </a:moveTo>
                <a:arcTo wR="10800" hR="10800" stAng="-1674971" swAng="471912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427640" y="2349360"/>
            <a:ext cx="1584360" cy="1511280"/>
          </a:xfrm>
          <a:custGeom>
            <a:avLst/>
            <a:gdLst/>
            <a:ahLst/>
            <a:rect l="l" t="t" r="r" b="b"/>
            <a:pathLst>
              <a:path w="998" h="998">
                <a:moveTo>
                  <a:pt x="0" y="998"/>
                </a:moveTo>
                <a:lnTo>
                  <a:pt x="998" y="998"/>
                </a:lnTo>
                <a:lnTo>
                  <a:pt x="998" y="0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3440" y="3863880"/>
            <a:ext cx="387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1552680"/>
            <a:ext cx="0" cy="346536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3440" y="1552680"/>
            <a:ext cx="0" cy="346536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067280" y="1341000"/>
            <a:ext cx="3960720" cy="3677040"/>
            <a:chOff x="4067280" y="1341000"/>
            <a:chExt cx="3960720" cy="3677040"/>
          </a:xfrm>
        </p:grpSpPr>
        <p:sp>
          <p:nvSpPr>
            <p:cNvPr id="212" name=""/>
            <p:cNvSpPr/>
            <p:nvPr/>
          </p:nvSpPr>
          <p:spPr>
            <a:xfrm>
              <a:off x="4067280" y="3860640"/>
              <a:ext cx="396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7280" y="155268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7280" y="501804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5672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7280" y="193680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5788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488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3548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2284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080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9140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7876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9360" y="155268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67280" y="232236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67280" y="270684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7280" y="309240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7280" y="347832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7280" y="424800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7280" y="4633920"/>
              <a:ext cx="388944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013440" y="1341000"/>
              <a:ext cx="0" cy="36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08720" y="2852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35080"/>
            <a:ext cx="8321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каса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ему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9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1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040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22399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1447920"/>
            <a:ext cx="2160720" cy="503280"/>
          </a:xfrm>
          <a:prstGeom prst="wedgeEllipseCallout">
            <a:avLst>
              <a:gd name="adj1" fmla="val -42138"/>
              <a:gd name="adj2" fmla="val 1632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3247920"/>
            <a:ext cx="2016360" cy="505080"/>
          </a:xfrm>
          <a:prstGeom prst="wedgeEllipseCallout">
            <a:avLst>
              <a:gd name="adj1" fmla="val -48898"/>
              <a:gd name="adj2" fmla="val 17138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327560"/>
            <a:ext cx="2016360" cy="504720"/>
          </a:xfrm>
          <a:prstGeom prst="wedgeEllipseCallout">
            <a:avLst>
              <a:gd name="adj1" fmla="val -52361"/>
              <a:gd name="adj2" fmla="val 12735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384280"/>
            <a:ext cx="1944720" cy="503280"/>
          </a:xfrm>
          <a:prstGeom prst="wedgeEllipseCallout">
            <a:avLst>
              <a:gd name="adj1" fmla="val -59634"/>
              <a:gd name="adj2" fmla="val 13580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1440" y="2070000"/>
            <a:ext cx="2987640" cy="2911680"/>
          </a:xfrm>
          <a:custGeom>
            <a:avLst/>
            <a:gdLst/>
            <a:ahLst/>
            <a:rect l="l" t="t" r="r" b="b"/>
            <a:pathLst>
              <a:path w="1882" h="1834">
                <a:moveTo>
                  <a:pt x="0" y="1834"/>
                </a:moveTo>
                <a:cubicBezTo>
                  <a:pt x="79" y="1617"/>
                  <a:pt x="158" y="835"/>
                  <a:pt x="472" y="529"/>
                </a:cubicBezTo>
                <a:cubicBezTo>
                  <a:pt x="786" y="223"/>
                  <a:pt x="1588" y="110"/>
                  <a:pt x="188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79640" y="1413000"/>
            <a:ext cx="3168360" cy="3095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73800" y="2781360"/>
            <a:ext cx="106200" cy="856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378936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427280" y="2349360"/>
            <a:ext cx="1584720" cy="1511280"/>
            <a:chOff x="4427280" y="2349360"/>
            <a:chExt cx="1584720" cy="1511280"/>
          </a:xfrm>
        </p:grpSpPr>
        <p:sp>
          <p:nvSpPr>
            <p:cNvPr id="247" name=""/>
            <p:cNvSpPr/>
            <p:nvPr/>
          </p:nvSpPr>
          <p:spPr>
            <a:xfrm>
              <a:off x="6012000" y="2349360"/>
              <a:ext cx="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427280" y="386064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203640" y="515772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tg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ол наклона касательной с осью Ох острый, знач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o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прямоугольного тре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ход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: 4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709000">
            <a:off x="4716360" y="3573360"/>
            <a:ext cx="14472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253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4067280" y="1341000"/>
            <a:ext cx="3960720" cy="3677040"/>
            <a:chOff x="4067280" y="1341000"/>
            <a:chExt cx="3960720" cy="3677040"/>
          </a:xfrm>
        </p:grpSpPr>
        <p:grpSp>
          <p:nvGrpSpPr>
            <p:cNvPr id="263" name=""/>
            <p:cNvGrpSpPr/>
            <p:nvPr/>
          </p:nvGrpSpPr>
          <p:grpSpPr>
            <a:xfrm>
              <a:off x="4067280" y="1341000"/>
              <a:ext cx="3960720" cy="3677040"/>
              <a:chOff x="4067280" y="1341000"/>
              <a:chExt cx="3960720" cy="3677040"/>
            </a:xfrm>
          </p:grpSpPr>
          <p:sp>
            <p:nvSpPr>
              <p:cNvPr id="264" name=""/>
              <p:cNvSpPr/>
              <p:nvPr/>
            </p:nvSpPr>
            <p:spPr>
              <a:xfrm>
                <a:off x="4067280" y="3860640"/>
                <a:ext cx="396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67280" y="15526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67280" y="50180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95672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67280" y="19368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578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448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354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2284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0080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9140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7876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6936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67280" y="232236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67280" y="27068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67280" y="30924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67280" y="34783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67280" y="42480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67280" y="46339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013440" y="1341000"/>
                <a:ext cx="0" cy="367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4067280" y="1483920"/>
              <a:ext cx="0" cy="3529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6011280" y="1557360"/>
            <a:ext cx="1152360" cy="2303280"/>
          </a:xfrm>
          <a:custGeom>
            <a:avLst/>
            <a:gdLst/>
            <a:ahLst/>
            <a:rect l="l" t="t" r="r" b="b"/>
            <a:pathLst>
              <a:path w="998" h="998">
                <a:moveTo>
                  <a:pt x="0" y="998"/>
                </a:moveTo>
                <a:lnTo>
                  <a:pt x="998" y="998"/>
                </a:lnTo>
                <a:lnTo>
                  <a:pt x="998" y="0"/>
                </a:lnTo>
                <a:lnTo>
                  <a:pt x="0" y="99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66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781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3508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каса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ему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379584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7874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465948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18511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914400"/>
            <a:ext cx="2160720" cy="503280"/>
          </a:xfrm>
          <a:prstGeom prst="wedgeEllipseCallout">
            <a:avLst>
              <a:gd name="adj1" fmla="val -47208"/>
              <a:gd name="adj2" fmla="val 15756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3938760"/>
            <a:ext cx="2016360" cy="504720"/>
          </a:xfrm>
          <a:prstGeom prst="wedgeEllipseCallout">
            <a:avLst>
              <a:gd name="adj1" fmla="val -48898"/>
              <a:gd name="adj2" fmla="val 17138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2859120"/>
            <a:ext cx="2016000" cy="504720"/>
          </a:xfrm>
          <a:prstGeom prst="wedgeEllipseCallout">
            <a:avLst>
              <a:gd name="adj1" fmla="val -63069"/>
              <a:gd name="adj2" fmla="val 15597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1995480"/>
            <a:ext cx="1944720" cy="503280"/>
          </a:xfrm>
          <a:prstGeom prst="wedgeEllipseCallout">
            <a:avLst>
              <a:gd name="adj1" fmla="val -59634"/>
              <a:gd name="adj2" fmla="val 13580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56200" y="2360520"/>
            <a:ext cx="3089160" cy="2446560"/>
          </a:xfrm>
          <a:custGeom>
            <a:avLst/>
            <a:gdLst/>
            <a:ahLst/>
            <a:rect l="l" t="t" r="r" b="b"/>
            <a:pathLst>
              <a:path w="1946" h="1541">
                <a:moveTo>
                  <a:pt x="0" y="669"/>
                </a:moveTo>
                <a:cubicBezTo>
                  <a:pt x="34" y="766"/>
                  <a:pt x="134" y="1132"/>
                  <a:pt x="201" y="1253"/>
                </a:cubicBezTo>
                <a:cubicBezTo>
                  <a:pt x="268" y="1374"/>
                  <a:pt x="332" y="1476"/>
                  <a:pt x="402" y="1393"/>
                </a:cubicBezTo>
                <a:cubicBezTo>
                  <a:pt x="472" y="1310"/>
                  <a:pt x="550" y="939"/>
                  <a:pt x="620" y="756"/>
                </a:cubicBezTo>
                <a:cubicBezTo>
                  <a:pt x="690" y="573"/>
                  <a:pt x="726" y="417"/>
                  <a:pt x="821" y="293"/>
                </a:cubicBezTo>
                <a:cubicBezTo>
                  <a:pt x="916" y="169"/>
                  <a:pt x="1072" y="28"/>
                  <a:pt x="1187" y="14"/>
                </a:cubicBezTo>
                <a:cubicBezTo>
                  <a:pt x="1302" y="0"/>
                  <a:pt x="1430" y="113"/>
                  <a:pt x="1510" y="206"/>
                </a:cubicBezTo>
                <a:cubicBezTo>
                  <a:pt x="1590" y="299"/>
                  <a:pt x="1594" y="351"/>
                  <a:pt x="1667" y="573"/>
                </a:cubicBezTo>
                <a:cubicBezTo>
                  <a:pt x="1740" y="795"/>
                  <a:pt x="1888" y="1339"/>
                  <a:pt x="1946" y="154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867280" y="1197000"/>
            <a:ext cx="1873440" cy="3744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26160" y="2838600"/>
            <a:ext cx="106560" cy="856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6720" y="378936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011640" y="1557360"/>
            <a:ext cx="1152720" cy="2302920"/>
            <a:chOff x="6011640" y="1557360"/>
            <a:chExt cx="1152720" cy="2302920"/>
          </a:xfrm>
        </p:grpSpPr>
        <p:sp>
          <p:nvSpPr>
            <p:cNvPr id="301" name=""/>
            <p:cNvSpPr/>
            <p:nvPr/>
          </p:nvSpPr>
          <p:spPr>
            <a:xfrm>
              <a:off x="6011640" y="1557360"/>
              <a:ext cx="0" cy="230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3860280"/>
              <a:ext cx="115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76720" y="494172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tg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ол наклона касательной с осью Ох тупой, знач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прямоугольного тре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ход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6 : 3 =2.  Значит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927200">
            <a:off x="7165080" y="3363120"/>
            <a:ext cx="1987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07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22860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40640" y="410040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19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7599240" y="2043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72200" y="2043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2043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02160" y="574344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02160" y="549756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21240" y="5249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21240" y="500364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21240" y="475776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11520" y="424656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11520" y="3998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11520" y="37432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11520" y="3497400"/>
            <a:ext cx="406728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11520" y="32590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11520" y="301320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11520" y="2747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11520" y="250200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2160" y="224640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410680" y="2104920"/>
            <a:ext cx="79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145360" y="207792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6276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3572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08680" y="209556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4516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8164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2616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6264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5600" y="209556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7208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99040" y="206928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21240" y="4510080"/>
            <a:ext cx="40672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63960" y="4178160"/>
            <a:ext cx="67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196704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1556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 Угол, который составляет касательная с положительным направлением оси Ох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начит, значение производной в точке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жите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22096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Найдем тангенс этого угла. Для этого подберем треугольник с катетами-целыми числами. Этот треугольник не подход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38098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но найти несколько удобных треугольников, например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4572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 Найдем тангенс угла – это отношение 9: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920" y="5756400"/>
            <a:ext cx="1512720" cy="679680"/>
            <a:chOff x="304920" y="5756400"/>
            <a:chExt cx="1512720" cy="679680"/>
          </a:xfrm>
        </p:grpSpPr>
        <p:sp>
          <p:nvSpPr>
            <p:cNvPr id="365" name=""/>
            <p:cNvSpPr/>
            <p:nvPr/>
          </p:nvSpPr>
          <p:spPr>
            <a:xfrm>
              <a:off x="304920" y="5867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твет: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320840" y="5756400"/>
              <a:ext cx="496800" cy="679680"/>
              <a:chOff x="1320840" y="5756400"/>
              <a:chExt cx="496800" cy="679680"/>
            </a:xfrm>
          </p:grpSpPr>
          <p:sp>
            <p:nvSpPr>
              <p:cNvPr id="367" name=""/>
              <p:cNvSpPr/>
              <p:nvPr/>
            </p:nvSpPr>
            <p:spPr>
              <a:xfrm>
                <a:off x="1657440" y="6094440"/>
                <a:ext cx="1602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74360" y="6130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74360" y="5756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20840" y="58546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4330800" y="2730600"/>
            <a:ext cx="1968480" cy="2489040"/>
          </a:xfrm>
          <a:custGeom>
            <a:avLst/>
            <a:gdLst/>
            <a:ahLst/>
            <a:rect l="l" t="t" r="r" b="b"/>
            <a:pathLst>
              <a:path w="1240" h="1568">
                <a:moveTo>
                  <a:pt x="1240" y="0"/>
                </a:moveTo>
                <a:cubicBezTo>
                  <a:pt x="1203" y="15"/>
                  <a:pt x="1083" y="13"/>
                  <a:pt x="1016" y="88"/>
                </a:cubicBezTo>
                <a:cubicBezTo>
                  <a:pt x="949" y="163"/>
                  <a:pt x="887" y="332"/>
                  <a:pt x="840" y="448"/>
                </a:cubicBezTo>
                <a:cubicBezTo>
                  <a:pt x="793" y="564"/>
                  <a:pt x="772" y="680"/>
                  <a:pt x="736" y="784"/>
                </a:cubicBezTo>
                <a:cubicBezTo>
                  <a:pt x="700" y="888"/>
                  <a:pt x="668" y="975"/>
                  <a:pt x="624" y="1072"/>
                </a:cubicBezTo>
                <a:cubicBezTo>
                  <a:pt x="580" y="1169"/>
                  <a:pt x="516" y="1299"/>
                  <a:pt x="472" y="1368"/>
                </a:cubicBezTo>
                <a:cubicBezTo>
                  <a:pt x="428" y="1437"/>
                  <a:pt x="412" y="1456"/>
                  <a:pt x="360" y="1488"/>
                </a:cubicBezTo>
                <a:cubicBezTo>
                  <a:pt x="308" y="1520"/>
                  <a:pt x="220" y="1568"/>
                  <a:pt x="160" y="1560"/>
                </a:cubicBezTo>
                <a:cubicBezTo>
                  <a:pt x="100" y="1552"/>
                  <a:pt x="33" y="1465"/>
                  <a:pt x="0" y="14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2527200"/>
            <a:ext cx="2311560" cy="3213360"/>
          </a:xfrm>
          <a:custGeom>
            <a:avLst/>
            <a:gdLst/>
            <a:ahLst/>
            <a:rect l="l" t="t" r="r" b="b"/>
            <a:pathLst>
              <a:path w="1456" h="2024">
                <a:moveTo>
                  <a:pt x="0" y="2024"/>
                </a:moveTo>
                <a:lnTo>
                  <a:pt x="1456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648320" y="3263760"/>
            <a:ext cx="1638360" cy="2257560"/>
            <a:chOff x="4648320" y="3263760"/>
            <a:chExt cx="1638360" cy="2257560"/>
          </a:xfrm>
        </p:grpSpPr>
        <p:sp>
          <p:nvSpPr>
            <p:cNvPr id="374" name=""/>
            <p:cNvSpPr/>
            <p:nvPr/>
          </p:nvSpPr>
          <p:spPr>
            <a:xfrm>
              <a:off x="4648320" y="3263760"/>
              <a:ext cx="1638360" cy="2248200"/>
            </a:xfrm>
            <a:custGeom>
              <a:avLst/>
              <a:gdLst/>
              <a:ahLst/>
              <a:rect l="l" t="t" r="r" b="b"/>
              <a:pathLst>
                <a:path w="1032" h="1416">
                  <a:moveTo>
                    <a:pt x="1032" y="0"/>
                  </a:moveTo>
                  <a:lnTo>
                    <a:pt x="1032" y="1400"/>
                  </a:lnTo>
                  <a:lnTo>
                    <a:pt x="0" y="1416"/>
                  </a:lnTo>
                  <a:lnTo>
                    <a:pt x="10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66ffcc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8253600">
              <a:off x="4838400" y="5244840"/>
              <a:ext cx="131760" cy="266760"/>
            </a:xfrm>
            <a:custGeom>
              <a:avLst/>
              <a:gdLst/>
              <a:ahLst/>
              <a:rect l="l" t="t" r="r" b="b"/>
              <a:pathLst>
                <a:path w="83" h="168">
                  <a:moveTo>
                    <a:pt x="83" y="0"/>
                  </a:moveTo>
                  <a:cubicBezTo>
                    <a:pt x="71" y="11"/>
                    <a:pt x="22" y="36"/>
                    <a:pt x="11" y="64"/>
                  </a:cubicBezTo>
                  <a:cubicBezTo>
                    <a:pt x="0" y="92"/>
                    <a:pt x="17" y="146"/>
                    <a:pt x="19" y="16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635360" y="544824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92560" y="4508640"/>
            <a:ext cx="1800" cy="482400"/>
          </a:xfrm>
          <a:custGeom>
            <a:avLst/>
            <a:gdLst/>
            <a:ahLst/>
            <a:rect l="l" t="t" r="r" b="b"/>
            <a:pathLst>
              <a:path w="1" h="304">
                <a:moveTo>
                  <a:pt x="0" y="0"/>
                </a:moveTo>
                <a:lnTo>
                  <a:pt x="0" y="3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8253600">
            <a:off x="5578200" y="4238280"/>
            <a:ext cx="131760" cy="266760"/>
          </a:xfrm>
          <a:custGeom>
            <a:avLst/>
            <a:gdLst/>
            <a:ahLst/>
            <a:rect l="l" t="t" r="r" b="b"/>
            <a:pathLst>
              <a:path w="83" h="168">
                <a:moveTo>
                  <a:pt x="83" y="0"/>
                </a:moveTo>
                <a:cubicBezTo>
                  <a:pt x="71" y="11"/>
                  <a:pt x="22" y="36"/>
                  <a:pt x="11" y="64"/>
                </a:cubicBezTo>
                <a:cubicBezTo>
                  <a:pt x="0" y="92"/>
                  <a:pt x="17" y="146"/>
                  <a:pt x="19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41800" y="49021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7480" y="2489040"/>
            <a:ext cx="3137040" cy="2019600"/>
          </a:xfrm>
          <a:custGeom>
            <a:avLst/>
            <a:gdLst/>
            <a:ahLst/>
            <a:rect l="l" t="t" r="r" b="b"/>
            <a:pathLst>
              <a:path w="1976" h="1272">
                <a:moveTo>
                  <a:pt x="912" y="0"/>
                </a:moveTo>
                <a:lnTo>
                  <a:pt x="0" y="1272"/>
                </a:lnTo>
                <a:lnTo>
                  <a:pt x="1976" y="126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2130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84880" y="3670200"/>
            <a:ext cx="622080" cy="838440"/>
          </a:xfrm>
          <a:custGeom>
            <a:avLst/>
            <a:gdLst/>
            <a:ahLst/>
            <a:rect l="l" t="t" r="r" b="b"/>
            <a:pathLst>
              <a:path w="392" h="528">
                <a:moveTo>
                  <a:pt x="392" y="0"/>
                </a:moveTo>
                <a:lnTo>
                  <a:pt x="392" y="528"/>
                </a:lnTo>
                <a:lnTo>
                  <a:pt x="0" y="528"/>
                </a:lnTo>
                <a:lnTo>
                  <a:pt x="392" y="0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35560" y="4297320"/>
            <a:ext cx="1250640" cy="1572120"/>
            <a:chOff x="5335560" y="4297320"/>
            <a:chExt cx="1250640" cy="1572120"/>
          </a:xfrm>
        </p:grpSpPr>
        <p:sp>
          <p:nvSpPr>
            <p:cNvPr id="385" name=""/>
            <p:cNvSpPr/>
            <p:nvPr/>
          </p:nvSpPr>
          <p:spPr>
            <a:xfrm>
              <a:off x="6249960" y="42973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35560" y="54403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57200" y="22860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540640" y="410040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90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599240" y="2043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72200" y="2043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99120" y="2043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23040" y="4495680"/>
            <a:ext cx="3240" cy="393840"/>
          </a:xfrm>
          <a:custGeom>
            <a:avLst/>
            <a:gdLst/>
            <a:ahLst/>
            <a:rect l="l" t="t" r="r" b="b"/>
            <a:pathLst>
              <a:path w="2" h="248">
                <a:moveTo>
                  <a:pt x="2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02160" y="574344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02160" y="549756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21240" y="5249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21240" y="500364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21240" y="475776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11520" y="424656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11520" y="3998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11520" y="37432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11520" y="3497400"/>
            <a:ext cx="406728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11520" y="32590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11520" y="301320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11520" y="2747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11520" y="250200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02160" y="224640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10680" y="2104920"/>
            <a:ext cx="79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45360" y="207792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6276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3572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08680" y="209556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4516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81640" y="2070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616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6264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35600" y="209556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72080" y="207000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99040" y="206928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21240" y="4510080"/>
            <a:ext cx="40672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30600" y="2941560"/>
            <a:ext cx="4086360" cy="2908440"/>
          </a:xfrm>
          <a:custGeom>
            <a:avLst/>
            <a:gdLst/>
            <a:ahLst/>
            <a:rect l="l" t="t" r="r" b="b"/>
            <a:pathLst>
              <a:path w="1302" h="990">
                <a:moveTo>
                  <a:pt x="1302" y="99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16760" y="417672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50080" y="196704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537240" y="4324320"/>
            <a:ext cx="409320" cy="193680"/>
            <a:chOff x="6537240" y="4324320"/>
            <a:chExt cx="409320" cy="193680"/>
          </a:xfrm>
        </p:grpSpPr>
        <p:sp>
          <p:nvSpPr>
            <p:cNvPr id="433" name=""/>
            <p:cNvSpPr/>
            <p:nvPr/>
          </p:nvSpPr>
          <p:spPr>
            <a:xfrm>
              <a:off x="6537240" y="4324320"/>
              <a:ext cx="409320" cy="193680"/>
            </a:xfrm>
            <a:custGeom>
              <a:avLst/>
              <a:gdLst/>
              <a:ahLst/>
              <a:rect l="l" t="t" r="r" b="b"/>
              <a:pathLst>
                <a:path w="258" h="122">
                  <a:moveTo>
                    <a:pt x="0" y="24"/>
                  </a:moveTo>
                  <a:cubicBezTo>
                    <a:pt x="27" y="23"/>
                    <a:pt x="119" y="0"/>
                    <a:pt x="162" y="16"/>
                  </a:cubicBezTo>
                  <a:cubicBezTo>
                    <a:pt x="205" y="32"/>
                    <a:pt x="238" y="100"/>
                    <a:pt x="258" y="12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0600" y="4390920"/>
              <a:ext cx="270000" cy="11124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0" y="10"/>
                  </a:moveTo>
                  <a:cubicBezTo>
                    <a:pt x="19" y="10"/>
                    <a:pt x="86" y="0"/>
                    <a:pt x="114" y="10"/>
                  </a:cubicBezTo>
                  <a:cubicBezTo>
                    <a:pt x="142" y="20"/>
                    <a:pt x="158" y="58"/>
                    <a:pt x="170" y="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56386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4680" y="2209680"/>
            <a:ext cx="2768400" cy="2729160"/>
          </a:xfrm>
          <a:custGeom>
            <a:avLst/>
            <a:gdLst/>
            <a:ahLst/>
            <a:rect l="l" t="t" r="r" b="b"/>
            <a:pathLst>
              <a:path w="882" h="929">
                <a:moveTo>
                  <a:pt x="0" y="87"/>
                </a:moveTo>
                <a:cubicBezTo>
                  <a:pt x="33" y="77"/>
                  <a:pt x="132" y="0"/>
                  <a:pt x="201" y="24"/>
                </a:cubicBezTo>
                <a:cubicBezTo>
                  <a:pt x="270" y="48"/>
                  <a:pt x="341" y="121"/>
                  <a:pt x="411" y="234"/>
                </a:cubicBezTo>
                <a:cubicBezTo>
                  <a:pt x="481" y="347"/>
                  <a:pt x="566" y="591"/>
                  <a:pt x="618" y="702"/>
                </a:cubicBezTo>
                <a:cubicBezTo>
                  <a:pt x="670" y="813"/>
                  <a:pt x="691" y="871"/>
                  <a:pt x="726" y="900"/>
                </a:cubicBezTo>
                <a:cubicBezTo>
                  <a:pt x="761" y="929"/>
                  <a:pt x="805" y="895"/>
                  <a:pt x="831" y="879"/>
                </a:cubicBezTo>
                <a:cubicBezTo>
                  <a:pt x="857" y="863"/>
                  <a:pt x="872" y="820"/>
                  <a:pt x="882" y="8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2280" y="11556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 Угол, который составляет касательная с положительным направлением оси Ох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начит, значение производной в точке 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рицате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647960" y="3047760"/>
            <a:ext cx="3886560" cy="1449720"/>
            <a:chOff x="4647960" y="3047760"/>
            <a:chExt cx="3886560" cy="1449720"/>
          </a:xfrm>
        </p:grpSpPr>
        <p:sp>
          <p:nvSpPr>
            <p:cNvPr id="440" name=""/>
            <p:cNvSpPr/>
            <p:nvPr/>
          </p:nvSpPr>
          <p:spPr>
            <a:xfrm>
              <a:off x="6705720" y="4495680"/>
              <a:ext cx="18288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647960" y="3047760"/>
              <a:ext cx="2057400" cy="144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915080" y="32004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15480" y="54864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2280" y="220968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Найдем тангенс смежного угла. Для этого подберем треугольник с катетами-целыми числами. Этот треугольник не подход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94360" y="4000680"/>
            <a:ext cx="725400" cy="510840"/>
          </a:xfrm>
          <a:custGeom>
            <a:avLst/>
            <a:gdLst/>
            <a:ahLst/>
            <a:rect l="l" t="t" r="r" b="b"/>
            <a:pathLst>
              <a:path w="457" h="322">
                <a:moveTo>
                  <a:pt x="457" y="322"/>
                </a:moveTo>
                <a:lnTo>
                  <a:pt x="0" y="320"/>
                </a:lnTo>
                <a:lnTo>
                  <a:pt x="8" y="0"/>
                </a:lnTo>
                <a:lnTo>
                  <a:pt x="457" y="322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2280" y="38098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но найти несколько удобных 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4375080"/>
            <a:ext cx="69840" cy="133560"/>
          </a:xfrm>
          <a:custGeom>
            <a:avLst/>
            <a:gdLst/>
            <a:ahLst/>
            <a:rect l="l" t="t" r="r" b="b"/>
            <a:pathLst>
              <a:path w="44" h="84">
                <a:moveTo>
                  <a:pt x="10" y="84"/>
                </a:moveTo>
                <a:cubicBezTo>
                  <a:pt x="9" y="75"/>
                  <a:pt x="0" y="42"/>
                  <a:pt x="6" y="28"/>
                </a:cubicBezTo>
                <a:cubicBezTo>
                  <a:pt x="12" y="14"/>
                  <a:pt x="36" y="6"/>
                  <a:pt x="4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4572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 Найдем тангенс угла – это отношение 3: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5756400"/>
            <a:ext cx="1512720" cy="802080"/>
            <a:chOff x="304920" y="5756400"/>
            <a:chExt cx="1512720" cy="802080"/>
          </a:xfrm>
        </p:grpSpPr>
        <p:sp>
          <p:nvSpPr>
            <p:cNvPr id="450" name=""/>
            <p:cNvSpPr/>
            <p:nvPr/>
          </p:nvSpPr>
          <p:spPr>
            <a:xfrm>
              <a:off x="304920" y="5867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твет: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320840" y="5756400"/>
              <a:ext cx="496800" cy="802080"/>
              <a:chOff x="1320840" y="5756400"/>
              <a:chExt cx="496800" cy="802080"/>
            </a:xfrm>
          </p:grpSpPr>
          <p:sp>
            <p:nvSpPr>
              <p:cNvPr id="452" name=""/>
              <p:cNvSpPr/>
              <p:nvPr/>
            </p:nvSpPr>
            <p:spPr>
              <a:xfrm>
                <a:off x="1657440" y="6094440"/>
                <a:ext cx="1602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74360" y="6130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674360" y="5756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0840" y="5854680"/>
                <a:ext cx="380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–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948200" y="3249720"/>
            <a:ext cx="1071360" cy="750960"/>
            <a:chOff x="4948200" y="3249720"/>
            <a:chExt cx="1071360" cy="750960"/>
          </a:xfrm>
        </p:grpSpPr>
        <p:sp>
          <p:nvSpPr>
            <p:cNvPr id="457" name=""/>
            <p:cNvSpPr/>
            <p:nvPr/>
          </p:nvSpPr>
          <p:spPr>
            <a:xfrm>
              <a:off x="4948200" y="3249720"/>
              <a:ext cx="1071360" cy="750960"/>
            </a:xfrm>
            <a:custGeom>
              <a:avLst/>
              <a:gdLst/>
              <a:ahLst/>
              <a:rect l="l" t="t" r="r" b="b"/>
              <a:pathLst>
                <a:path w="675" h="473">
                  <a:moveTo>
                    <a:pt x="675" y="473"/>
                  </a:moveTo>
                  <a:lnTo>
                    <a:pt x="3" y="473"/>
                  </a:lnTo>
                  <a:lnTo>
                    <a:pt x="0" y="0"/>
                  </a:lnTo>
                  <a:lnTo>
                    <a:pt x="675" y="4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1372"/>
                  </a:srgbClr>
                </a:gs>
                <a:gs pos="100000">
                  <a:srgbClr val="66ffcc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19520" y="3733920"/>
              <a:ext cx="131760" cy="266760"/>
            </a:xfrm>
            <a:custGeom>
              <a:avLst/>
              <a:gdLst/>
              <a:ahLst/>
              <a:rect l="l" t="t" r="r" b="b"/>
              <a:pathLst>
                <a:path w="83" h="168">
                  <a:moveTo>
                    <a:pt x="83" y="0"/>
                  </a:moveTo>
                  <a:cubicBezTo>
                    <a:pt x="71" y="11"/>
                    <a:pt x="22" y="36"/>
                    <a:pt x="11" y="64"/>
                  </a:cubicBezTo>
                  <a:cubicBezTo>
                    <a:pt x="0" y="92"/>
                    <a:pt x="17" y="146"/>
                    <a:pt x="19" y="16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940280" y="3238560"/>
            <a:ext cx="3200400" cy="2273400"/>
            <a:chOff x="4940280" y="3238560"/>
            <a:chExt cx="3200400" cy="2273400"/>
          </a:xfrm>
        </p:grpSpPr>
        <p:sp>
          <p:nvSpPr>
            <p:cNvPr id="460" name=""/>
            <p:cNvSpPr/>
            <p:nvPr/>
          </p:nvSpPr>
          <p:spPr>
            <a:xfrm>
              <a:off x="4940280" y="3238560"/>
              <a:ext cx="3200400" cy="2273400"/>
            </a:xfrm>
            <a:custGeom>
              <a:avLst/>
              <a:gdLst/>
              <a:ahLst/>
              <a:rect l="l" t="t" r="r" b="b"/>
              <a:pathLst>
                <a:path w="2016" h="1432">
                  <a:moveTo>
                    <a:pt x="2016" y="1432"/>
                  </a:moveTo>
                  <a:lnTo>
                    <a:pt x="0" y="1424"/>
                  </a:lnTo>
                  <a:lnTo>
                    <a:pt x="8" y="0"/>
                  </a:lnTo>
                  <a:lnTo>
                    <a:pt x="2016" y="1432"/>
                  </a:lnTo>
                  <a:close/>
                </a:path>
              </a:pathLst>
            </a:custGeom>
            <a:solidFill>
              <a:srgbClr val="0066ff">
                <a:alpha val="5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8960" y="5194440"/>
              <a:ext cx="87120" cy="3049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55" y="0"/>
                  </a:moveTo>
                  <a:cubicBezTo>
                    <a:pt x="47" y="15"/>
                    <a:pt x="14" y="48"/>
                    <a:pt x="7" y="80"/>
                  </a:cubicBezTo>
                  <a:cubicBezTo>
                    <a:pt x="0" y="112"/>
                    <a:pt x="13" y="169"/>
                    <a:pt x="15" y="19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7182000" y="48117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649760" y="3429000"/>
            <a:ext cx="946080" cy="911880"/>
            <a:chOff x="4649760" y="3429000"/>
            <a:chExt cx="946080" cy="911880"/>
          </a:xfrm>
        </p:grpSpPr>
        <p:sp>
          <p:nvSpPr>
            <p:cNvPr id="464" name=""/>
            <p:cNvSpPr/>
            <p:nvPr/>
          </p:nvSpPr>
          <p:spPr>
            <a:xfrm>
              <a:off x="4649760" y="3429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59600" y="39117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57200" y="22860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629560" y="344340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469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684920" y="2652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157880" y="2652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84800" y="265284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3280" y="3860640"/>
            <a:ext cx="12960" cy="1117800"/>
          </a:xfrm>
          <a:custGeom>
            <a:avLst/>
            <a:gdLst/>
            <a:ahLst/>
            <a:rect l="l" t="t" r="r" b="b"/>
            <a:pathLst>
              <a:path w="8" h="704">
                <a:moveTo>
                  <a:pt x="0" y="0"/>
                </a:moveTo>
                <a:lnTo>
                  <a:pt x="8" y="70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87840" y="63532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87840" y="610704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06920" y="585936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06920" y="56134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06920" y="5367240"/>
            <a:ext cx="40672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97560" y="4856040"/>
            <a:ext cx="40669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97560" y="4608360"/>
            <a:ext cx="40669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97560" y="4352760"/>
            <a:ext cx="40669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97560" y="4106880"/>
            <a:ext cx="40669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97560" y="3868560"/>
            <a:ext cx="40669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97560" y="3622680"/>
            <a:ext cx="40669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97560" y="3357720"/>
            <a:ext cx="40669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97560" y="3111480"/>
            <a:ext cx="40669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87840" y="2855880"/>
            <a:ext cx="40672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496360" y="2714760"/>
            <a:ext cx="79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1040" y="268776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948440" y="2679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21400" y="2679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94360" y="27050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30840" y="2679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67320" y="267984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811840" y="267984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48320" y="267984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21280" y="270504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57760" y="2679840"/>
            <a:ext cx="936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084720" y="267912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95840" y="3862440"/>
            <a:ext cx="40672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267080"/>
            <a:ext cx="4241880" cy="2019600"/>
          </a:xfrm>
          <a:custGeom>
            <a:avLst/>
            <a:gdLst/>
            <a:ahLst/>
            <a:rect l="l" t="t" r="r" b="b"/>
            <a:pathLst>
              <a:path w="2672" h="1272">
                <a:moveTo>
                  <a:pt x="2672" y="127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54520" y="3505320"/>
            <a:ext cx="67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35760" y="257652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29280" y="3556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1556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ть подобные задания можно друг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рям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x +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уравнении угловой коэффициен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скомая вели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508720" y="48132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03840" y="5346720"/>
            <a:ext cx="7632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295280" y="5867280"/>
            <a:ext cx="1512720" cy="802080"/>
            <a:chOff x="1295280" y="5867280"/>
            <a:chExt cx="1512720" cy="802080"/>
          </a:xfrm>
        </p:grpSpPr>
        <p:sp>
          <p:nvSpPr>
            <p:cNvPr id="517" name=""/>
            <p:cNvSpPr/>
            <p:nvPr/>
          </p:nvSpPr>
          <p:spPr>
            <a:xfrm>
              <a:off x="1295280" y="59781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твет: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311200" y="5867280"/>
              <a:ext cx="496800" cy="802080"/>
              <a:chOff x="2311200" y="5867280"/>
              <a:chExt cx="496800" cy="80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2647800" y="6205320"/>
                <a:ext cx="1602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64720" y="6241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64720" y="5867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11200" y="5965560"/>
                <a:ext cx="380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–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>
            <a:off x="5038560" y="4938840"/>
            <a:ext cx="1346400" cy="1042920"/>
          </a:xfrm>
          <a:custGeom>
            <a:avLst/>
            <a:gdLst/>
            <a:ahLst/>
            <a:rect l="l" t="t" r="r" b="b"/>
            <a:pathLst>
              <a:path w="848" h="657">
                <a:moveTo>
                  <a:pt x="0" y="81"/>
                </a:moveTo>
                <a:cubicBezTo>
                  <a:pt x="45" y="70"/>
                  <a:pt x="188" y="22"/>
                  <a:pt x="272" y="17"/>
                </a:cubicBezTo>
                <a:cubicBezTo>
                  <a:pt x="356" y="12"/>
                  <a:pt x="425" y="0"/>
                  <a:pt x="504" y="49"/>
                </a:cubicBezTo>
                <a:cubicBezTo>
                  <a:pt x="583" y="98"/>
                  <a:pt x="687" y="212"/>
                  <a:pt x="744" y="313"/>
                </a:cubicBezTo>
                <a:cubicBezTo>
                  <a:pt x="801" y="414"/>
                  <a:pt x="826" y="585"/>
                  <a:pt x="848" y="65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81360" y="5105520"/>
            <a:ext cx="40672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88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17880" y="2209680"/>
            <a:ext cx="5140080" cy="510120"/>
            <a:chOff x="317880" y="2209680"/>
            <a:chExt cx="5140080" cy="510120"/>
          </a:xfrm>
        </p:grpSpPr>
        <p:sp>
          <p:nvSpPr>
            <p:cNvPr id="527" name=""/>
            <p:cNvSpPr/>
            <p:nvPr/>
          </p:nvSpPr>
          <p:spPr>
            <a:xfrm>
              <a:off x="317880" y="2209680"/>
              <a:ext cx="116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x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)=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2480" y="22096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=tg</a:t>
              </a:r>
              <a:r>
                <a:rPr b="1" lang="el-GR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6200" y="2209680"/>
              <a:ext cx="15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х +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28600" y="28195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ставим координаты известных точек в уравнение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4419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2;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53080" y="4952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; 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99120" y="398772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+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99120" y="3581280"/>
            <a:ext cx="160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=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+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11280" y="361944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124080" y="3733920"/>
            <a:ext cx="380880" cy="368280"/>
            <a:chOff x="3124080" y="3733920"/>
            <a:chExt cx="380880" cy="368280"/>
          </a:xfrm>
        </p:grpSpPr>
        <p:sp>
          <p:nvSpPr>
            <p:cNvPr id="537" name=""/>
            <p:cNvSpPr/>
            <p:nvPr/>
          </p:nvSpPr>
          <p:spPr>
            <a:xfrm>
              <a:off x="3124080" y="3784320"/>
              <a:ext cx="38088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1440" y="373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523880" y="4572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= 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626120" y="5048280"/>
            <a:ext cx="915480" cy="802080"/>
            <a:chOff x="1626120" y="5048280"/>
            <a:chExt cx="915480" cy="802080"/>
          </a:xfrm>
        </p:grpSpPr>
        <p:sp>
          <p:nvSpPr>
            <p:cNvPr id="541" name=""/>
            <p:cNvSpPr/>
            <p:nvPr/>
          </p:nvSpPr>
          <p:spPr>
            <a:xfrm>
              <a:off x="1626120" y="51624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2044800" y="5048280"/>
              <a:ext cx="496800" cy="802080"/>
              <a:chOff x="2044800" y="5048280"/>
              <a:chExt cx="496800" cy="802080"/>
            </a:xfrm>
          </p:grpSpPr>
          <p:sp>
            <p:nvSpPr>
              <p:cNvPr id="543" name=""/>
              <p:cNvSpPr/>
              <p:nvPr/>
            </p:nvSpPr>
            <p:spPr>
              <a:xfrm>
                <a:off x="2381400" y="5386320"/>
                <a:ext cx="1602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98320" y="5422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98320" y="5048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044800" y="5146560"/>
                <a:ext cx="380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–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"/>
          <p:cNvSpPr/>
          <p:nvPr/>
        </p:nvSpPr>
        <p:spPr>
          <a:xfrm flipH="1">
            <a:off x="2590560" y="4572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653200" y="455940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7639 -0.20741 E">
                                      <p:cBhvr>
                                        <p:cTn id="785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9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445 -0.06296 E">
                                      <p:cBhvr>
                                        <p:cTn id="815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Customer</cp:lastModifiedBy>
  <dcterms:modified xsi:type="dcterms:W3CDTF">2010-05-13T20:34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