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FDC1-5620-464A-8359-54A98CFE92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athege.ru:8080/or/ege/Main?view=Train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081-E45B-4B00-BA34-CA3F38D7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B16D-FD41-46E4-90BC-61671F7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173-05AF-4171-99F8-A6FF7894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4B0-4651-4BD8-BAA3-518C56FB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ED4D-E833-4E54-B3D9-237D92C8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7075-124F-44F8-B133-BA908435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5EC7-5402-4583-8F88-3146877F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7EE5-CBF7-42E2-8390-9EF54A8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27D-B52A-4F38-AFA5-4BE83E35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A483-5423-4BCE-8F35-CFB77F9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C1B0-1A7A-401E-B35F-FF9E9008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A89-A44E-4B46-B5D7-4143AD4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B7E-1B1A-4082-9CA3-0869BD1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13D0-FB4E-4BB9-A67D-BA2EDA56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F804-FA78-4C77-B886-FA6D55C5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EAB-B589-4577-99F9-D03257FA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A0A8-0FAC-492A-896D-4B2551AA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29D6-5BFF-4D98-A69A-D3B338C5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2DBF-C857-4708-8DE0-65B983DF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AE79-0A87-43BC-888B-7501420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A54B-4395-48C8-AF93-2F7D083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B172-8FB7-4E37-A42D-1119204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CEA-CFB8-4112-A0B2-FFB57411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ED78-3965-495F-9504-944E778C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005F-6F6B-4C1F-AFC7-842ABCEB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FE24-F243-4707-85C1-D99C46E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6BC4-A83D-4B2E-A2D5-924D0EE8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F92C-18C0-41E8-870F-C819BB13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A49F-F86E-4A9F-A01B-88E1D638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0F752-59EF-46B1-86D7-CF3ACD4B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625F-8D28-4D9E-A224-D8E0A665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FEC14-BCB5-4676-82DB-9A6A8ED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9F5F-1F3F-45D5-AD83-81391778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8E1-B770-44D0-8B96-11FEE344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BAAB-5DB4-4E84-B065-91D3EE35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AD90-296C-481C-967E-7DB48C6A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CF6C-E55E-4293-B507-BFAE378A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2BF2-C1A1-4BA2-9EA6-E87B269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1411-99B3-452B-A048-6400F41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B6088-746C-41FB-8DFA-6E56E1C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A8938-8CD5-40A5-A50F-212AFC1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ADDB-34C1-49C2-87A9-E27CD826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0805-A74E-49EC-871E-D041EAD1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815-4A86-49D4-BB1C-FA8BB262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6DD-6F38-4A3F-9B5B-60428B6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3C3-CA0F-46C8-9470-2A05E76E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9B8-5A30-4F23-A6D6-C404997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30D-D825-4D9D-8B01-CC6495D2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597D-C793-4FB5-8B68-649FF62BA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A87A-88F6-48E8-99EF-C4578C49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2622-B11C-4BA3-BC19-C97E3669A0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8700-508F-4800-AB26-EA24189267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900000" y="5589720"/>
            <a:ext cx="8066160" cy="991440"/>
            <a:chOff x="900000" y="5589720"/>
            <a:chExt cx="8066160" cy="991440"/>
          </a:xfrm>
        </p:grpSpPr>
        <p:sp>
          <p:nvSpPr>
            <p:cNvPr id="184" name=""/>
            <p:cNvSpPr txBox="1"/>
            <p:nvPr/>
          </p:nvSpPr>
          <p:spPr>
            <a:xfrm>
              <a:off x="900000" y="5589720"/>
              <a:ext cx="8066160" cy="83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3366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Савченко Е.М., учитель математики,  </a:t>
              </a:r>
              <a:endParaRPr b="0" lang="en-US" sz="1800" spc="1" strike="noStrike">
                <a:ln w="3240">
                  <a:solidFill>
                    <a:srgbClr val="003366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3366"/>
                    </a:solidFill>
                    <a:miter/>
                  </a:ln>
                  <a:solidFill>
                    <a:srgbClr val="257dff"/>
                  </a:solidFill>
                  <a:latin typeface="Arial"/>
                </a:rPr>
                <a:t>МОУ гимназия №      , г. Полярные Зори, Мурманской обл. </a:t>
              </a:r>
              <a:endParaRPr b="0" lang="en-US" sz="1800" spc="1" strike="noStrike">
                <a:ln w="3240">
                  <a:solidFill>
                    <a:srgbClr val="003366"/>
                  </a:solidFill>
                  <a:miter/>
                </a:ln>
                <a:solidFill>
                  <a:srgbClr val="257dff"/>
                </a:solidFill>
                <a:latin typeface="Arial"/>
                <a:ea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rot="21475800">
              <a:off x="3223440" y="5896800"/>
              <a:ext cx="600840" cy="67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 txBox="1"/>
          <p:nvPr/>
        </p:nvSpPr>
        <p:spPr>
          <a:xfrm>
            <a:off x="1469880" y="2819520"/>
            <a:ext cx="691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3240">
                  <a:solidFill>
                    <a:srgbClr val="1c1c1c"/>
                  </a:solidFill>
                  <a:miter/>
                </a:ln>
                <a:gradFill rotWithShape="0">
                  <a:gsLst>
                    <a:gs pos="0">
                      <a:srgbClr val="003d7a"/>
                    </a:gs>
                    <a:gs pos="100000">
                      <a:srgbClr val="0984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63504" dir="3183908" blurRad="0" rotWithShape="0">
                    <a:srgbClr val="0051a2">
                      <a:alpha val="50000"/>
                    </a:srgbClr>
                  </a:outerShdw>
                </a:effectLst>
                <a:latin typeface="Times New Roman"/>
              </a:rPr>
              <a:t>Готовимся к ЕГЭ</a:t>
            </a:r>
            <a:endParaRPr b="1" lang="en-US" sz="6600" spc="1" strike="noStrike">
              <a:ln w="3240">
                <a:solidFill>
                  <a:srgbClr val="1c1c1c"/>
                </a:solidFill>
                <a:miter/>
              </a:ln>
              <a:gradFill rotWithShape="0">
                <a:gsLst>
                  <a:gs pos="0">
                    <a:srgbClr val="003d7a"/>
                  </a:gs>
                  <a:gs pos="100000">
                    <a:srgbClr val="0984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63504" dir="3183908" blurRad="0" rotWithShape="0">
                  <a:srgbClr val="0051a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94240" y="3454560"/>
            <a:ext cx="12600" cy="2514600"/>
          </a:xfrm>
          <a:custGeom>
            <a:avLst/>
            <a:gdLst/>
            <a:ahLst/>
            <a:rect l="l" t="t" r="r" b="b"/>
            <a:pathLst>
              <a:path w="8" h="1584">
                <a:moveTo>
                  <a:pt x="0" y="0"/>
                </a:moveTo>
                <a:lnTo>
                  <a:pt x="8" y="1584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99040" y="2824200"/>
            <a:ext cx="657360" cy="665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42320" y="2808360"/>
            <a:ext cx="690480" cy="65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11480" y="2727360"/>
            <a:ext cx="738360" cy="722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32760" y="2822400"/>
            <a:ext cx="625320" cy="657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1520" y="2790720"/>
            <a:ext cx="704880" cy="673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88480" y="2852640"/>
            <a:ext cx="641160" cy="592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74840" y="2790720"/>
            <a:ext cx="625680" cy="642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92200" y="2790720"/>
            <a:ext cx="657360" cy="674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9800" y="2165400"/>
            <a:ext cx="0" cy="1251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2293920"/>
            <a:ext cx="31680" cy="11397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0" y="3446640"/>
            <a:ext cx="89377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78800" y="323064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38800" y="40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38800" y="4599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38800" y="5229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8800" y="581508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38800" y="279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38800" y="2214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38800" y="1628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5772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86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02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8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955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200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736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41280" y="324972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697120"/>
            <a:ext cx="9364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3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4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x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66240" y="324792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30360" y="3247920"/>
            <a:ext cx="15840" cy="2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430880" y="6275160"/>
            <a:ext cx="12528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366800" y="1087560"/>
            <a:ext cx="18900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30880" y="55260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4028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2680" y="-352440"/>
            <a:ext cx="1684440" cy="6529320"/>
          </a:xfrm>
          <a:custGeom>
            <a:avLst/>
            <a:gdLst/>
            <a:ahLst/>
            <a:rect l="l" t="t" r="r" b="b"/>
            <a:pathLst>
              <a:path w="1061" h="4113">
                <a:moveTo>
                  <a:pt x="0" y="4113"/>
                </a:moveTo>
                <a:cubicBezTo>
                  <a:pt x="245" y="3692"/>
                  <a:pt x="490" y="3272"/>
                  <a:pt x="667" y="2587"/>
                </a:cubicBezTo>
                <a:cubicBezTo>
                  <a:pt x="844" y="1902"/>
                  <a:pt x="995" y="431"/>
                  <a:pt x="1061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9800" y="-385920"/>
            <a:ext cx="1698480" cy="6400800"/>
          </a:xfrm>
          <a:custGeom>
            <a:avLst/>
            <a:gdLst/>
            <a:ahLst/>
            <a:rect l="l" t="t" r="r" b="b"/>
            <a:pathLst>
              <a:path w="949" h="4032">
                <a:moveTo>
                  <a:pt x="0" y="0"/>
                </a:moveTo>
                <a:cubicBezTo>
                  <a:pt x="82" y="872"/>
                  <a:pt x="165" y="1744"/>
                  <a:pt x="323" y="2416"/>
                </a:cubicBezTo>
                <a:cubicBezTo>
                  <a:pt x="481" y="3088"/>
                  <a:pt x="845" y="3764"/>
                  <a:pt x="949" y="403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080" y="2149560"/>
            <a:ext cx="4795560" cy="3817800"/>
          </a:xfrm>
          <a:custGeom>
            <a:avLst/>
            <a:gdLst/>
            <a:ahLst/>
            <a:rect l="l" t="t" r="r" b="b"/>
            <a:pathLst>
              <a:path w="3021" h="2405">
                <a:moveTo>
                  <a:pt x="0" y="2405"/>
                </a:moveTo>
                <a:cubicBezTo>
                  <a:pt x="94" y="2026"/>
                  <a:pt x="188" y="1647"/>
                  <a:pt x="333" y="1263"/>
                </a:cubicBezTo>
                <a:cubicBezTo>
                  <a:pt x="478" y="879"/>
                  <a:pt x="683" y="116"/>
                  <a:pt x="869" y="101"/>
                </a:cubicBezTo>
                <a:cubicBezTo>
                  <a:pt x="1055" y="86"/>
                  <a:pt x="1329" y="954"/>
                  <a:pt x="1452" y="1172"/>
                </a:cubicBezTo>
                <a:cubicBezTo>
                  <a:pt x="1575" y="1390"/>
                  <a:pt x="1556" y="1362"/>
                  <a:pt x="1607" y="1411"/>
                </a:cubicBezTo>
                <a:cubicBezTo>
                  <a:pt x="1658" y="1460"/>
                  <a:pt x="1745" y="1466"/>
                  <a:pt x="1757" y="1469"/>
                </a:cubicBezTo>
                <a:cubicBezTo>
                  <a:pt x="1769" y="1472"/>
                  <a:pt x="1877" y="1461"/>
                  <a:pt x="1929" y="1495"/>
                </a:cubicBezTo>
                <a:cubicBezTo>
                  <a:pt x="1981" y="1529"/>
                  <a:pt x="1998" y="1546"/>
                  <a:pt x="2067" y="1676"/>
                </a:cubicBezTo>
                <a:cubicBezTo>
                  <a:pt x="2136" y="1806"/>
                  <a:pt x="2230" y="2319"/>
                  <a:pt x="2344" y="2274"/>
                </a:cubicBezTo>
                <a:cubicBezTo>
                  <a:pt x="2458" y="2229"/>
                  <a:pt x="2635" y="1784"/>
                  <a:pt x="2748" y="1405"/>
                </a:cubicBezTo>
                <a:cubicBezTo>
                  <a:pt x="2861" y="1026"/>
                  <a:pt x="2976" y="234"/>
                  <a:pt x="3021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9800" y="2133720"/>
            <a:ext cx="561960" cy="3881160"/>
          </a:xfrm>
          <a:custGeom>
            <a:avLst/>
            <a:gdLst/>
            <a:ahLst/>
            <a:rect l="l" t="t" r="r" b="b"/>
            <a:pathLst>
              <a:path w="354" h="2445">
                <a:moveTo>
                  <a:pt x="0" y="0"/>
                </a:moveTo>
                <a:cubicBezTo>
                  <a:pt x="147" y="1018"/>
                  <a:pt x="295" y="2036"/>
                  <a:pt x="354" y="244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44640" y="-546120"/>
            <a:ext cx="0" cy="7010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240600" y="3384720"/>
            <a:ext cx="15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3368520"/>
            <a:ext cx="15840" cy="11066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299360" y="3416400"/>
            <a:ext cx="15840" cy="22939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33640" y="2278080"/>
            <a:ext cx="2470320" cy="1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545160" y="5807160"/>
            <a:ext cx="1747800" cy="15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07160" y="4492800"/>
            <a:ext cx="1652400" cy="48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10000" y="363600"/>
            <a:ext cx="246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(x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9720" y="68436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6600" spc="-1" strike="noStrike" baseline="30000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x)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е существу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21880" y="428760"/>
            <a:ext cx="242568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8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8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01800" y="447840"/>
            <a:ext cx="218016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8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43680" y="668160"/>
            <a:ext cx="613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Точка перегиб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950080" y="3240000"/>
            <a:ext cx="498240" cy="6588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83200" y="4443480"/>
            <a:ext cx="435240" cy="753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03240" y="34034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56080" y="34164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78440" y="34034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6520" y="3397320"/>
            <a:ext cx="8856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440" y="34034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37600" y="3390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25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" dur="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" dur="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85549E-006 C 0.00331 0.01226 0.00678 0.02451 0.0106 0.03491 C 0.01442 0.04532 0.01754 0.0548 0.02275 0.06289 C 0.02796 0.07098 0.03489 0.08046 0.0422 0.08393 C 0.04949 0.0874 0.06268 0.08393 0.06667 0.08393 E">
                                      <p:cBhvr>
                                        <p:cTn id="298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2.31214E-006 C 0.0139 0.00254 0.02778 0.00508 0.03508 0.01179 C 0.04237 0.01849 0.0408 0.02959 0.04393 0.03977 C 0.04705 0.04994 0.05261 0.06659 0.05435 0.07237 E">
                                      <p:cBhvr>
                                        <p:cTn id="30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213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1440" y="4869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440" y="4005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23840" y="1982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450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17236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0492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прерывная функция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а 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;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ее график. В ответе укажите количество точек графика этой функции, в которых касательная параллельна оси О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260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900000" y="5877000"/>
            <a:ext cx="2016360" cy="576360"/>
          </a:xfrm>
          <a:custGeom>
            <a:avLst/>
            <a:gdLst>
              <a:gd name="textAreaLeft" fmla="*/ 37080 w 2016360"/>
              <a:gd name="textAreaRight" fmla="*/ 1979280 w 20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33" h="21600">
                <a:moveTo>
                  <a:pt x="0" y="0"/>
                </a:moveTo>
                <a:lnTo>
                  <a:pt x="75533" y="0"/>
                </a:lnTo>
                <a:lnTo>
                  <a:pt x="75533" y="21600"/>
                </a:lnTo>
                <a:lnTo>
                  <a:pt x="0" y="21600"/>
                </a:lnTo>
                <a:close/>
              </a:path>
              <a:path fill="lightenLess" w="75533" h="21600">
                <a:moveTo>
                  <a:pt x="0" y="0"/>
                </a:moveTo>
                <a:lnTo>
                  <a:pt x="75533" y="0"/>
                </a:lnTo>
                <a:lnTo>
                  <a:pt x="74133" y="1400"/>
                </a:lnTo>
                <a:lnTo>
                  <a:pt x="1400" y="1400"/>
                </a:lnTo>
                <a:close/>
              </a:path>
              <a:path fill="darken" w="75533" h="21600">
                <a:moveTo>
                  <a:pt x="75533" y="0"/>
                </a:moveTo>
                <a:lnTo>
                  <a:pt x="75533" y="21600"/>
                </a:lnTo>
                <a:lnTo>
                  <a:pt x="74133" y="20200"/>
                </a:lnTo>
                <a:lnTo>
                  <a:pt x="74133" y="1400"/>
                </a:lnTo>
                <a:close/>
              </a:path>
              <a:path fill="darkenLess" w="75533" h="21600">
                <a:moveTo>
                  <a:pt x="75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3" y="20200"/>
                </a:lnTo>
                <a:close/>
              </a:path>
              <a:path fill="lighten" w="75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20000" y="2349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9520" y="4495680"/>
            <a:ext cx="390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3516480"/>
            <a:ext cx="485784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2336760"/>
            <a:ext cx="491508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76760" y="51958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70280" y="49100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70280" y="4630680"/>
            <a:ext cx="493416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57680" y="435132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52720" y="37987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82880" y="3240000"/>
            <a:ext cx="492156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63800" y="2960640"/>
            <a:ext cx="494064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52720" y="409248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776760" y="2263680"/>
            <a:ext cx="4929120" cy="2952720"/>
            <a:chOff x="3776760" y="2263680"/>
            <a:chExt cx="4929120" cy="2952720"/>
          </a:xfrm>
        </p:grpSpPr>
        <p:sp>
          <p:nvSpPr>
            <p:cNvPr id="282" name=""/>
            <p:cNvSpPr/>
            <p:nvPr/>
          </p:nvSpPr>
          <p:spPr>
            <a:xfrm>
              <a:off x="3776760" y="2270880"/>
              <a:ext cx="3240" cy="29278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04440" y="2285640"/>
              <a:ext cx="1440" cy="289440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93400" y="2278080"/>
              <a:ext cx="6120" cy="29278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82000" y="2278080"/>
              <a:ext cx="6480" cy="292428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77440" y="2278080"/>
              <a:ext cx="1440" cy="291672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66040" y="2274480"/>
              <a:ext cx="6480" cy="29278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42400" y="2270880"/>
              <a:ext cx="22320" cy="29455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50080" y="2285640"/>
              <a:ext cx="6480" cy="291672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45520" y="2285640"/>
              <a:ext cx="1440" cy="29095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23080" y="2263680"/>
              <a:ext cx="17640" cy="29527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8160" y="2278080"/>
              <a:ext cx="1800" cy="292788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13600" y="2282040"/>
              <a:ext cx="6120" cy="29203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96080" y="2278080"/>
              <a:ext cx="12600" cy="292068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97640" y="2278080"/>
              <a:ext cx="6120" cy="29206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92720" y="2278080"/>
              <a:ext cx="1800" cy="292788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1680" y="2278080"/>
              <a:ext cx="1440" cy="292068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229440" y="2279520"/>
              <a:ext cx="0" cy="293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4450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2520" y="191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612640" y="3679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63800" y="2646360"/>
            <a:ext cx="4965840" cy="12600"/>
          </a:xfrm>
          <a:custGeom>
            <a:avLst/>
            <a:gdLst/>
            <a:ahLst/>
            <a:rect l="l" t="t" r="r" b="b"/>
            <a:pathLst>
              <a:path w="3128" h="8">
                <a:moveTo>
                  <a:pt x="0" y="8"/>
                </a:moveTo>
                <a:lnTo>
                  <a:pt x="312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64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508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5080" y="40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844640"/>
            <a:ext cx="1944720" cy="503280"/>
          </a:xfrm>
          <a:prstGeom prst="wedgeEllipseCallout">
            <a:avLst>
              <a:gd name="adj1" fmla="val -56611"/>
              <a:gd name="adj2" fmla="val 11687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3860640"/>
            <a:ext cx="2160720" cy="503280"/>
          </a:xfrm>
          <a:prstGeom prst="wedgeEllipseCallout">
            <a:avLst>
              <a:gd name="adj1" fmla="val -65208"/>
              <a:gd name="adj2" fmla="val 8312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92360" y="4797360"/>
            <a:ext cx="2016000" cy="504720"/>
          </a:xfrm>
          <a:prstGeom prst="wedgeEllipseCallout">
            <a:avLst>
              <a:gd name="adj1" fmla="val -64407"/>
              <a:gd name="adj2" fmla="val 56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19280" y="2852640"/>
            <a:ext cx="2016000" cy="505080"/>
          </a:xfrm>
          <a:prstGeom prst="wedgeEllipseCallout">
            <a:avLst>
              <a:gd name="adj1" fmla="val -71967"/>
              <a:gd name="adj2" fmla="val 10031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508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02200" y="3038400"/>
            <a:ext cx="4330440" cy="1984320"/>
          </a:xfrm>
          <a:custGeom>
            <a:avLst/>
            <a:gdLst/>
            <a:ahLst/>
            <a:rect l="l" t="t" r="r" b="b"/>
            <a:pathLst>
              <a:path w="2728" h="1250">
                <a:moveTo>
                  <a:pt x="0" y="1158"/>
                </a:moveTo>
                <a:cubicBezTo>
                  <a:pt x="28" y="991"/>
                  <a:pt x="88" y="176"/>
                  <a:pt x="160" y="155"/>
                </a:cubicBezTo>
                <a:cubicBezTo>
                  <a:pt x="232" y="134"/>
                  <a:pt x="320" y="1050"/>
                  <a:pt x="434" y="1029"/>
                </a:cubicBezTo>
                <a:cubicBezTo>
                  <a:pt x="548" y="1008"/>
                  <a:pt x="691" y="0"/>
                  <a:pt x="842" y="30"/>
                </a:cubicBezTo>
                <a:cubicBezTo>
                  <a:pt x="993" y="60"/>
                  <a:pt x="1147" y="1174"/>
                  <a:pt x="1343" y="1212"/>
                </a:cubicBezTo>
                <a:cubicBezTo>
                  <a:pt x="1539" y="1250"/>
                  <a:pt x="1787" y="267"/>
                  <a:pt x="2018" y="261"/>
                </a:cubicBezTo>
                <a:cubicBezTo>
                  <a:pt x="2249" y="255"/>
                  <a:pt x="2580" y="984"/>
                  <a:pt x="2728" y="1174"/>
                </a:cubicBezTo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74960" y="357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02520" y="357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67280" y="4869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8360" y="4869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886200" y="3268800"/>
            <a:ext cx="1195560" cy="79200"/>
            <a:chOff x="3886200" y="3268800"/>
            <a:chExt cx="1195560" cy="79200"/>
          </a:xfrm>
        </p:grpSpPr>
        <p:sp>
          <p:nvSpPr>
            <p:cNvPr id="317" name=""/>
            <p:cNvSpPr/>
            <p:nvPr/>
          </p:nvSpPr>
          <p:spPr>
            <a:xfrm>
              <a:off x="3886200" y="330516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19640" y="326880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809960" y="3052800"/>
            <a:ext cx="1347840" cy="79200"/>
            <a:chOff x="4809960" y="3052800"/>
            <a:chExt cx="1347840" cy="79200"/>
          </a:xfrm>
        </p:grpSpPr>
        <p:sp>
          <p:nvSpPr>
            <p:cNvPr id="320" name=""/>
            <p:cNvSpPr/>
            <p:nvPr/>
          </p:nvSpPr>
          <p:spPr>
            <a:xfrm>
              <a:off x="5400720" y="305280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9960" y="3090960"/>
              <a:ext cx="1347840" cy="1440"/>
            </a:xfrm>
            <a:custGeom>
              <a:avLst/>
              <a:gdLst/>
              <a:ahLst/>
              <a:rect l="l" t="t" r="r" b="b"/>
              <a:pathLst>
                <a:path w="849" h="1">
                  <a:moveTo>
                    <a:pt x="0" y="0"/>
                  </a:move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195800" y="4635360"/>
            <a:ext cx="1266840" cy="79560"/>
            <a:chOff x="4195800" y="4635360"/>
            <a:chExt cx="1266840" cy="79560"/>
          </a:xfrm>
        </p:grpSpPr>
        <p:sp>
          <p:nvSpPr>
            <p:cNvPr id="323" name=""/>
            <p:cNvSpPr/>
            <p:nvPr/>
          </p:nvSpPr>
          <p:spPr>
            <a:xfrm>
              <a:off x="4751280" y="4635360"/>
              <a:ext cx="81000" cy="7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95800" y="4676760"/>
              <a:ext cx="1266840" cy="4680"/>
            </a:xfrm>
            <a:custGeom>
              <a:avLst/>
              <a:gdLst/>
              <a:ahLst/>
              <a:rect l="l" t="t" r="r" b="b"/>
              <a:pathLst>
                <a:path w="798" h="3">
                  <a:moveTo>
                    <a:pt x="0" y="3"/>
                  </a:moveTo>
                  <a:lnTo>
                    <a:pt x="79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543640" y="4924440"/>
            <a:ext cx="1342800" cy="79200"/>
            <a:chOff x="5543640" y="4924440"/>
            <a:chExt cx="1342800" cy="79200"/>
          </a:xfrm>
        </p:grpSpPr>
        <p:sp>
          <p:nvSpPr>
            <p:cNvPr id="326" name=""/>
            <p:cNvSpPr/>
            <p:nvPr/>
          </p:nvSpPr>
          <p:spPr>
            <a:xfrm>
              <a:off x="6192720" y="492444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43640" y="4971960"/>
              <a:ext cx="1342800" cy="4680"/>
            </a:xfrm>
            <a:custGeom>
              <a:avLst/>
              <a:gdLst/>
              <a:ahLst/>
              <a:rect l="l" t="t" r="r" b="b"/>
              <a:pathLst>
                <a:path w="846" h="3">
                  <a:moveTo>
                    <a:pt x="0" y="3"/>
                  </a:moveTo>
                  <a:lnTo>
                    <a:pt x="84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91240" y="3411360"/>
            <a:ext cx="1376280" cy="79560"/>
            <a:chOff x="6591240" y="3411360"/>
            <a:chExt cx="1376280" cy="79560"/>
          </a:xfrm>
        </p:grpSpPr>
        <p:sp>
          <p:nvSpPr>
            <p:cNvPr id="329" name=""/>
            <p:cNvSpPr/>
            <p:nvPr/>
          </p:nvSpPr>
          <p:spPr>
            <a:xfrm>
              <a:off x="7272360" y="3411360"/>
              <a:ext cx="81000" cy="7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91240" y="3438360"/>
              <a:ext cx="1376280" cy="5040"/>
            </a:xfrm>
            <a:custGeom>
              <a:avLst/>
              <a:gdLst/>
              <a:ahLst/>
              <a:rect l="l" t="t" r="r" b="b"/>
              <a:pathLst>
                <a:path w="867" h="3">
                  <a:moveTo>
                    <a:pt x="0" y="3"/>
                  </a:moveTo>
                  <a:lnTo>
                    <a:pt x="867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9640" y="2133720"/>
            <a:ext cx="289080" cy="5032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585">
                <a:moveTo>
                  <a:pt x="0" y="0"/>
                </a:moveTo>
                <a:lnTo>
                  <a:pt x="21600" y="0"/>
                </a:lnTo>
                <a:lnTo>
                  <a:pt x="21600" y="37585"/>
                </a:lnTo>
                <a:lnTo>
                  <a:pt x="0" y="37585"/>
                </a:lnTo>
                <a:close/>
              </a:path>
              <a:path fill="lightenLess" w="21600" h="37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85">
                <a:moveTo>
                  <a:pt x="21600" y="0"/>
                </a:moveTo>
                <a:lnTo>
                  <a:pt x="21600" y="37585"/>
                </a:lnTo>
                <a:lnTo>
                  <a:pt x="20200" y="36185"/>
                </a:lnTo>
                <a:lnTo>
                  <a:pt x="20200" y="1400"/>
                </a:lnTo>
                <a:close/>
              </a:path>
              <a:path fill="darkenLess" w="21600" h="37585">
                <a:moveTo>
                  <a:pt x="21600" y="37585"/>
                </a:moveTo>
                <a:lnTo>
                  <a:pt x="0" y="37585"/>
                </a:lnTo>
                <a:lnTo>
                  <a:pt x="1400" y="36185"/>
                </a:lnTo>
                <a:lnTo>
                  <a:pt x="20200" y="36185"/>
                </a:lnTo>
                <a:close/>
              </a:path>
              <a:path fill="lighten" w="21600" h="37585">
                <a:moveTo>
                  <a:pt x="0" y="37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4869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440" y="4005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23840" y="1982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50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8001000" y="605304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304920"/>
            <a:ext cx="87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прерывная функция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а на интервале (-7; 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ее график. Найдите количество точек, в которых касательная к графику функции параллельна прямой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339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900000" y="5877000"/>
            <a:ext cx="2016360" cy="576360"/>
          </a:xfrm>
          <a:custGeom>
            <a:avLst/>
            <a:gdLst>
              <a:gd name="textAreaLeft" fmla="*/ 37080 w 2016360"/>
              <a:gd name="textAreaRight" fmla="*/ 1979280 w 20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33" h="21600">
                <a:moveTo>
                  <a:pt x="0" y="0"/>
                </a:moveTo>
                <a:lnTo>
                  <a:pt x="75533" y="0"/>
                </a:lnTo>
                <a:lnTo>
                  <a:pt x="75533" y="21600"/>
                </a:lnTo>
                <a:lnTo>
                  <a:pt x="0" y="21600"/>
                </a:lnTo>
                <a:close/>
              </a:path>
              <a:path fill="lightenLess" w="75533" h="21600">
                <a:moveTo>
                  <a:pt x="0" y="0"/>
                </a:moveTo>
                <a:lnTo>
                  <a:pt x="75533" y="0"/>
                </a:lnTo>
                <a:lnTo>
                  <a:pt x="74133" y="1400"/>
                </a:lnTo>
                <a:lnTo>
                  <a:pt x="1400" y="1400"/>
                </a:lnTo>
                <a:close/>
              </a:path>
              <a:path fill="darken" w="75533" h="21600">
                <a:moveTo>
                  <a:pt x="75533" y="0"/>
                </a:moveTo>
                <a:lnTo>
                  <a:pt x="75533" y="21600"/>
                </a:lnTo>
                <a:lnTo>
                  <a:pt x="74133" y="20200"/>
                </a:lnTo>
                <a:lnTo>
                  <a:pt x="74133" y="1400"/>
                </a:lnTo>
                <a:close/>
              </a:path>
              <a:path fill="darkenLess" w="75533" h="21600">
                <a:moveTo>
                  <a:pt x="75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3" y="20200"/>
                </a:lnTo>
                <a:close/>
              </a:path>
              <a:path fill="lighten" w="75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20000" y="30765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9520" y="5222880"/>
            <a:ext cx="390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52720" y="424332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08360" y="3063960"/>
            <a:ext cx="491508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76760" y="59230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56372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70280" y="5357880"/>
            <a:ext cx="493416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57680" y="5078520"/>
            <a:ext cx="4946760" cy="612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52720" y="45259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2880" y="3967200"/>
            <a:ext cx="4921560" cy="144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63800" y="3687840"/>
            <a:ext cx="494064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2720" y="4819680"/>
            <a:ext cx="489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776760" y="1828800"/>
            <a:ext cx="4929120" cy="4114800"/>
            <a:chOff x="3776760" y="1828800"/>
            <a:chExt cx="4929120" cy="4114800"/>
          </a:xfrm>
        </p:grpSpPr>
        <p:sp>
          <p:nvSpPr>
            <p:cNvPr id="361" name=""/>
            <p:cNvSpPr/>
            <p:nvPr/>
          </p:nvSpPr>
          <p:spPr>
            <a:xfrm>
              <a:off x="3776760" y="1838880"/>
              <a:ext cx="3240" cy="408024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704440" y="1859400"/>
              <a:ext cx="1440" cy="4033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93400" y="1848960"/>
              <a:ext cx="6120" cy="40802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82000" y="1848960"/>
              <a:ext cx="6480" cy="407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77440" y="1848960"/>
              <a:ext cx="1440" cy="406476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6040" y="1843920"/>
              <a:ext cx="6480" cy="40798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42400" y="1838880"/>
              <a:ext cx="22320" cy="41043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50080" y="1859400"/>
              <a:ext cx="6480" cy="40644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45520" y="1859400"/>
              <a:ext cx="1440" cy="40543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23080" y="1828800"/>
              <a:ext cx="17640" cy="41148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18160" y="1848960"/>
              <a:ext cx="1800" cy="408024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3600" y="1854360"/>
              <a:ext cx="6120" cy="40698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96080" y="1848960"/>
              <a:ext cx="12600" cy="40701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97640" y="1848960"/>
              <a:ext cx="6120" cy="40701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2720" y="1848960"/>
              <a:ext cx="1800" cy="408024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81680" y="1848960"/>
              <a:ext cx="1440" cy="40701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229440" y="1851480"/>
              <a:ext cx="0" cy="408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6445080" y="481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58360" y="154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612640" y="4406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763800" y="3373560"/>
            <a:ext cx="4965840" cy="12600"/>
          </a:xfrm>
          <a:custGeom>
            <a:avLst/>
            <a:gdLst/>
            <a:ahLst/>
            <a:rect l="l" t="t" r="r" b="b"/>
            <a:pathLst>
              <a:path w="3128" h="8">
                <a:moveTo>
                  <a:pt x="0" y="8"/>
                </a:moveTo>
                <a:lnTo>
                  <a:pt x="312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306864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4508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45080" y="40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1844640"/>
            <a:ext cx="1944720" cy="503280"/>
          </a:xfrm>
          <a:prstGeom prst="wedgeEllipseCallout">
            <a:avLst>
              <a:gd name="adj1" fmla="val -56611"/>
              <a:gd name="adj2" fmla="val 11687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3860640"/>
            <a:ext cx="2160720" cy="503280"/>
          </a:xfrm>
          <a:prstGeom prst="wedgeEllipseCallout">
            <a:avLst>
              <a:gd name="adj1" fmla="val -65208"/>
              <a:gd name="adj2" fmla="val 8312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92360" y="4797360"/>
            <a:ext cx="2016000" cy="504720"/>
          </a:xfrm>
          <a:prstGeom prst="wedgeEllipseCallout">
            <a:avLst>
              <a:gd name="adj1" fmla="val -64407"/>
              <a:gd name="adj2" fmla="val 56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19280" y="2852640"/>
            <a:ext cx="2016000" cy="505080"/>
          </a:xfrm>
          <a:prstGeom prst="wedgeEllipseCallout">
            <a:avLst>
              <a:gd name="adj1" fmla="val -71967"/>
              <a:gd name="adj2" fmla="val 10031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4508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74240" y="45021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27432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243828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33920" y="213372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33920" y="18288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92160" y="4444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733920" y="1714680"/>
            <a:ext cx="4952880" cy="459720"/>
            <a:chOff x="3733920" y="1714680"/>
            <a:chExt cx="4952880" cy="459720"/>
          </a:xfrm>
        </p:grpSpPr>
        <p:sp>
          <p:nvSpPr>
            <p:cNvPr id="397" name=""/>
            <p:cNvSpPr/>
            <p:nvPr/>
          </p:nvSpPr>
          <p:spPr>
            <a:xfrm>
              <a:off x="3733920" y="2133720"/>
              <a:ext cx="4952880" cy="14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22800" y="1714680"/>
              <a:ext cx="103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076640" y="3067200"/>
            <a:ext cx="4318200" cy="2479680"/>
          </a:xfrm>
          <a:custGeom>
            <a:avLst/>
            <a:gdLst/>
            <a:ahLst/>
            <a:rect l="l" t="t" r="r" b="b"/>
            <a:pathLst>
              <a:path w="2720" h="1562">
                <a:moveTo>
                  <a:pt x="2720" y="308"/>
                </a:moveTo>
                <a:cubicBezTo>
                  <a:pt x="2684" y="452"/>
                  <a:pt x="2549" y="995"/>
                  <a:pt x="2504" y="1172"/>
                </a:cubicBezTo>
                <a:cubicBezTo>
                  <a:pt x="2459" y="1349"/>
                  <a:pt x="2483" y="1308"/>
                  <a:pt x="2448" y="1372"/>
                </a:cubicBezTo>
                <a:cubicBezTo>
                  <a:pt x="2413" y="1436"/>
                  <a:pt x="2344" y="1562"/>
                  <a:pt x="2296" y="1556"/>
                </a:cubicBezTo>
                <a:cubicBezTo>
                  <a:pt x="2248" y="1550"/>
                  <a:pt x="2201" y="1438"/>
                  <a:pt x="2160" y="1337"/>
                </a:cubicBezTo>
                <a:cubicBezTo>
                  <a:pt x="2119" y="1236"/>
                  <a:pt x="2086" y="1043"/>
                  <a:pt x="2051" y="951"/>
                </a:cubicBezTo>
                <a:cubicBezTo>
                  <a:pt x="2016" y="859"/>
                  <a:pt x="1987" y="789"/>
                  <a:pt x="1952" y="783"/>
                </a:cubicBezTo>
                <a:cubicBezTo>
                  <a:pt x="1917" y="777"/>
                  <a:pt x="1875" y="836"/>
                  <a:pt x="1841" y="915"/>
                </a:cubicBezTo>
                <a:cubicBezTo>
                  <a:pt x="1807" y="994"/>
                  <a:pt x="1778" y="1187"/>
                  <a:pt x="1748" y="1257"/>
                </a:cubicBezTo>
                <a:cubicBezTo>
                  <a:pt x="1718" y="1327"/>
                  <a:pt x="1688" y="1334"/>
                  <a:pt x="1660" y="1333"/>
                </a:cubicBezTo>
                <a:cubicBezTo>
                  <a:pt x="1632" y="1332"/>
                  <a:pt x="1607" y="1335"/>
                  <a:pt x="1580" y="1253"/>
                </a:cubicBezTo>
                <a:cubicBezTo>
                  <a:pt x="1553" y="1171"/>
                  <a:pt x="1528" y="923"/>
                  <a:pt x="1496" y="840"/>
                </a:cubicBezTo>
                <a:cubicBezTo>
                  <a:pt x="1464" y="757"/>
                  <a:pt x="1401" y="756"/>
                  <a:pt x="1385" y="753"/>
                </a:cubicBezTo>
                <a:cubicBezTo>
                  <a:pt x="1369" y="750"/>
                  <a:pt x="1312" y="761"/>
                  <a:pt x="1277" y="708"/>
                </a:cubicBezTo>
                <a:cubicBezTo>
                  <a:pt x="1242" y="655"/>
                  <a:pt x="1225" y="518"/>
                  <a:pt x="1172" y="433"/>
                </a:cubicBezTo>
                <a:cubicBezTo>
                  <a:pt x="1119" y="348"/>
                  <a:pt x="1059" y="267"/>
                  <a:pt x="960" y="197"/>
                </a:cubicBezTo>
                <a:cubicBezTo>
                  <a:pt x="861" y="127"/>
                  <a:pt x="688" y="0"/>
                  <a:pt x="576" y="12"/>
                </a:cubicBezTo>
                <a:cubicBezTo>
                  <a:pt x="464" y="24"/>
                  <a:pt x="384" y="133"/>
                  <a:pt x="288" y="268"/>
                </a:cubicBezTo>
                <a:cubicBezTo>
                  <a:pt x="192" y="403"/>
                  <a:pt x="60" y="708"/>
                  <a:pt x="0" y="82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038480" y="434340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69280" y="350532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533840" y="3035160"/>
            <a:ext cx="1195560" cy="79200"/>
            <a:chOff x="4533840" y="3035160"/>
            <a:chExt cx="1195560" cy="79200"/>
          </a:xfrm>
        </p:grpSpPr>
        <p:sp>
          <p:nvSpPr>
            <p:cNvPr id="403" name=""/>
            <p:cNvSpPr/>
            <p:nvPr/>
          </p:nvSpPr>
          <p:spPr>
            <a:xfrm>
              <a:off x="4533840" y="307152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67280" y="30351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638680" y="4216320"/>
            <a:ext cx="1266840" cy="79560"/>
            <a:chOff x="5638680" y="4216320"/>
            <a:chExt cx="1266840" cy="79560"/>
          </a:xfrm>
        </p:grpSpPr>
        <p:sp>
          <p:nvSpPr>
            <p:cNvPr id="406" name=""/>
            <p:cNvSpPr/>
            <p:nvPr/>
          </p:nvSpPr>
          <p:spPr>
            <a:xfrm>
              <a:off x="6194160" y="4216320"/>
              <a:ext cx="81000" cy="7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38680" y="4257720"/>
              <a:ext cx="1266840" cy="4680"/>
            </a:xfrm>
            <a:custGeom>
              <a:avLst/>
              <a:gdLst/>
              <a:ahLst/>
              <a:rect l="l" t="t" r="r" b="b"/>
              <a:pathLst>
                <a:path w="798" h="3">
                  <a:moveTo>
                    <a:pt x="0" y="3"/>
                  </a:moveTo>
                  <a:lnTo>
                    <a:pt x="79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019920" y="5143680"/>
            <a:ext cx="1342800" cy="79200"/>
            <a:chOff x="6019920" y="5143680"/>
            <a:chExt cx="1342800" cy="79200"/>
          </a:xfrm>
        </p:grpSpPr>
        <p:sp>
          <p:nvSpPr>
            <p:cNvPr id="409" name=""/>
            <p:cNvSpPr/>
            <p:nvPr/>
          </p:nvSpPr>
          <p:spPr>
            <a:xfrm>
              <a:off x="6669000" y="51436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19920" y="5191200"/>
              <a:ext cx="1342800" cy="4680"/>
            </a:xfrm>
            <a:custGeom>
              <a:avLst/>
              <a:gdLst/>
              <a:ahLst/>
              <a:rect l="l" t="t" r="r" b="b"/>
              <a:pathLst>
                <a:path w="846" h="3">
                  <a:moveTo>
                    <a:pt x="0" y="3"/>
                  </a:moveTo>
                  <a:lnTo>
                    <a:pt x="84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997680" y="5499000"/>
            <a:ext cx="1376280" cy="79560"/>
            <a:chOff x="6997680" y="5499000"/>
            <a:chExt cx="1376280" cy="79560"/>
          </a:xfrm>
        </p:grpSpPr>
        <p:sp>
          <p:nvSpPr>
            <p:cNvPr id="412" name=""/>
            <p:cNvSpPr/>
            <p:nvPr/>
          </p:nvSpPr>
          <p:spPr>
            <a:xfrm>
              <a:off x="7678800" y="5499000"/>
              <a:ext cx="81000" cy="7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7680" y="5526000"/>
              <a:ext cx="1376280" cy="5040"/>
            </a:xfrm>
            <a:custGeom>
              <a:avLst/>
              <a:gdLst/>
              <a:ahLst/>
              <a:rect l="l" t="t" r="r" b="b"/>
              <a:pathLst>
                <a:path w="867" h="3">
                  <a:moveTo>
                    <a:pt x="0" y="3"/>
                  </a:moveTo>
                  <a:lnTo>
                    <a:pt x="867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527880" y="4267080"/>
            <a:ext cx="1347840" cy="79200"/>
            <a:chOff x="6527880" y="4267080"/>
            <a:chExt cx="1347840" cy="79200"/>
          </a:xfrm>
        </p:grpSpPr>
        <p:sp>
          <p:nvSpPr>
            <p:cNvPr id="415" name=""/>
            <p:cNvSpPr/>
            <p:nvPr/>
          </p:nvSpPr>
          <p:spPr>
            <a:xfrm>
              <a:off x="7118640" y="42670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27880" y="4305240"/>
              <a:ext cx="1347840" cy="1440"/>
            </a:xfrm>
            <a:custGeom>
              <a:avLst/>
              <a:gdLst/>
              <a:ahLst/>
              <a:rect l="l" t="t" r="r" b="b"/>
              <a:pathLst>
                <a:path w="849" h="1">
                  <a:moveTo>
                    <a:pt x="0" y="0"/>
                  </a:move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dbd"/>
            </a:gs>
            <a:gs pos="50000">
              <a:srgbClr val="ffffff"/>
            </a:gs>
            <a:gs pos="100000">
              <a:srgbClr val="bdddb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49360" y="302256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1440" y="486900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1440" y="400536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23840" y="1982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50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endshow"/>
          </p:cNvPr>
          <p:cNvSpPr/>
          <p:nvPr/>
        </p:nvSpPr>
        <p:spPr>
          <a:xfrm>
            <a:off x="8077320" y="601992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2286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8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ая функция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а на интервале (-6; 7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ее график. Найдите количество точек, в которых касательная к графику функции параллельна прямой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8080" y="44280"/>
            <a:ext cx="9080280" cy="6705360"/>
            <a:chOff x="28080" y="44280"/>
            <a:chExt cx="9080280" cy="6705360"/>
          </a:xfrm>
        </p:grpSpPr>
        <p:sp>
          <p:nvSpPr>
            <p:cNvPr id="425" name=""/>
            <p:cNvSpPr/>
            <p:nvPr/>
          </p:nvSpPr>
          <p:spPr>
            <a:xfrm>
              <a:off x="498600" y="7164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8560" y="673596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068400" y="50868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080" y="50868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080" y="625824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651160" y="624420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rot="16200000">
              <a:off x="863352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5400000">
              <a:off x="37440" y="3456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6eb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900000" y="5877000"/>
            <a:ext cx="2016360" cy="576360"/>
          </a:xfrm>
          <a:custGeom>
            <a:avLst/>
            <a:gdLst>
              <a:gd name="textAreaLeft" fmla="*/ 37080 w 2016360"/>
              <a:gd name="textAreaRight" fmla="*/ 1979280 w 201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5533" h="21600">
                <a:moveTo>
                  <a:pt x="0" y="0"/>
                </a:moveTo>
                <a:lnTo>
                  <a:pt x="75533" y="0"/>
                </a:lnTo>
                <a:lnTo>
                  <a:pt x="75533" y="21600"/>
                </a:lnTo>
                <a:lnTo>
                  <a:pt x="0" y="21600"/>
                </a:lnTo>
                <a:close/>
              </a:path>
              <a:path fill="lightenLess" w="75533" h="21600">
                <a:moveTo>
                  <a:pt x="0" y="0"/>
                </a:moveTo>
                <a:lnTo>
                  <a:pt x="75533" y="0"/>
                </a:lnTo>
                <a:lnTo>
                  <a:pt x="74133" y="1400"/>
                </a:lnTo>
                <a:lnTo>
                  <a:pt x="1400" y="1400"/>
                </a:lnTo>
                <a:close/>
              </a:path>
              <a:path fill="darken" w="75533" h="21600">
                <a:moveTo>
                  <a:pt x="75533" y="0"/>
                </a:moveTo>
                <a:lnTo>
                  <a:pt x="75533" y="21600"/>
                </a:lnTo>
                <a:lnTo>
                  <a:pt x="74133" y="20200"/>
                </a:lnTo>
                <a:lnTo>
                  <a:pt x="74133" y="1400"/>
                </a:lnTo>
                <a:close/>
              </a:path>
              <a:path fill="darkenLess" w="75533" h="21600">
                <a:moveTo>
                  <a:pt x="75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33" y="20200"/>
                </a:lnTo>
                <a:close/>
              </a:path>
              <a:path fill="lighten" w="75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20120" y="31240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9520" y="5222880"/>
            <a:ext cx="390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52720" y="424332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08360" y="3063960"/>
            <a:ext cx="491508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76760" y="592308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563724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70280" y="5357880"/>
            <a:ext cx="493416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57680" y="509112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52720" y="4525920"/>
            <a:ext cx="484524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82880" y="3967200"/>
            <a:ext cx="4921560" cy="144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63800" y="3687840"/>
            <a:ext cx="494064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52720" y="4540320"/>
            <a:ext cx="489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776760" y="1828800"/>
            <a:ext cx="4929120" cy="4114800"/>
            <a:chOff x="3776760" y="1828800"/>
            <a:chExt cx="4929120" cy="4114800"/>
          </a:xfrm>
        </p:grpSpPr>
        <p:sp>
          <p:nvSpPr>
            <p:cNvPr id="447" name=""/>
            <p:cNvSpPr/>
            <p:nvPr/>
          </p:nvSpPr>
          <p:spPr>
            <a:xfrm>
              <a:off x="3776760" y="1838880"/>
              <a:ext cx="3240" cy="408024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04440" y="1859400"/>
              <a:ext cx="1440" cy="4033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93400" y="1848960"/>
              <a:ext cx="6120" cy="408024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82000" y="1848960"/>
              <a:ext cx="6480" cy="4074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7440" y="1848960"/>
              <a:ext cx="1440" cy="406476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6040" y="1843920"/>
              <a:ext cx="6480" cy="40798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42400" y="1838880"/>
              <a:ext cx="22320" cy="41043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0080" y="1859400"/>
              <a:ext cx="6480" cy="40644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45520" y="1859400"/>
              <a:ext cx="1440" cy="405432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23080" y="1828800"/>
              <a:ext cx="17640" cy="411480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18160" y="1848960"/>
              <a:ext cx="1800" cy="408024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13600" y="1854360"/>
              <a:ext cx="6120" cy="406980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96080" y="1848960"/>
              <a:ext cx="12600" cy="40701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7640" y="1848960"/>
              <a:ext cx="6120" cy="40701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92720" y="1848960"/>
              <a:ext cx="1800" cy="408024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81680" y="1848960"/>
              <a:ext cx="1440" cy="40701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908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229440" y="1851480"/>
              <a:ext cx="0" cy="408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445080" y="481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58360" y="1549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536320" y="4152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63800" y="3373560"/>
            <a:ext cx="4965840" cy="12600"/>
          </a:xfrm>
          <a:custGeom>
            <a:avLst/>
            <a:gdLst/>
            <a:ahLst/>
            <a:rect l="l" t="t" r="r" b="b"/>
            <a:pathLst>
              <a:path w="3128" h="8">
                <a:moveTo>
                  <a:pt x="0" y="8"/>
                </a:moveTo>
                <a:lnTo>
                  <a:pt x="312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2133720"/>
            <a:ext cx="287280" cy="503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3280"/>
              <a:gd name="textAreaBottom" fmla="*/ 484920 h 503280"/>
            </a:gdLst>
            <a:ahLst/>
            <a:rect l="textAreaLeft" t="textAreaTop" r="textAreaRight" b="textAreaBottom"/>
            <a:pathLst>
              <a:path w="21600" h="37820">
                <a:moveTo>
                  <a:pt x="0" y="0"/>
                </a:moveTo>
                <a:lnTo>
                  <a:pt x="21600" y="0"/>
                </a:lnTo>
                <a:lnTo>
                  <a:pt x="21600" y="37820"/>
                </a:lnTo>
                <a:lnTo>
                  <a:pt x="0" y="37820"/>
                </a:lnTo>
                <a:close/>
              </a:path>
              <a:path fill="lightenLess" w="21600" h="378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20">
                <a:moveTo>
                  <a:pt x="21600" y="0"/>
                </a:moveTo>
                <a:lnTo>
                  <a:pt x="21600" y="37820"/>
                </a:lnTo>
                <a:lnTo>
                  <a:pt x="20200" y="36420"/>
                </a:lnTo>
                <a:lnTo>
                  <a:pt x="20200" y="1400"/>
                </a:lnTo>
                <a:close/>
              </a:path>
              <a:path fill="darkenLess" w="21600" h="37820">
                <a:moveTo>
                  <a:pt x="21600" y="37820"/>
                </a:moveTo>
                <a:lnTo>
                  <a:pt x="0" y="37820"/>
                </a:lnTo>
                <a:lnTo>
                  <a:pt x="1400" y="36420"/>
                </a:lnTo>
                <a:lnTo>
                  <a:pt x="20200" y="36420"/>
                </a:lnTo>
                <a:close/>
              </a:path>
              <a:path fill="lighten" w="21600" h="37820">
                <a:moveTo>
                  <a:pt x="0" y="3782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45080" y="486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45080" y="40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2666880"/>
            <a:ext cx="1944720" cy="503280"/>
          </a:xfrm>
          <a:prstGeom prst="wedgeEllipseCallout">
            <a:avLst>
              <a:gd name="adj1" fmla="val -56611"/>
              <a:gd name="adj2" fmla="val 11687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76360" y="3860640"/>
            <a:ext cx="2160720" cy="503280"/>
          </a:xfrm>
          <a:prstGeom prst="wedgeEllipseCallout">
            <a:avLst>
              <a:gd name="adj1" fmla="val -65208"/>
              <a:gd name="adj2" fmla="val 8312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92360" y="4797360"/>
            <a:ext cx="2016000" cy="504720"/>
          </a:xfrm>
          <a:prstGeom prst="wedgeEllipseCallout">
            <a:avLst>
              <a:gd name="adj1" fmla="val -64407"/>
              <a:gd name="adj2" fmla="val 56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1676520"/>
            <a:ext cx="2016360" cy="504720"/>
          </a:xfrm>
          <a:prstGeom prst="wedgeEllipseCallout">
            <a:avLst>
              <a:gd name="adj1" fmla="val -71967"/>
              <a:gd name="adj2" fmla="val 10031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45080" y="30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3680" y="44956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27432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2438280"/>
            <a:ext cx="4914720" cy="180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733920" y="213372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33920" y="18288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92160" y="4444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746520" y="2324160"/>
            <a:ext cx="4952880" cy="459720"/>
            <a:chOff x="3746520" y="2324160"/>
            <a:chExt cx="4952880" cy="459720"/>
          </a:xfrm>
        </p:grpSpPr>
        <p:sp>
          <p:nvSpPr>
            <p:cNvPr id="483" name=""/>
            <p:cNvSpPr/>
            <p:nvPr/>
          </p:nvSpPr>
          <p:spPr>
            <a:xfrm>
              <a:off x="3746520" y="2743200"/>
              <a:ext cx="4952880" cy="14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35040" y="2324160"/>
              <a:ext cx="8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=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4335480" y="434340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69280" y="3505320"/>
            <a:ext cx="7128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19120" y="227844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09880" y="4813200"/>
            <a:ext cx="4946760" cy="648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5486400"/>
            <a:ext cx="3200400" cy="1295280"/>
          </a:xfrm>
          <a:prstGeom prst="wedgeEllipseCallout">
            <a:avLst>
              <a:gd name="adj1" fmla="val 90527"/>
              <a:gd name="adj2" fmla="val -103185"/>
            </a:avLst>
          </a:prstGeom>
          <a:gradFill rotWithShape="0">
            <a:gsLst>
              <a:gs pos="0">
                <a:srgbClr val="ff00ff">
                  <a:alpha val="71372"/>
                </a:srgbClr>
              </a:gs>
              <a:gs pos="50000">
                <a:srgbClr val="ffffff">
                  <a:alpha val="72156"/>
                </a:srgbClr>
              </a:gs>
              <a:gs pos="100000">
                <a:srgbClr val="ff00ff">
                  <a:alpha val="71372"/>
                </a:srgbClr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этой точке производная НЕ существу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68960" y="3067200"/>
            <a:ext cx="4025880" cy="2673360"/>
          </a:xfrm>
          <a:custGeom>
            <a:avLst/>
            <a:gdLst/>
            <a:ahLst/>
            <a:rect l="l" t="t" r="r" b="b"/>
            <a:pathLst>
              <a:path w="2536" h="1684">
                <a:moveTo>
                  <a:pt x="2536" y="308"/>
                </a:moveTo>
                <a:cubicBezTo>
                  <a:pt x="2515" y="383"/>
                  <a:pt x="2445" y="625"/>
                  <a:pt x="2408" y="756"/>
                </a:cubicBezTo>
                <a:cubicBezTo>
                  <a:pt x="2371" y="887"/>
                  <a:pt x="2357" y="937"/>
                  <a:pt x="2312" y="1092"/>
                </a:cubicBezTo>
                <a:cubicBezTo>
                  <a:pt x="2267" y="1247"/>
                  <a:pt x="2320" y="1084"/>
                  <a:pt x="2136" y="1684"/>
                </a:cubicBezTo>
                <a:cubicBezTo>
                  <a:pt x="1976" y="1204"/>
                  <a:pt x="2005" y="1334"/>
                  <a:pt x="1960" y="1212"/>
                </a:cubicBezTo>
                <a:cubicBezTo>
                  <a:pt x="1915" y="1090"/>
                  <a:pt x="1899" y="1022"/>
                  <a:pt x="1867" y="951"/>
                </a:cubicBezTo>
                <a:cubicBezTo>
                  <a:pt x="1835" y="880"/>
                  <a:pt x="1803" y="789"/>
                  <a:pt x="1768" y="783"/>
                </a:cubicBezTo>
                <a:cubicBezTo>
                  <a:pt x="1733" y="777"/>
                  <a:pt x="1691" y="836"/>
                  <a:pt x="1657" y="915"/>
                </a:cubicBezTo>
                <a:cubicBezTo>
                  <a:pt x="1623" y="994"/>
                  <a:pt x="1594" y="1187"/>
                  <a:pt x="1564" y="1257"/>
                </a:cubicBezTo>
                <a:cubicBezTo>
                  <a:pt x="1534" y="1327"/>
                  <a:pt x="1504" y="1334"/>
                  <a:pt x="1476" y="1333"/>
                </a:cubicBezTo>
                <a:cubicBezTo>
                  <a:pt x="1448" y="1332"/>
                  <a:pt x="1423" y="1335"/>
                  <a:pt x="1396" y="1253"/>
                </a:cubicBezTo>
                <a:cubicBezTo>
                  <a:pt x="1369" y="1171"/>
                  <a:pt x="1361" y="947"/>
                  <a:pt x="1312" y="840"/>
                </a:cubicBezTo>
                <a:cubicBezTo>
                  <a:pt x="1263" y="733"/>
                  <a:pt x="1158" y="680"/>
                  <a:pt x="1104" y="612"/>
                </a:cubicBezTo>
                <a:cubicBezTo>
                  <a:pt x="1050" y="544"/>
                  <a:pt x="1043" y="502"/>
                  <a:pt x="988" y="433"/>
                </a:cubicBezTo>
                <a:cubicBezTo>
                  <a:pt x="933" y="364"/>
                  <a:pt x="875" y="267"/>
                  <a:pt x="776" y="197"/>
                </a:cubicBezTo>
                <a:cubicBezTo>
                  <a:pt x="677" y="127"/>
                  <a:pt x="504" y="0"/>
                  <a:pt x="392" y="12"/>
                </a:cubicBezTo>
                <a:cubicBezTo>
                  <a:pt x="280" y="24"/>
                  <a:pt x="169" y="133"/>
                  <a:pt x="104" y="268"/>
                </a:cubicBezTo>
                <a:cubicBezTo>
                  <a:pt x="39" y="403"/>
                  <a:pt x="22" y="705"/>
                  <a:pt x="0" y="82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6019920" y="5143680"/>
            <a:ext cx="1342800" cy="79200"/>
            <a:chOff x="6019920" y="5143680"/>
            <a:chExt cx="1342800" cy="79200"/>
          </a:xfrm>
        </p:grpSpPr>
        <p:sp>
          <p:nvSpPr>
            <p:cNvPr id="492" name=""/>
            <p:cNvSpPr/>
            <p:nvPr/>
          </p:nvSpPr>
          <p:spPr>
            <a:xfrm>
              <a:off x="6669000" y="51436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19920" y="5191200"/>
              <a:ext cx="1342800" cy="4680"/>
            </a:xfrm>
            <a:custGeom>
              <a:avLst/>
              <a:gdLst/>
              <a:ahLst/>
              <a:rect l="l" t="t" r="r" b="b"/>
              <a:pathLst>
                <a:path w="846" h="3">
                  <a:moveTo>
                    <a:pt x="0" y="3"/>
                  </a:moveTo>
                  <a:lnTo>
                    <a:pt x="84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527880" y="4267080"/>
            <a:ext cx="1347840" cy="79200"/>
            <a:chOff x="6527880" y="4267080"/>
            <a:chExt cx="1347840" cy="79200"/>
          </a:xfrm>
        </p:grpSpPr>
        <p:sp>
          <p:nvSpPr>
            <p:cNvPr id="495" name=""/>
            <p:cNvSpPr/>
            <p:nvPr/>
          </p:nvSpPr>
          <p:spPr>
            <a:xfrm>
              <a:off x="7118640" y="426708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27880" y="4305240"/>
              <a:ext cx="1347840" cy="1440"/>
            </a:xfrm>
            <a:custGeom>
              <a:avLst/>
              <a:gdLst/>
              <a:ahLst/>
              <a:rect l="l" t="t" r="r" b="b"/>
              <a:pathLst>
                <a:path w="849" h="1">
                  <a:moveTo>
                    <a:pt x="0" y="0"/>
                  </a:moveTo>
                  <a:lnTo>
                    <a:pt x="849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533840" y="3035160"/>
            <a:ext cx="1195560" cy="79200"/>
            <a:chOff x="4533840" y="3035160"/>
            <a:chExt cx="1195560" cy="79200"/>
          </a:xfrm>
        </p:grpSpPr>
        <p:sp>
          <p:nvSpPr>
            <p:cNvPr id="498" name=""/>
            <p:cNvSpPr/>
            <p:nvPr/>
          </p:nvSpPr>
          <p:spPr>
            <a:xfrm>
              <a:off x="4533840" y="3071520"/>
              <a:ext cx="1195560" cy="1440"/>
            </a:xfrm>
            <a:custGeom>
              <a:avLst/>
              <a:gdLst/>
              <a:ahLst/>
              <a:rect l="l" t="t" r="r" b="b"/>
              <a:pathLst>
                <a:path w="753" h="1">
                  <a:moveTo>
                    <a:pt x="0" y="0"/>
                  </a:moveTo>
                  <a:lnTo>
                    <a:pt x="75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67280" y="3035160"/>
              <a:ext cx="8100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9" dur="indefinite" restart="never" nodeType="tmRoot">
          <p:childTnLst>
            <p:seq>
              <p:cTn id="46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вченко Е.М.</dc:creator>
  <dc:description/>
  <dc:language>en-US</dc:language>
  <cp:lastModifiedBy>Customer</cp:lastModifiedBy>
  <dcterms:modified xsi:type="dcterms:W3CDTF">2010-05-12T20:01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