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878-791E-415D-ADB4-F889C63D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0AB-D1BD-4E80-861C-81AD2EA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466-0CE6-4BC3-B4C1-E7BD6700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B59-5D53-4742-8B8A-4493705D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027E-D66B-44E2-86B2-3F990863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C90-83F9-41E7-8EF4-FE89D074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BF2A-4D81-44BE-8A6F-E097AF9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28FA-DC4E-4A5D-AA07-EDA488A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850-1F73-458C-BB1E-DF49033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38AE-F481-41DB-8A5D-1718FA85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4A81-F0B3-412F-83CF-47625BF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F4E-2F16-4C6B-B242-53C8E1A4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B46E-A27B-433E-ADEC-4BD0CFB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B541-AFAB-4429-A407-29953A01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0221-C44F-4AD6-94A8-5332E24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72E5-3660-4E8C-8FF7-7FA82A03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414-EFCB-4D68-89BC-E6F43577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E28F-0552-49D2-BB51-AC3553AD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7E04-8614-433C-8B08-414F1FEC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9A85-4948-473B-B9C5-2781BF64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3AC0-9C26-4EE1-9214-578AA434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9B39-1251-467D-806D-0EB19BFD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58F-C1EC-4B82-824A-F8D539BB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7186-EE83-4618-BC03-50B30594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CA1D-48BB-444D-8BA2-E2A70D9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4BAA-94A3-48FF-BC2D-DBB7830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1C55-BE8D-432B-A7B9-F6C59B6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A9E7-F090-4B66-A0DF-0292DEA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6A46-A77B-4804-B615-F15FF6A0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F61D-EF01-47FC-901E-B4664A4E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E94-1083-45CF-96F9-9F5A2F1C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AAC-4F6E-407D-8313-D611223A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57E-67C1-4D61-B2F5-6DDC9221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61E-14F1-4A4E-83AB-B8B921B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193-49E4-4A47-B802-7F90A65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791-CC02-4133-9152-9AD8FBF9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76F-7584-4128-8294-D5F39A89F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AB6-5E37-4B45-A093-D9B19D2E8B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A003-5BF0-4830-B5A2-6A839D3255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900000" y="5589720"/>
            <a:ext cx="8066160" cy="991440"/>
            <a:chOff x="900000" y="5589720"/>
            <a:chExt cx="8066160" cy="991440"/>
          </a:xfrm>
        </p:grpSpPr>
        <p:sp>
          <p:nvSpPr>
            <p:cNvPr id="136" name=""/>
            <p:cNvSpPr txBox="1"/>
            <p:nvPr/>
          </p:nvSpPr>
          <p:spPr>
            <a:xfrm>
              <a:off x="900000" y="5589720"/>
              <a:ext cx="8066160" cy="83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3366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Савченко Е.М., учитель математики,  </a:t>
              </a:r>
              <a:endParaRPr b="0" lang="en-US" sz="1800" spc="1" strike="noStrike">
                <a:ln w="3240">
                  <a:solidFill>
                    <a:srgbClr val="003366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3366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МОУ гимназия №      , г. Полярные Зори, Мурманской обл. </a:t>
              </a:r>
              <a:endParaRPr b="0" lang="en-US" sz="1800" spc="1" strike="noStrike">
                <a:ln w="3240">
                  <a:solidFill>
                    <a:srgbClr val="003366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 rot="21475800">
              <a:off x="3223440" y="5896800"/>
              <a:ext cx="600840" cy="67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 txBox="1"/>
          <p:nvPr/>
        </p:nvSpPr>
        <p:spPr>
          <a:xfrm>
            <a:off x="1403280" y="3284640"/>
            <a:ext cx="691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1c1c1c"/>
                  </a:solidFill>
                  <a:miter/>
                </a:ln>
                <a:gradFill rotWithShape="0">
                  <a:gsLst>
                    <a:gs pos="0">
                      <a:srgbClr val="003d7a"/>
                    </a:gs>
                    <a:gs pos="100000">
                      <a:srgbClr val="0984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63504" dir="3183908" blurRad="0" rotWithShape="0">
                    <a:srgbClr val="0051a2">
                      <a:alpha val="50000"/>
                    </a:srgbClr>
                  </a:outerShdw>
                </a:effectLst>
                <a:latin typeface="Times New Roman"/>
              </a:rPr>
              <a:t>Готовимся к ЕГЭ</a:t>
            </a:r>
            <a:endParaRPr b="1" lang="en-US" sz="6600" spc="1" strike="noStrike">
              <a:ln w="3240">
                <a:solidFill>
                  <a:srgbClr val="1c1c1c"/>
                </a:solidFill>
                <a:miter/>
              </a:ln>
              <a:gradFill rotWithShape="0">
                <a:gsLst>
                  <a:gs pos="0">
                    <a:srgbClr val="003d7a"/>
                  </a:gs>
                  <a:gs pos="100000">
                    <a:srgbClr val="0984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63504" dir="3183908" blurRad="0" rotWithShape="0">
                  <a:srgbClr val="0051a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322092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. Исключим точки, в которых производная равна 0 (в этих точках касательная параллельна оси О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41353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9 -8  -7 -6 -5 - 4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44337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440" y="2300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исунке изображен график функции 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ределенной на интервале (-9; 8). Определите количество целых точек, в которых производная функции  положитель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44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238520" y="281952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4707000"/>
            <a:ext cx="5588280" cy="12600"/>
          </a:xfrm>
          <a:custGeom>
            <a:avLst/>
            <a:gdLst/>
            <a:ahLst/>
            <a:rect l="l" t="t" r="r" b="b"/>
            <a:pathLst>
              <a:path w="3520" h="8">
                <a:moveTo>
                  <a:pt x="0" y="0"/>
                </a:moveTo>
                <a:lnTo>
                  <a:pt x="3520" y="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7040" y="4435560"/>
            <a:ext cx="5684760" cy="4680"/>
          </a:xfrm>
          <a:custGeom>
            <a:avLst/>
            <a:gdLst/>
            <a:ahLst/>
            <a:rect l="l" t="t" r="r" b="b"/>
            <a:pathLst>
              <a:path w="3581" h="3">
                <a:moveTo>
                  <a:pt x="0" y="3"/>
                </a:moveTo>
                <a:lnTo>
                  <a:pt x="35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8040" y="2612880"/>
            <a:ext cx="324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775720" y="2627280"/>
            <a:ext cx="1440" cy="28940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64680" y="2619360"/>
            <a:ext cx="6120" cy="292896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53280" y="2619360"/>
            <a:ext cx="6480" cy="292428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2619360"/>
            <a:ext cx="1440" cy="291780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37320" y="2616120"/>
            <a:ext cx="6480" cy="29275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13680" y="2612880"/>
            <a:ext cx="22320" cy="294480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21360" y="2627280"/>
            <a:ext cx="6480" cy="2916360"/>
          </a:xfrm>
          <a:custGeom>
            <a:avLst/>
            <a:gdLst/>
            <a:ahLst/>
            <a:rect l="l" t="t" r="r" b="b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1600" y="2627280"/>
            <a:ext cx="1440" cy="2909880"/>
          </a:xfrm>
          <a:custGeom>
            <a:avLst/>
            <a:gdLst/>
            <a:ahLst/>
            <a:rect l="l" t="t" r="r" b="b"/>
            <a:pathLst>
              <a:path w="1" h="3152">
                <a:moveTo>
                  <a:pt x="0" y="0"/>
                </a:moveTo>
                <a:lnTo>
                  <a:pt x="0" y="315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89440" y="2619360"/>
            <a:ext cx="1800" cy="292896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84880" y="2624040"/>
            <a:ext cx="6120" cy="291960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67360" y="2619360"/>
            <a:ext cx="12600" cy="292104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68920" y="2619360"/>
            <a:ext cx="6120" cy="292104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64000" y="2619360"/>
            <a:ext cx="1800" cy="292896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52960" y="2619360"/>
            <a:ext cx="1440" cy="292104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05520" y="2620440"/>
            <a:ext cx="0" cy="293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8600" y="22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06160" y="402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8120" y="2637000"/>
            <a:ext cx="5752800" cy="2936520"/>
            <a:chOff x="3048120" y="2637000"/>
            <a:chExt cx="5752800" cy="2936520"/>
          </a:xfrm>
        </p:grpSpPr>
        <p:sp>
          <p:nvSpPr>
            <p:cNvPr id="174" name=""/>
            <p:cNvSpPr/>
            <p:nvPr/>
          </p:nvSpPr>
          <p:spPr>
            <a:xfrm>
              <a:off x="3111480" y="3277440"/>
              <a:ext cx="566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13360" y="3847680"/>
              <a:ext cx="556560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2637000"/>
              <a:ext cx="563076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5571720"/>
              <a:ext cx="562392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9040" y="5278680"/>
              <a:ext cx="563832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19040" y="4991760"/>
              <a:ext cx="565272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13360" y="4137840"/>
              <a:ext cx="555084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440" y="3564000"/>
              <a:ext cx="563832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1480" y="2954160"/>
              <a:ext cx="5689440" cy="12960"/>
            </a:xfrm>
            <a:custGeom>
              <a:avLst/>
              <a:gdLst/>
              <a:ahLst/>
              <a:rect l="l" t="t" r="r" b="b"/>
              <a:pathLst>
                <a:path w="3128" h="8">
                  <a:moveTo>
                    <a:pt x="0" y="8"/>
                  </a:moveTo>
                  <a:lnTo>
                    <a:pt x="312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34240" y="2820960"/>
            <a:ext cx="37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91240" y="4524480"/>
            <a:ext cx="3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5960" y="3127320"/>
            <a:ext cx="5232240" cy="2368440"/>
          </a:xfrm>
          <a:custGeom>
            <a:avLst/>
            <a:gdLst/>
            <a:ahLst/>
            <a:rect l="l" t="t" r="r" b="b"/>
            <a:pathLst>
              <a:path w="3296" h="1492">
                <a:moveTo>
                  <a:pt x="3296" y="755"/>
                </a:moveTo>
                <a:cubicBezTo>
                  <a:pt x="3281" y="691"/>
                  <a:pt x="3259" y="460"/>
                  <a:pt x="3208" y="363"/>
                </a:cubicBezTo>
                <a:cubicBezTo>
                  <a:pt x="3157" y="266"/>
                  <a:pt x="3063" y="176"/>
                  <a:pt x="2992" y="171"/>
                </a:cubicBezTo>
                <a:cubicBezTo>
                  <a:pt x="2921" y="166"/>
                  <a:pt x="2859" y="255"/>
                  <a:pt x="2784" y="331"/>
                </a:cubicBezTo>
                <a:cubicBezTo>
                  <a:pt x="2709" y="407"/>
                  <a:pt x="2611" y="559"/>
                  <a:pt x="2544" y="627"/>
                </a:cubicBezTo>
                <a:cubicBezTo>
                  <a:pt x="2477" y="695"/>
                  <a:pt x="2439" y="728"/>
                  <a:pt x="2384" y="739"/>
                </a:cubicBezTo>
                <a:cubicBezTo>
                  <a:pt x="2329" y="750"/>
                  <a:pt x="2256" y="727"/>
                  <a:pt x="2216" y="691"/>
                </a:cubicBezTo>
                <a:cubicBezTo>
                  <a:pt x="2176" y="655"/>
                  <a:pt x="2165" y="599"/>
                  <a:pt x="2144" y="523"/>
                </a:cubicBezTo>
                <a:cubicBezTo>
                  <a:pt x="2123" y="447"/>
                  <a:pt x="2121" y="320"/>
                  <a:pt x="2088" y="235"/>
                </a:cubicBezTo>
                <a:cubicBezTo>
                  <a:pt x="2055" y="150"/>
                  <a:pt x="2005" y="22"/>
                  <a:pt x="1944" y="11"/>
                </a:cubicBezTo>
                <a:cubicBezTo>
                  <a:pt x="1883" y="0"/>
                  <a:pt x="1787" y="89"/>
                  <a:pt x="1720" y="171"/>
                </a:cubicBezTo>
                <a:cubicBezTo>
                  <a:pt x="1653" y="253"/>
                  <a:pt x="1609" y="410"/>
                  <a:pt x="1544" y="505"/>
                </a:cubicBezTo>
                <a:cubicBezTo>
                  <a:pt x="1479" y="600"/>
                  <a:pt x="1379" y="651"/>
                  <a:pt x="1331" y="739"/>
                </a:cubicBezTo>
                <a:cubicBezTo>
                  <a:pt x="1283" y="827"/>
                  <a:pt x="1287" y="932"/>
                  <a:pt x="1253" y="1033"/>
                </a:cubicBezTo>
                <a:cubicBezTo>
                  <a:pt x="1219" y="1134"/>
                  <a:pt x="1174" y="1271"/>
                  <a:pt x="1128" y="1347"/>
                </a:cubicBezTo>
                <a:cubicBezTo>
                  <a:pt x="1082" y="1423"/>
                  <a:pt x="1023" y="1492"/>
                  <a:pt x="976" y="1491"/>
                </a:cubicBezTo>
                <a:cubicBezTo>
                  <a:pt x="929" y="1490"/>
                  <a:pt x="889" y="1395"/>
                  <a:pt x="848" y="1339"/>
                </a:cubicBezTo>
                <a:cubicBezTo>
                  <a:pt x="807" y="1283"/>
                  <a:pt x="769" y="1162"/>
                  <a:pt x="728" y="1155"/>
                </a:cubicBezTo>
                <a:cubicBezTo>
                  <a:pt x="687" y="1148"/>
                  <a:pt x="655" y="1244"/>
                  <a:pt x="600" y="1299"/>
                </a:cubicBezTo>
                <a:cubicBezTo>
                  <a:pt x="545" y="1354"/>
                  <a:pt x="465" y="1490"/>
                  <a:pt x="400" y="1483"/>
                </a:cubicBezTo>
                <a:cubicBezTo>
                  <a:pt x="335" y="1476"/>
                  <a:pt x="253" y="1331"/>
                  <a:pt x="208" y="1259"/>
                </a:cubicBezTo>
                <a:cubicBezTo>
                  <a:pt x="163" y="1187"/>
                  <a:pt x="163" y="1108"/>
                  <a:pt x="128" y="1051"/>
                </a:cubicBezTo>
                <a:cubicBezTo>
                  <a:pt x="93" y="994"/>
                  <a:pt x="27" y="943"/>
                  <a:pt x="0" y="91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687760"/>
            <a:ext cx="3240" cy="292716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420040" y="4287960"/>
            <a:ext cx="76320" cy="75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8040" y="4946760"/>
            <a:ext cx="520920" cy="542880"/>
          </a:xfrm>
          <a:custGeom>
            <a:avLst/>
            <a:gdLst/>
            <a:ahLst/>
            <a:rect l="l" t="t" r="r" b="b"/>
            <a:pathLst>
              <a:path w="328" h="342">
                <a:moveTo>
                  <a:pt x="0" y="337"/>
                </a:moveTo>
                <a:cubicBezTo>
                  <a:pt x="11" y="334"/>
                  <a:pt x="34" y="342"/>
                  <a:pt x="64" y="317"/>
                </a:cubicBezTo>
                <a:cubicBezTo>
                  <a:pt x="94" y="292"/>
                  <a:pt x="147" y="228"/>
                  <a:pt x="180" y="189"/>
                </a:cubicBezTo>
                <a:cubicBezTo>
                  <a:pt x="213" y="150"/>
                  <a:pt x="239" y="110"/>
                  <a:pt x="260" y="81"/>
                </a:cubicBezTo>
                <a:cubicBezTo>
                  <a:pt x="281" y="52"/>
                  <a:pt x="297" y="26"/>
                  <a:pt x="308" y="13"/>
                </a:cubicBezTo>
                <a:cubicBezTo>
                  <a:pt x="319" y="0"/>
                  <a:pt x="324" y="4"/>
                  <a:pt x="328" y="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27840" y="3387600"/>
            <a:ext cx="1066680" cy="922320"/>
          </a:xfrm>
          <a:custGeom>
            <a:avLst/>
            <a:gdLst/>
            <a:ahLst/>
            <a:rect l="l" t="t" r="r" b="b"/>
            <a:pathLst>
              <a:path w="672" h="581">
                <a:moveTo>
                  <a:pt x="0" y="579"/>
                </a:moveTo>
                <a:cubicBezTo>
                  <a:pt x="16" y="576"/>
                  <a:pt x="59" y="581"/>
                  <a:pt x="96" y="559"/>
                </a:cubicBezTo>
                <a:cubicBezTo>
                  <a:pt x="133" y="537"/>
                  <a:pt x="176" y="499"/>
                  <a:pt x="224" y="447"/>
                </a:cubicBezTo>
                <a:cubicBezTo>
                  <a:pt x="272" y="395"/>
                  <a:pt x="331" y="310"/>
                  <a:pt x="388" y="243"/>
                </a:cubicBezTo>
                <a:cubicBezTo>
                  <a:pt x="445" y="176"/>
                  <a:pt x="525" y="86"/>
                  <a:pt x="568" y="47"/>
                </a:cubicBezTo>
                <a:cubicBezTo>
                  <a:pt x="611" y="8"/>
                  <a:pt x="627" y="14"/>
                  <a:pt x="644" y="7"/>
                </a:cubicBezTo>
                <a:cubicBezTo>
                  <a:pt x="661" y="0"/>
                  <a:pt x="666" y="7"/>
                  <a:pt x="672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4520" y="4433760"/>
            <a:ext cx="514440" cy="1800"/>
          </a:xfrm>
          <a:custGeom>
            <a:avLst/>
            <a:gdLst/>
            <a:ahLst/>
            <a:rect l="l" t="t" r="r" b="b"/>
            <a:pathLst>
              <a:path w="324" h="1">
                <a:moveTo>
                  <a:pt x="0" y="0"/>
                </a:moveTo>
                <a:lnTo>
                  <a:pt x="324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75040" y="4433760"/>
            <a:ext cx="1543320" cy="6480"/>
          </a:xfrm>
          <a:custGeom>
            <a:avLst/>
            <a:gdLst/>
            <a:ahLst/>
            <a:rect l="l" t="t" r="r" b="b"/>
            <a:pathLst>
              <a:path w="972" h="4">
                <a:moveTo>
                  <a:pt x="0" y="4"/>
                </a:moveTo>
                <a:lnTo>
                  <a:pt x="972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4440240"/>
            <a:ext cx="1066680" cy="1440"/>
          </a:xfrm>
          <a:custGeom>
            <a:avLst/>
            <a:gdLst/>
            <a:ahLst/>
            <a:rect l="l" t="t" r="r" b="b"/>
            <a:pathLst>
              <a:path w="672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16360" y="438948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37240" y="4395960"/>
            <a:ext cx="7596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35680" y="438948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438948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69160" y="438948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8020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9616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9460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05640" y="438948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1668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71720" y="4338720"/>
            <a:ext cx="152280" cy="152280"/>
            <a:chOff x="3771720" y="4338720"/>
            <a:chExt cx="152280" cy="152280"/>
          </a:xfrm>
        </p:grpSpPr>
        <p:sp>
          <p:nvSpPr>
            <p:cNvPr id="205" name=""/>
            <p:cNvSpPr/>
            <p:nvPr/>
          </p:nvSpPr>
          <p:spPr>
            <a:xfrm>
              <a:off x="3772080" y="4338720"/>
              <a:ext cx="1141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771720" y="4338720"/>
              <a:ext cx="15228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43480" y="2611440"/>
            <a:ext cx="288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25960" y="2611440"/>
            <a:ext cx="288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925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начит, функция возрастает. Найдем эти участки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3828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 Найдем все целые точки на этих отрез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378240" y="5456160"/>
            <a:ext cx="1195200" cy="79200"/>
            <a:chOff x="3378240" y="5456160"/>
            <a:chExt cx="1195200" cy="79200"/>
          </a:xfrm>
        </p:grpSpPr>
        <p:sp>
          <p:nvSpPr>
            <p:cNvPr id="212" name=""/>
            <p:cNvSpPr/>
            <p:nvPr/>
          </p:nvSpPr>
          <p:spPr>
            <a:xfrm>
              <a:off x="3378240" y="5492520"/>
              <a:ext cx="119520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11320" y="545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724280" y="4325760"/>
            <a:ext cx="152640" cy="152640"/>
            <a:chOff x="4724280" y="4325760"/>
            <a:chExt cx="152640" cy="152640"/>
          </a:xfrm>
        </p:grpSpPr>
        <p:sp>
          <p:nvSpPr>
            <p:cNvPr id="215" name=""/>
            <p:cNvSpPr/>
            <p:nvPr/>
          </p:nvSpPr>
          <p:spPr>
            <a:xfrm>
              <a:off x="4724280" y="4325760"/>
              <a:ext cx="11448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724280" y="4325760"/>
              <a:ext cx="152640" cy="12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248160" y="4351320"/>
            <a:ext cx="152280" cy="152280"/>
            <a:chOff x="6248160" y="4351320"/>
            <a:chExt cx="152280" cy="152280"/>
          </a:xfrm>
        </p:grpSpPr>
        <p:sp>
          <p:nvSpPr>
            <p:cNvPr id="218" name=""/>
            <p:cNvSpPr/>
            <p:nvPr/>
          </p:nvSpPr>
          <p:spPr>
            <a:xfrm>
              <a:off x="6248520" y="4351320"/>
              <a:ext cx="1141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48160" y="4351320"/>
              <a:ext cx="15228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451560" y="4275000"/>
            <a:ext cx="1195560" cy="79200"/>
            <a:chOff x="6451560" y="4275000"/>
            <a:chExt cx="1195560" cy="79200"/>
          </a:xfrm>
        </p:grpSpPr>
        <p:sp>
          <p:nvSpPr>
            <p:cNvPr id="221" name=""/>
            <p:cNvSpPr/>
            <p:nvPr/>
          </p:nvSpPr>
          <p:spPr>
            <a:xfrm>
              <a:off x="6451560" y="431136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85000" y="427500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870600" y="4338720"/>
            <a:ext cx="152640" cy="152280"/>
            <a:chOff x="6870600" y="4338720"/>
            <a:chExt cx="152640" cy="152280"/>
          </a:xfrm>
        </p:grpSpPr>
        <p:sp>
          <p:nvSpPr>
            <p:cNvPr id="224" name=""/>
            <p:cNvSpPr/>
            <p:nvPr/>
          </p:nvSpPr>
          <p:spPr>
            <a:xfrm>
              <a:off x="6870600" y="4338720"/>
              <a:ext cx="1144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70600" y="4338720"/>
              <a:ext cx="15264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187800" y="454176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5943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371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68920" y="3122640"/>
            <a:ext cx="1568520" cy="2371680"/>
          </a:xfrm>
          <a:custGeom>
            <a:avLst/>
            <a:gdLst/>
            <a:ahLst/>
            <a:rect l="l" t="t" r="r" b="b"/>
            <a:pathLst>
              <a:path w="988" h="1494">
                <a:moveTo>
                  <a:pt x="0" y="1494"/>
                </a:moveTo>
                <a:cubicBezTo>
                  <a:pt x="15" y="1486"/>
                  <a:pt x="61" y="1480"/>
                  <a:pt x="92" y="1446"/>
                </a:cubicBezTo>
                <a:cubicBezTo>
                  <a:pt x="123" y="1412"/>
                  <a:pt x="154" y="1351"/>
                  <a:pt x="184" y="1290"/>
                </a:cubicBezTo>
                <a:cubicBezTo>
                  <a:pt x="214" y="1229"/>
                  <a:pt x="243" y="1169"/>
                  <a:pt x="272" y="1078"/>
                </a:cubicBezTo>
                <a:cubicBezTo>
                  <a:pt x="301" y="987"/>
                  <a:pt x="309" y="837"/>
                  <a:pt x="359" y="742"/>
                </a:cubicBezTo>
                <a:cubicBezTo>
                  <a:pt x="409" y="647"/>
                  <a:pt x="508" y="606"/>
                  <a:pt x="572" y="511"/>
                </a:cubicBezTo>
                <a:cubicBezTo>
                  <a:pt x="636" y="416"/>
                  <a:pt x="686" y="256"/>
                  <a:pt x="743" y="175"/>
                </a:cubicBezTo>
                <a:cubicBezTo>
                  <a:pt x="800" y="94"/>
                  <a:pt x="875" y="52"/>
                  <a:pt x="916" y="26"/>
                </a:cubicBezTo>
                <a:cubicBezTo>
                  <a:pt x="957" y="0"/>
                  <a:pt x="973" y="20"/>
                  <a:pt x="988" y="1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305240" y="5468760"/>
            <a:ext cx="1195560" cy="79200"/>
            <a:chOff x="4305240" y="5468760"/>
            <a:chExt cx="1195560" cy="79200"/>
          </a:xfrm>
        </p:grpSpPr>
        <p:sp>
          <p:nvSpPr>
            <p:cNvPr id="231" name=""/>
            <p:cNvSpPr/>
            <p:nvPr/>
          </p:nvSpPr>
          <p:spPr>
            <a:xfrm>
              <a:off x="4305240" y="550512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38680" y="546876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54680" y="3119400"/>
            <a:ext cx="1195560" cy="79200"/>
            <a:chOff x="5854680" y="3119400"/>
            <a:chExt cx="1195560" cy="79200"/>
          </a:xfrm>
        </p:grpSpPr>
        <p:sp>
          <p:nvSpPr>
            <p:cNvPr id="234" name=""/>
            <p:cNvSpPr/>
            <p:nvPr/>
          </p:nvSpPr>
          <p:spPr>
            <a:xfrm>
              <a:off x="5854680" y="315576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88120" y="311940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46720" y="438948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28600" y="322092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. Исключим точки, в которых производная равна 0 (в этих точках касательная параллельна оси О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=0 точка перегиба, в этой точке производная равна 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41353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9 -8  -7 -6 -5 - 4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9640" y="44337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440" y="2300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исунке изображен график функции 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ределенной на интервале (-5; 5). Определите количество целых точек, в которых производная функции  отрицатель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242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308360" y="34704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13000" y="4707000"/>
            <a:ext cx="5588280" cy="12600"/>
          </a:xfrm>
          <a:custGeom>
            <a:avLst/>
            <a:gdLst/>
            <a:ahLst/>
            <a:rect l="l" t="t" r="r" b="b"/>
            <a:pathLst>
              <a:path w="3520" h="8">
                <a:moveTo>
                  <a:pt x="0" y="0"/>
                </a:moveTo>
                <a:lnTo>
                  <a:pt x="3520" y="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7040" y="4435560"/>
            <a:ext cx="5684760" cy="4680"/>
          </a:xfrm>
          <a:custGeom>
            <a:avLst/>
            <a:gdLst/>
            <a:ahLst/>
            <a:rect l="l" t="t" r="r" b="b"/>
            <a:pathLst>
              <a:path w="3581" h="3">
                <a:moveTo>
                  <a:pt x="0" y="3"/>
                </a:moveTo>
                <a:lnTo>
                  <a:pt x="35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48040" y="2612880"/>
            <a:ext cx="324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775720" y="2627280"/>
            <a:ext cx="1440" cy="28940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64680" y="2619360"/>
            <a:ext cx="6120" cy="292896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280" y="2619360"/>
            <a:ext cx="6480" cy="292428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2619360"/>
            <a:ext cx="1440" cy="291780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37320" y="2616120"/>
            <a:ext cx="6480" cy="29275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13680" y="2612880"/>
            <a:ext cx="22320" cy="294480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21360" y="2627280"/>
            <a:ext cx="6480" cy="2916360"/>
          </a:xfrm>
          <a:custGeom>
            <a:avLst/>
            <a:gdLst/>
            <a:ahLst/>
            <a:rect l="l" t="t" r="r" b="b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1600" y="2627280"/>
            <a:ext cx="1440" cy="2909880"/>
          </a:xfrm>
          <a:custGeom>
            <a:avLst/>
            <a:gdLst/>
            <a:ahLst/>
            <a:rect l="l" t="t" r="r" b="b"/>
            <a:pathLst>
              <a:path w="1" h="3152">
                <a:moveTo>
                  <a:pt x="0" y="0"/>
                </a:moveTo>
                <a:lnTo>
                  <a:pt x="0" y="315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89440" y="2619360"/>
            <a:ext cx="1800" cy="292896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84880" y="2624040"/>
            <a:ext cx="6120" cy="291960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67360" y="2619360"/>
            <a:ext cx="12600" cy="292104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68920" y="2619360"/>
            <a:ext cx="6120" cy="292104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64000" y="2619360"/>
            <a:ext cx="1800" cy="292896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52960" y="2619360"/>
            <a:ext cx="1440" cy="292104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005520" y="2620440"/>
            <a:ext cx="0" cy="293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18600" y="22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06160" y="402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048120" y="2637000"/>
            <a:ext cx="5752800" cy="2936520"/>
            <a:chOff x="3048120" y="2637000"/>
            <a:chExt cx="5752800" cy="2936520"/>
          </a:xfrm>
        </p:grpSpPr>
        <p:sp>
          <p:nvSpPr>
            <p:cNvPr id="272" name=""/>
            <p:cNvSpPr/>
            <p:nvPr/>
          </p:nvSpPr>
          <p:spPr>
            <a:xfrm>
              <a:off x="3111480" y="3277440"/>
              <a:ext cx="566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13360" y="3847680"/>
              <a:ext cx="556560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8120" y="2637000"/>
              <a:ext cx="563076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25880" y="5571720"/>
              <a:ext cx="562392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19040" y="5278680"/>
              <a:ext cx="563832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19040" y="4991760"/>
              <a:ext cx="565272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13360" y="4137840"/>
              <a:ext cx="555084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33440" y="3564000"/>
              <a:ext cx="563832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11480" y="2954160"/>
              <a:ext cx="5689440" cy="12960"/>
            </a:xfrm>
            <a:custGeom>
              <a:avLst/>
              <a:gdLst/>
              <a:ahLst/>
              <a:rect l="l" t="t" r="r" b="b"/>
              <a:pathLst>
                <a:path w="3128" h="8">
                  <a:moveTo>
                    <a:pt x="0" y="8"/>
                  </a:moveTo>
                  <a:lnTo>
                    <a:pt x="312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34240" y="2820960"/>
            <a:ext cx="37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91240" y="4524480"/>
            <a:ext cx="3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64000" y="3160800"/>
            <a:ext cx="3092400" cy="2163600"/>
          </a:xfrm>
          <a:custGeom>
            <a:avLst/>
            <a:gdLst/>
            <a:ahLst/>
            <a:rect l="l" t="t" r="r" b="b"/>
            <a:pathLst>
              <a:path w="1948" h="1363">
                <a:moveTo>
                  <a:pt x="1948" y="1005"/>
                </a:moveTo>
                <a:cubicBezTo>
                  <a:pt x="1945" y="1030"/>
                  <a:pt x="1939" y="1107"/>
                  <a:pt x="1928" y="1153"/>
                </a:cubicBezTo>
                <a:cubicBezTo>
                  <a:pt x="1917" y="1199"/>
                  <a:pt x="1899" y="1246"/>
                  <a:pt x="1880" y="1281"/>
                </a:cubicBezTo>
                <a:cubicBezTo>
                  <a:pt x="1861" y="1316"/>
                  <a:pt x="1833" y="1363"/>
                  <a:pt x="1812" y="1361"/>
                </a:cubicBezTo>
                <a:cubicBezTo>
                  <a:pt x="1791" y="1359"/>
                  <a:pt x="1780" y="1349"/>
                  <a:pt x="1752" y="1269"/>
                </a:cubicBezTo>
                <a:cubicBezTo>
                  <a:pt x="1724" y="1189"/>
                  <a:pt x="1678" y="975"/>
                  <a:pt x="1643" y="883"/>
                </a:cubicBezTo>
                <a:cubicBezTo>
                  <a:pt x="1608" y="791"/>
                  <a:pt x="1579" y="721"/>
                  <a:pt x="1544" y="715"/>
                </a:cubicBezTo>
                <a:cubicBezTo>
                  <a:pt x="1509" y="709"/>
                  <a:pt x="1467" y="768"/>
                  <a:pt x="1433" y="847"/>
                </a:cubicBezTo>
                <a:cubicBezTo>
                  <a:pt x="1399" y="926"/>
                  <a:pt x="1370" y="1119"/>
                  <a:pt x="1340" y="1189"/>
                </a:cubicBezTo>
                <a:cubicBezTo>
                  <a:pt x="1310" y="1259"/>
                  <a:pt x="1280" y="1266"/>
                  <a:pt x="1252" y="1265"/>
                </a:cubicBezTo>
                <a:cubicBezTo>
                  <a:pt x="1224" y="1264"/>
                  <a:pt x="1199" y="1267"/>
                  <a:pt x="1172" y="1185"/>
                </a:cubicBezTo>
                <a:cubicBezTo>
                  <a:pt x="1145" y="1103"/>
                  <a:pt x="1120" y="855"/>
                  <a:pt x="1088" y="772"/>
                </a:cubicBezTo>
                <a:cubicBezTo>
                  <a:pt x="1056" y="689"/>
                  <a:pt x="993" y="688"/>
                  <a:pt x="977" y="685"/>
                </a:cubicBezTo>
                <a:cubicBezTo>
                  <a:pt x="961" y="682"/>
                  <a:pt x="904" y="693"/>
                  <a:pt x="869" y="640"/>
                </a:cubicBezTo>
                <a:cubicBezTo>
                  <a:pt x="834" y="587"/>
                  <a:pt x="817" y="450"/>
                  <a:pt x="764" y="365"/>
                </a:cubicBezTo>
                <a:cubicBezTo>
                  <a:pt x="711" y="280"/>
                  <a:pt x="654" y="188"/>
                  <a:pt x="552" y="129"/>
                </a:cubicBezTo>
                <a:cubicBezTo>
                  <a:pt x="450" y="70"/>
                  <a:pt x="238" y="0"/>
                  <a:pt x="152" y="9"/>
                </a:cubicBezTo>
                <a:cubicBezTo>
                  <a:pt x="66" y="18"/>
                  <a:pt x="61" y="117"/>
                  <a:pt x="36" y="185"/>
                </a:cubicBezTo>
                <a:cubicBezTo>
                  <a:pt x="11" y="253"/>
                  <a:pt x="7" y="369"/>
                  <a:pt x="0" y="417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2687760"/>
            <a:ext cx="3240" cy="292716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12120" y="472428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15240" y="4290840"/>
            <a:ext cx="438120" cy="1040040"/>
          </a:xfrm>
          <a:custGeom>
            <a:avLst/>
            <a:gdLst/>
            <a:ahLst/>
            <a:rect l="l" t="t" r="r" b="b"/>
            <a:pathLst>
              <a:path w="276" h="655">
                <a:moveTo>
                  <a:pt x="0" y="0"/>
                </a:moveTo>
                <a:cubicBezTo>
                  <a:pt x="6" y="6"/>
                  <a:pt x="22" y="10"/>
                  <a:pt x="39" y="39"/>
                </a:cubicBezTo>
                <a:cubicBezTo>
                  <a:pt x="56" y="68"/>
                  <a:pt x="79" y="119"/>
                  <a:pt x="99" y="174"/>
                </a:cubicBezTo>
                <a:cubicBezTo>
                  <a:pt x="119" y="229"/>
                  <a:pt x="137" y="299"/>
                  <a:pt x="159" y="372"/>
                </a:cubicBezTo>
                <a:cubicBezTo>
                  <a:pt x="181" y="445"/>
                  <a:pt x="210" y="563"/>
                  <a:pt x="230" y="609"/>
                </a:cubicBezTo>
                <a:cubicBezTo>
                  <a:pt x="250" y="655"/>
                  <a:pt x="267" y="642"/>
                  <a:pt x="276" y="65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75040" y="4438800"/>
            <a:ext cx="1676520" cy="1440"/>
          </a:xfrm>
          <a:custGeom>
            <a:avLst/>
            <a:gdLst/>
            <a:ahLst/>
            <a:rect l="l" t="t" r="r" b="b"/>
            <a:pathLst>
              <a:path w="1056" h="1">
                <a:moveTo>
                  <a:pt x="0" y="0"/>
                </a:moveTo>
                <a:lnTo>
                  <a:pt x="1056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4425840"/>
            <a:ext cx="457200" cy="6480"/>
          </a:xfrm>
          <a:custGeom>
            <a:avLst/>
            <a:gdLst/>
            <a:ahLst/>
            <a:rect l="l" t="t" r="r" b="b"/>
            <a:pathLst>
              <a:path w="288" h="4">
                <a:moveTo>
                  <a:pt x="0" y="0"/>
                </a:moveTo>
                <a:lnTo>
                  <a:pt x="288" y="4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43360" y="439416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69160" y="440208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46720" y="440064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80200" y="440676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9616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9460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711320" y="4343400"/>
            <a:ext cx="152280" cy="152280"/>
            <a:chOff x="4711320" y="4343400"/>
            <a:chExt cx="152280" cy="152280"/>
          </a:xfrm>
        </p:grpSpPr>
        <p:sp>
          <p:nvSpPr>
            <p:cNvPr id="296" name=""/>
            <p:cNvSpPr/>
            <p:nvPr/>
          </p:nvSpPr>
          <p:spPr>
            <a:xfrm>
              <a:off x="4711680" y="4343400"/>
              <a:ext cx="1141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1320" y="4343400"/>
              <a:ext cx="15228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543480" y="2611440"/>
            <a:ext cx="288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25960" y="2611440"/>
            <a:ext cx="288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1925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начит, функция убывает. Найдем эти участки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23828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 Найдем все целые точки на этих отрез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956200" y="4356000"/>
            <a:ext cx="152640" cy="152640"/>
            <a:chOff x="5956200" y="4356000"/>
            <a:chExt cx="152640" cy="152640"/>
          </a:xfrm>
        </p:grpSpPr>
        <p:sp>
          <p:nvSpPr>
            <p:cNvPr id="303" name=""/>
            <p:cNvSpPr/>
            <p:nvPr/>
          </p:nvSpPr>
          <p:spPr>
            <a:xfrm>
              <a:off x="5956200" y="4356000"/>
              <a:ext cx="11448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956200" y="4356000"/>
              <a:ext cx="152640" cy="12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70600" y="4338720"/>
            <a:ext cx="152640" cy="152280"/>
            <a:chOff x="6870600" y="4338720"/>
            <a:chExt cx="152640" cy="152280"/>
          </a:xfrm>
        </p:grpSpPr>
        <p:sp>
          <p:nvSpPr>
            <p:cNvPr id="306" name=""/>
            <p:cNvSpPr/>
            <p:nvPr/>
          </p:nvSpPr>
          <p:spPr>
            <a:xfrm>
              <a:off x="6870600" y="4338720"/>
              <a:ext cx="1144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70600" y="4338720"/>
              <a:ext cx="15264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425840" y="3803760"/>
            <a:ext cx="76320" cy="75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5943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1371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48320" y="4257720"/>
            <a:ext cx="1195560" cy="79200"/>
            <a:chOff x="6448320" y="4257720"/>
            <a:chExt cx="1195560" cy="79200"/>
          </a:xfrm>
        </p:grpSpPr>
        <p:sp>
          <p:nvSpPr>
            <p:cNvPr id="312" name=""/>
            <p:cNvSpPr/>
            <p:nvPr/>
          </p:nvSpPr>
          <p:spPr>
            <a:xfrm>
              <a:off x="6448320" y="429408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81760" y="425772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651640" y="439416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62440" y="3174840"/>
            <a:ext cx="1692360" cy="2006640"/>
          </a:xfrm>
          <a:custGeom>
            <a:avLst/>
            <a:gdLst/>
            <a:ahLst/>
            <a:rect l="l" t="t" r="r" b="b"/>
            <a:pathLst>
              <a:path w="1066" h="1264">
                <a:moveTo>
                  <a:pt x="0" y="0"/>
                </a:moveTo>
                <a:cubicBezTo>
                  <a:pt x="12" y="3"/>
                  <a:pt x="36" y="1"/>
                  <a:pt x="87" y="16"/>
                </a:cubicBezTo>
                <a:cubicBezTo>
                  <a:pt x="138" y="31"/>
                  <a:pt x="248" y="63"/>
                  <a:pt x="305" y="88"/>
                </a:cubicBezTo>
                <a:cubicBezTo>
                  <a:pt x="362" y="113"/>
                  <a:pt x="384" y="122"/>
                  <a:pt x="429" y="166"/>
                </a:cubicBezTo>
                <a:cubicBezTo>
                  <a:pt x="474" y="210"/>
                  <a:pt x="533" y="275"/>
                  <a:pt x="575" y="351"/>
                </a:cubicBezTo>
                <a:cubicBezTo>
                  <a:pt x="617" y="427"/>
                  <a:pt x="644" y="570"/>
                  <a:pt x="680" y="624"/>
                </a:cubicBezTo>
                <a:cubicBezTo>
                  <a:pt x="716" y="678"/>
                  <a:pt x="773" y="670"/>
                  <a:pt x="792" y="676"/>
                </a:cubicBezTo>
                <a:cubicBezTo>
                  <a:pt x="811" y="682"/>
                  <a:pt x="871" y="689"/>
                  <a:pt x="899" y="762"/>
                </a:cubicBezTo>
                <a:cubicBezTo>
                  <a:pt x="927" y="835"/>
                  <a:pt x="944" y="1039"/>
                  <a:pt x="963" y="1117"/>
                </a:cubicBezTo>
                <a:cubicBezTo>
                  <a:pt x="982" y="1195"/>
                  <a:pt x="998" y="1209"/>
                  <a:pt x="1014" y="1233"/>
                </a:cubicBezTo>
                <a:cubicBezTo>
                  <a:pt x="1030" y="1257"/>
                  <a:pt x="1052" y="1253"/>
                  <a:pt x="1059" y="1258"/>
                </a:cubicBezTo>
                <a:cubicBezTo>
                  <a:pt x="1066" y="1263"/>
                  <a:pt x="1059" y="1263"/>
                  <a:pt x="1059" y="126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35680" y="4400640"/>
            <a:ext cx="7596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305240" y="3124080"/>
            <a:ext cx="1195560" cy="79200"/>
            <a:chOff x="4305240" y="3124080"/>
            <a:chExt cx="1195560" cy="79200"/>
          </a:xfrm>
        </p:grpSpPr>
        <p:sp>
          <p:nvSpPr>
            <p:cNvPr id="318" name=""/>
            <p:cNvSpPr/>
            <p:nvPr/>
          </p:nvSpPr>
          <p:spPr>
            <a:xfrm>
              <a:off x="4305240" y="316044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38680" y="312408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37160" y="4203720"/>
            <a:ext cx="1195560" cy="79200"/>
            <a:chOff x="5537160" y="4203720"/>
            <a:chExt cx="1195560" cy="79200"/>
          </a:xfrm>
        </p:grpSpPr>
        <p:sp>
          <p:nvSpPr>
            <p:cNvPr id="321" name=""/>
            <p:cNvSpPr/>
            <p:nvPr/>
          </p:nvSpPr>
          <p:spPr>
            <a:xfrm>
              <a:off x="5537160" y="424008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0600" y="420372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322092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. Исключим точки, в которых производная равна 0 (в этих точках касательная параллельна оси О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очке х=1   производная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41353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9 -8  -7 -6 -5 - 4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9640" y="44337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1440" y="2300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исунке изображен график функции 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ределенной на интервале (-6; 8). Определите количество целых точек, в которых производная функции  отрицатель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328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308360" y="34704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13000" y="4707000"/>
            <a:ext cx="5588280" cy="12600"/>
          </a:xfrm>
          <a:custGeom>
            <a:avLst/>
            <a:gdLst/>
            <a:ahLst/>
            <a:rect l="l" t="t" r="r" b="b"/>
            <a:pathLst>
              <a:path w="3520" h="8">
                <a:moveTo>
                  <a:pt x="0" y="0"/>
                </a:moveTo>
                <a:lnTo>
                  <a:pt x="3520" y="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7040" y="4435560"/>
            <a:ext cx="5684760" cy="4680"/>
          </a:xfrm>
          <a:custGeom>
            <a:avLst/>
            <a:gdLst/>
            <a:ahLst/>
            <a:rect l="l" t="t" r="r" b="b"/>
            <a:pathLst>
              <a:path w="3581" h="3">
                <a:moveTo>
                  <a:pt x="0" y="3"/>
                </a:moveTo>
                <a:lnTo>
                  <a:pt x="35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48040" y="2612880"/>
            <a:ext cx="324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775720" y="2627280"/>
            <a:ext cx="1440" cy="28940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64680" y="2619360"/>
            <a:ext cx="6120" cy="292896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53280" y="2619360"/>
            <a:ext cx="6480" cy="292428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2619360"/>
            <a:ext cx="1440" cy="291780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37320" y="2616120"/>
            <a:ext cx="6480" cy="29275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13680" y="2612880"/>
            <a:ext cx="22320" cy="294480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21360" y="2627280"/>
            <a:ext cx="6480" cy="2916360"/>
          </a:xfrm>
          <a:custGeom>
            <a:avLst/>
            <a:gdLst/>
            <a:ahLst/>
            <a:rect l="l" t="t" r="r" b="b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21600" y="2627280"/>
            <a:ext cx="1440" cy="2909880"/>
          </a:xfrm>
          <a:custGeom>
            <a:avLst/>
            <a:gdLst/>
            <a:ahLst/>
            <a:rect l="l" t="t" r="r" b="b"/>
            <a:pathLst>
              <a:path w="1" h="3152">
                <a:moveTo>
                  <a:pt x="0" y="0"/>
                </a:moveTo>
                <a:lnTo>
                  <a:pt x="0" y="315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89440" y="2619360"/>
            <a:ext cx="1800" cy="292896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84880" y="2624040"/>
            <a:ext cx="6120" cy="291960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67360" y="2619360"/>
            <a:ext cx="12600" cy="292104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68920" y="2619360"/>
            <a:ext cx="6120" cy="292104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4000" y="2619360"/>
            <a:ext cx="1800" cy="292896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52960" y="2619360"/>
            <a:ext cx="1440" cy="292104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005520" y="2620440"/>
            <a:ext cx="0" cy="293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18600" y="22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606160" y="402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048120" y="2637000"/>
            <a:ext cx="5752800" cy="2936520"/>
            <a:chOff x="3048120" y="2637000"/>
            <a:chExt cx="5752800" cy="2936520"/>
          </a:xfrm>
        </p:grpSpPr>
        <p:sp>
          <p:nvSpPr>
            <p:cNvPr id="358" name=""/>
            <p:cNvSpPr/>
            <p:nvPr/>
          </p:nvSpPr>
          <p:spPr>
            <a:xfrm>
              <a:off x="3111480" y="3277440"/>
              <a:ext cx="566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13360" y="3847680"/>
              <a:ext cx="556560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2637000"/>
              <a:ext cx="563076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5880" y="5571720"/>
              <a:ext cx="562392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19040" y="5278680"/>
              <a:ext cx="563832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19040" y="4991760"/>
              <a:ext cx="565272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13360" y="4137840"/>
              <a:ext cx="555084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33440" y="3564000"/>
              <a:ext cx="563832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11480" y="2954160"/>
              <a:ext cx="5689440" cy="12960"/>
            </a:xfrm>
            <a:custGeom>
              <a:avLst/>
              <a:gdLst/>
              <a:ahLst/>
              <a:rect l="l" t="t" r="r" b="b"/>
              <a:pathLst>
                <a:path w="3128" h="8">
                  <a:moveTo>
                    <a:pt x="0" y="8"/>
                  </a:moveTo>
                  <a:lnTo>
                    <a:pt x="312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934240" y="2820960"/>
            <a:ext cx="37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91240" y="4524480"/>
            <a:ext cx="3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46480" y="2990880"/>
            <a:ext cx="4324320" cy="2521080"/>
          </a:xfrm>
          <a:custGeom>
            <a:avLst/>
            <a:gdLst/>
            <a:ahLst/>
            <a:rect l="l" t="t" r="r" b="b"/>
            <a:pathLst>
              <a:path w="2724" h="1588">
                <a:moveTo>
                  <a:pt x="2724" y="656"/>
                </a:moveTo>
                <a:cubicBezTo>
                  <a:pt x="2714" y="719"/>
                  <a:pt x="2685" y="919"/>
                  <a:pt x="2664" y="1036"/>
                </a:cubicBezTo>
                <a:cubicBezTo>
                  <a:pt x="2643" y="1153"/>
                  <a:pt x="2639" y="1271"/>
                  <a:pt x="2600" y="1360"/>
                </a:cubicBezTo>
                <a:cubicBezTo>
                  <a:pt x="2561" y="1449"/>
                  <a:pt x="2540" y="1569"/>
                  <a:pt x="2432" y="1572"/>
                </a:cubicBezTo>
                <a:cubicBezTo>
                  <a:pt x="2324" y="1575"/>
                  <a:pt x="2050" y="1473"/>
                  <a:pt x="1952" y="1376"/>
                </a:cubicBezTo>
                <a:cubicBezTo>
                  <a:pt x="1854" y="1279"/>
                  <a:pt x="1878" y="1082"/>
                  <a:pt x="1843" y="990"/>
                </a:cubicBezTo>
                <a:cubicBezTo>
                  <a:pt x="1808" y="898"/>
                  <a:pt x="1781" y="832"/>
                  <a:pt x="1744" y="822"/>
                </a:cubicBezTo>
                <a:cubicBezTo>
                  <a:pt x="1707" y="812"/>
                  <a:pt x="1660" y="861"/>
                  <a:pt x="1620" y="928"/>
                </a:cubicBezTo>
                <a:cubicBezTo>
                  <a:pt x="1580" y="995"/>
                  <a:pt x="1546" y="1114"/>
                  <a:pt x="1504" y="1224"/>
                </a:cubicBezTo>
                <a:cubicBezTo>
                  <a:pt x="1462" y="1334"/>
                  <a:pt x="1504" y="1228"/>
                  <a:pt x="1368" y="1588"/>
                </a:cubicBezTo>
                <a:cubicBezTo>
                  <a:pt x="1288" y="1256"/>
                  <a:pt x="1288" y="1213"/>
                  <a:pt x="1256" y="1080"/>
                </a:cubicBezTo>
                <a:cubicBezTo>
                  <a:pt x="1224" y="947"/>
                  <a:pt x="1223" y="885"/>
                  <a:pt x="1177" y="792"/>
                </a:cubicBezTo>
                <a:cubicBezTo>
                  <a:pt x="1128" y="691"/>
                  <a:pt x="1054" y="595"/>
                  <a:pt x="980" y="524"/>
                </a:cubicBezTo>
                <a:cubicBezTo>
                  <a:pt x="906" y="453"/>
                  <a:pt x="818" y="443"/>
                  <a:pt x="732" y="368"/>
                </a:cubicBezTo>
                <a:cubicBezTo>
                  <a:pt x="646" y="293"/>
                  <a:pt x="533" y="137"/>
                  <a:pt x="460" y="76"/>
                </a:cubicBezTo>
                <a:cubicBezTo>
                  <a:pt x="387" y="15"/>
                  <a:pt x="337" y="0"/>
                  <a:pt x="296" y="4"/>
                </a:cubicBezTo>
                <a:cubicBezTo>
                  <a:pt x="255" y="8"/>
                  <a:pt x="251" y="11"/>
                  <a:pt x="212" y="100"/>
                </a:cubicBezTo>
                <a:cubicBezTo>
                  <a:pt x="173" y="189"/>
                  <a:pt x="99" y="450"/>
                  <a:pt x="64" y="536"/>
                </a:cubicBezTo>
                <a:cubicBezTo>
                  <a:pt x="29" y="622"/>
                  <a:pt x="13" y="599"/>
                  <a:pt x="0" y="6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2687760"/>
            <a:ext cx="3240" cy="292716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439120" y="3968640"/>
            <a:ext cx="7632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15240" y="4290840"/>
            <a:ext cx="1117440" cy="1202040"/>
          </a:xfrm>
          <a:custGeom>
            <a:avLst/>
            <a:gdLst/>
            <a:ahLst/>
            <a:rect l="l" t="t" r="r" b="b"/>
            <a:pathLst>
              <a:path w="704" h="757">
                <a:moveTo>
                  <a:pt x="0" y="0"/>
                </a:moveTo>
                <a:cubicBezTo>
                  <a:pt x="6" y="6"/>
                  <a:pt x="22" y="10"/>
                  <a:pt x="39" y="39"/>
                </a:cubicBezTo>
                <a:cubicBezTo>
                  <a:pt x="56" y="68"/>
                  <a:pt x="80" y="102"/>
                  <a:pt x="99" y="174"/>
                </a:cubicBezTo>
                <a:cubicBezTo>
                  <a:pt x="118" y="246"/>
                  <a:pt x="123" y="401"/>
                  <a:pt x="152" y="473"/>
                </a:cubicBezTo>
                <a:cubicBezTo>
                  <a:pt x="181" y="545"/>
                  <a:pt x="214" y="567"/>
                  <a:pt x="276" y="609"/>
                </a:cubicBezTo>
                <a:cubicBezTo>
                  <a:pt x="338" y="651"/>
                  <a:pt x="453" y="700"/>
                  <a:pt x="524" y="725"/>
                </a:cubicBezTo>
                <a:cubicBezTo>
                  <a:pt x="595" y="750"/>
                  <a:pt x="667" y="750"/>
                  <a:pt x="704" y="7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22760" y="4438800"/>
            <a:ext cx="1701720" cy="6120"/>
          </a:xfrm>
          <a:custGeom>
            <a:avLst/>
            <a:gdLst/>
            <a:ahLst/>
            <a:rect l="l" t="t" r="r" b="b"/>
            <a:pathLst>
              <a:path w="1072" h="4">
                <a:moveTo>
                  <a:pt x="0" y="0"/>
                </a:moveTo>
                <a:lnTo>
                  <a:pt x="1072" y="4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34320" y="4425840"/>
            <a:ext cx="1079280" cy="6480"/>
          </a:xfrm>
          <a:custGeom>
            <a:avLst/>
            <a:gdLst/>
            <a:ahLst/>
            <a:rect l="l" t="t" r="r" b="b"/>
            <a:pathLst>
              <a:path w="680" h="4">
                <a:moveTo>
                  <a:pt x="0" y="0"/>
                </a:moveTo>
                <a:lnTo>
                  <a:pt x="680" y="4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43360" y="439416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86680" y="440676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46720" y="440064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56200" y="440676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96160" y="439596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88120" y="4394160"/>
            <a:ext cx="7632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43480" y="2611440"/>
            <a:ext cx="288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5960" y="2611440"/>
            <a:ext cx="2880" cy="292752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1925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начит, функция убывает. Найдем эти участки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23828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 Найдем все целые точки на этих отрез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267240" y="4368960"/>
            <a:ext cx="152280" cy="152280"/>
            <a:chOff x="6267240" y="4368960"/>
            <a:chExt cx="152280" cy="152280"/>
          </a:xfrm>
        </p:grpSpPr>
        <p:sp>
          <p:nvSpPr>
            <p:cNvPr id="386" name=""/>
            <p:cNvSpPr/>
            <p:nvPr/>
          </p:nvSpPr>
          <p:spPr>
            <a:xfrm>
              <a:off x="6267600" y="4368960"/>
              <a:ext cx="1141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267240" y="4368960"/>
              <a:ext cx="15228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870600" y="4338720"/>
            <a:ext cx="152640" cy="152280"/>
            <a:chOff x="6870600" y="4338720"/>
            <a:chExt cx="152640" cy="152280"/>
          </a:xfrm>
        </p:grpSpPr>
        <p:sp>
          <p:nvSpPr>
            <p:cNvPr id="389" name=""/>
            <p:cNvSpPr/>
            <p:nvPr/>
          </p:nvSpPr>
          <p:spPr>
            <a:xfrm>
              <a:off x="6870600" y="4338720"/>
              <a:ext cx="1144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870600" y="4338720"/>
              <a:ext cx="15264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108320" y="3962520"/>
            <a:ext cx="76320" cy="75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943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1371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448320" y="4257720"/>
            <a:ext cx="1195560" cy="79200"/>
            <a:chOff x="6448320" y="4257720"/>
            <a:chExt cx="1195560" cy="79200"/>
          </a:xfrm>
        </p:grpSpPr>
        <p:sp>
          <p:nvSpPr>
            <p:cNvPr id="395" name=""/>
            <p:cNvSpPr/>
            <p:nvPr/>
          </p:nvSpPr>
          <p:spPr>
            <a:xfrm>
              <a:off x="6448320" y="429408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81760" y="425772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651640" y="4394160"/>
            <a:ext cx="75960" cy="7632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35360" y="2997360"/>
            <a:ext cx="1683000" cy="2495520"/>
          </a:xfrm>
          <a:custGeom>
            <a:avLst/>
            <a:gdLst/>
            <a:ahLst/>
            <a:rect l="l" t="t" r="r" b="b"/>
            <a:pathLst>
              <a:path w="1060" h="1572">
                <a:moveTo>
                  <a:pt x="0" y="0"/>
                </a:moveTo>
                <a:cubicBezTo>
                  <a:pt x="16" y="5"/>
                  <a:pt x="59" y="8"/>
                  <a:pt x="96" y="32"/>
                </a:cubicBezTo>
                <a:cubicBezTo>
                  <a:pt x="133" y="56"/>
                  <a:pt x="163" y="87"/>
                  <a:pt x="220" y="144"/>
                </a:cubicBezTo>
                <a:cubicBezTo>
                  <a:pt x="277" y="201"/>
                  <a:pt x="365" y="314"/>
                  <a:pt x="440" y="376"/>
                </a:cubicBezTo>
                <a:cubicBezTo>
                  <a:pt x="515" y="438"/>
                  <a:pt x="596" y="447"/>
                  <a:pt x="668" y="516"/>
                </a:cubicBezTo>
                <a:cubicBezTo>
                  <a:pt x="740" y="585"/>
                  <a:pt x="826" y="698"/>
                  <a:pt x="872" y="788"/>
                </a:cubicBezTo>
                <a:cubicBezTo>
                  <a:pt x="937" y="908"/>
                  <a:pt x="908" y="956"/>
                  <a:pt x="944" y="1056"/>
                </a:cubicBezTo>
                <a:cubicBezTo>
                  <a:pt x="966" y="1148"/>
                  <a:pt x="985" y="1254"/>
                  <a:pt x="1004" y="1340"/>
                </a:cubicBezTo>
                <a:cubicBezTo>
                  <a:pt x="1023" y="1426"/>
                  <a:pt x="1048" y="1524"/>
                  <a:pt x="1060" y="15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35680" y="4400640"/>
            <a:ext cx="7596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93040" y="440064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810560" y="4400640"/>
            <a:ext cx="76320" cy="75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Customer</cp:lastModifiedBy>
  <dcterms:modified xsi:type="dcterms:W3CDTF">2010-05-12T19:49:2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